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551-9E04-423A-AC8E-075E714E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BA4-4A4C-44E3-9DB7-A9420258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D7D-E591-4B8E-A27C-475656C0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9FD-BEF2-4613-9972-6934A45A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EC8-390B-4901-BB1D-BF8A232B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BDD-7D7B-4FE5-BF2A-C58EBD4B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4A8-6D0F-4183-B2E4-EA5CA1B2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943-91A1-4D7E-BBE3-F11FD48C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812-3C8D-4B07-975D-F00ACA4C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71C-7BCB-450E-BA29-45F9D0BA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B66-F317-4675-AEFC-E48B4D27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54C-7B2C-4497-9D4C-1189AA97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FA6B-9494-42F8-B6CB-E7A685673A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ase.kz/" TargetMode="External"/><Relationship Id="rId2" Type="http://schemas.openxmlformats.org/officeDocument/2006/relationships/hyperlink" Target="mailto:kase@kase.kz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ase.kz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981000"/>
            <a:ext cx="838188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МОДЕРНИЗАЦИЯ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ЛИСТИНГОВЫХ ТРЕБОВАНИЙ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КАЗАХСТАНСКОЙ ФОНДОВОЙ </a:t>
            </a:r>
            <a:br>
              <a:rPr sz="3200"/>
            </a:b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БИРЖИ (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KASE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4005360"/>
            <a:ext cx="712944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ЕЖЕГОДНАЯ КОНФЕРЕНЦИЯ КАЗАХСТАНСКОЙ ФОНДОВОЙ БИРЖИ ПО ФИНАНСОВОМУ РЫНК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Иссык-Куль – Аврор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18–19 сентября 2007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06668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ТРАТЕГИЯ РАЗВИТИЯ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7524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РЫНОК БУДЕТ РАЗДЕЛЕН НА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819520"/>
            <a:ext cx="8534160" cy="459720"/>
          </a:xfrm>
          <a:prstGeom prst="rect">
            <a:avLst/>
          </a:prstGeom>
          <a:solidFill>
            <a:srgbClr val="33cc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657600"/>
            <a:ext cx="8534160" cy="459720"/>
          </a:xfrm>
          <a:prstGeom prst="rect">
            <a:avLst/>
          </a:prstGeom>
          <a:solidFill>
            <a:srgbClr val="33cc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495680"/>
            <a:ext cx="8534160" cy="459720"/>
          </a:xfrm>
          <a:prstGeom prst="rect">
            <a:avLst/>
          </a:prstGeom>
          <a:solidFill>
            <a:srgbClr val="33cc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ПАЕВ ПАЕВЫХ ИНВЕСТИЦИОННЫХ ФОН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06668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ТРАТЕГИЯ РАЗВИТИЯ …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2209680"/>
            <a:ext cx="9448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сектор "голубых фишек" ("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Blue_Chips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сектор акций субъектов среднего предпринимательства ("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Mid_Cap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сектор "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start-up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", предназначенный для акций "молодых", "растущих" комп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600200"/>
            <a:ext cx="8534520" cy="459720"/>
          </a:xfrm>
          <a:prstGeom prst="rect">
            <a:avLst/>
          </a:prstGeom>
          <a:solidFill>
            <a:srgbClr val="33cccc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83808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ТРАТЕГИЯ РАЗВИТИЯ …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295280"/>
            <a:ext cx="83822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438280"/>
            <a:ext cx="9448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Рынок облигаций не будет подразделяться по категориям листинговых требований, поскольку основным качественным ориентиром для покупателей и держателей облигаций должны стать их рейтинговые оцен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523880"/>
            <a:ext cx="8534520" cy="459720"/>
          </a:xfrm>
          <a:prstGeom prst="rect">
            <a:avLst/>
          </a:prstGeom>
          <a:solidFill>
            <a:srgbClr val="33cc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ТРАТЕГИЯ РАЗВИТИЯ …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5238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06668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2286000"/>
            <a:ext cx="899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Система листинговых требований к паям паевых инвестиционных фондов будет развиваться по мере активизации организованного рынка этого нового для Казахстана инструмен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447920"/>
            <a:ext cx="8534520" cy="459720"/>
          </a:xfrm>
          <a:prstGeom prst="rect">
            <a:avLst/>
          </a:prstGeom>
          <a:solidFill>
            <a:srgbClr val="33cccc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ЫНОК ПАЕВ ПАЕВЫХ ИНВЕСТИЦИОННЫХ ФОН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 Narrow"/>
              </a:rPr>
              <a:t>СВЯЗЬ С НАМИ</a:t>
            </a:r>
            <a:r>
              <a:rPr b="1" lang="en-US" sz="3200" spc="-1" strike="noStrike">
                <a:solidFill>
                  <a:srgbClr val="ccecff"/>
                </a:solidFill>
                <a:latin typeface="Arial Narrow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111320"/>
            <a:ext cx="8915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Интернет адрес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Narrow"/>
                <a:ea typeface="Arial"/>
                <a:hlinkClick r:id="rId1"/>
              </a:rPr>
              <a:t>www.kase.k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e-mail: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 Narrow"/>
                <a:ea typeface="Arial"/>
                <a:hlinkClick r:id="rId2"/>
              </a:rPr>
              <a:t>kase@kase.k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телефон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: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(+7 327)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  <a:ea typeface="Arial"/>
              </a:rPr>
              <a:t>237 53 00, 272 98 98, 237 53 11, 272 06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факс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: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   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(+7 327)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  <a:ea typeface="Arial"/>
              </a:rPr>
              <a:t>296 64 02, 272 09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 Narrow"/>
                <a:ea typeface="Arial"/>
              </a:rPr>
              <a:t>адрес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: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Казахстан,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  <a:ea typeface="Arial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</a:rPr>
              <a:t>г. Алматы, пр. Достык, </a:t>
            </a:r>
            <a:r>
              <a:rPr b="0" lang="ru-RU" sz="2400" spc="-1" strike="noStrike">
                <a:solidFill>
                  <a:srgbClr val="ffffcc"/>
                </a:solidFill>
                <a:latin typeface="Arial Narrow"/>
                <a:ea typeface="Arial"/>
              </a:rPr>
              <a:t>29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37702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СПЕКТР ИНСТРУМЕНТОВ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990720"/>
          <a:ext cx="85978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97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СПЕКТР ИНСТРУМЕНТОВ … (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2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172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 Narrow"/>
              </a:rPr>
              <a:t>На рынок репо приходится</a:t>
            </a:r>
            <a:r>
              <a:rPr b="0" lang="en-US" sz="2000" spc="-1" strike="noStrike">
                <a:solidFill>
                  <a:srgbClr val="00ff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Arial Narrow"/>
              </a:rPr>
              <a:t>65,1</a:t>
            </a: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%</a:t>
            </a:r>
            <a:r>
              <a:rPr b="0" lang="en-US" sz="2000" spc="-1" strike="noStrike">
                <a:solidFill>
                  <a:srgbClr val="00ff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ff00"/>
                </a:solidFill>
                <a:latin typeface="Arial Narrow"/>
              </a:rPr>
              <a:t>общего оборота </a:t>
            </a:r>
            <a:r>
              <a:rPr b="0" lang="en-US" sz="2000" spc="-1" strike="noStrike">
                <a:solidFill>
                  <a:srgbClr val="00ff00"/>
                </a:solidFill>
                <a:latin typeface="Arial Narrow"/>
              </a:rPr>
              <a:t>K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09480" y="990720"/>
          <a:ext cx="77724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77724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767560" y="133200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Валюта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59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215,4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39200" y="3789360"/>
            <a:ext cx="132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Н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7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629,2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436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Г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6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392,7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56360" y="4941720"/>
            <a:ext cx="168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Прямое репо с Н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10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070,6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5589720"/>
            <a:ext cx="1524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Авторепо с НЦБ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,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17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237,5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4360" y="4495680"/>
            <a:ext cx="148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Авторепо с Г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108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253,8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47840" y="5734080"/>
            <a:ext cx="179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Прямое репо с ГЦБ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 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1 057,4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 (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0,5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67120" y="3263760"/>
            <a:ext cx="130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05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092,1</a:t>
            </a:r>
            <a:br>
              <a:rPr sz="2400"/>
            </a:br>
            <a:r>
              <a:rPr b="0" lang="ru-RU" sz="1600" spc="-1" strike="noStrike">
                <a:solidFill>
                  <a:srgbClr val="ffff99"/>
                </a:solidFill>
                <a:latin typeface="Arial Narrow"/>
              </a:rPr>
              <a:t>млн </a:t>
            </a:r>
            <a:r>
              <a:rPr b="0" lang="en-US" sz="1600" spc="-1" strike="noStrike">
                <a:solidFill>
                  <a:srgbClr val="ffff99"/>
                </a:solidFill>
                <a:latin typeface="Arial Narrow"/>
              </a:rPr>
              <a:t>U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75960" y="981000"/>
            <a:ext cx="167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СТП РФЦА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, </a:t>
            </a:r>
            <a:br>
              <a:rPr sz="1400"/>
            </a:b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386,6</a:t>
            </a:r>
            <a:r>
              <a:rPr b="1" lang="en-US" sz="1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cc"/>
                </a:solidFill>
                <a:latin typeface="Arial Narrow"/>
              </a:rPr>
              <a:t>млн 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USD (</a:t>
            </a:r>
            <a:r>
              <a:rPr b="1" lang="ru-RU" sz="1400" spc="-1" strike="noStrike">
                <a:solidFill>
                  <a:srgbClr val="ffffcc"/>
                </a:solidFill>
                <a:latin typeface="Arial Narrow"/>
              </a:rPr>
              <a:t>0,2</a:t>
            </a:r>
            <a:r>
              <a:rPr b="0" lang="en-US" sz="1400" spc="-1" strike="noStrike">
                <a:solidFill>
                  <a:srgbClr val="ffffcc"/>
                </a:solidFill>
                <a:latin typeface="Arial Narrow"/>
              </a:rPr>
              <a:t>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920" y="160020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abd"/>
                </a:solidFill>
                <a:latin typeface="Arial Narrow"/>
              </a:rPr>
              <a:t>По состоянию на 01.09.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СПИСОК 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KASE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438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Narrow"/>
              </a:rPr>
              <a:t>официальный спис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категория "А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категория "В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Narrow"/>
              </a:rPr>
              <a:t>список "Нелистинговые ценные бумаги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Narrow"/>
              </a:rPr>
              <a:t>специальная торговая площадка регионального финансового центра города Алм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категория "С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38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СПИСОК 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KASE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 … (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2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80880" y="1219320"/>
          <a:ext cx="3954600" cy="46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39546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419720" y="1219320"/>
          <a:ext cx="3954240" cy="46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219320"/>
                    <a:ext cx="39542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815328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267080" y="1190520"/>
          <a:ext cx="420876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190520"/>
                    <a:ext cx="420876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88800" y="1190520"/>
          <a:ext cx="3946680" cy="46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800" y="1190520"/>
                    <a:ext cx="394668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СПИСОК 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KASE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 … (</a:t>
            </a: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3</a:t>
            </a:r>
            <a:r>
              <a:rPr b="0" lang="ru-RU" sz="3600" spc="-1" strike="noStrike">
                <a:solidFill>
                  <a:srgbClr val="ccec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ПРОЦЕДУРА ЛИСТИ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2057400"/>
            <a:ext cx="5410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3526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5181480"/>
            <a:ext cx="7467480" cy="533520"/>
          </a:xfrm>
          <a:prstGeom prst="rect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мотрение вопроса о включен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ц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ных бумаг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1523880"/>
            <a:ext cx="4419720" cy="533520"/>
          </a:xfrm>
          <a:prstGeom prst="flowChartProcess">
            <a:avLst/>
          </a:prstGeom>
          <a:solidFill>
            <a:srgbClr val="00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ка пакета доку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708280"/>
            <a:ext cx="4876920" cy="533520"/>
          </a:xfrm>
          <a:prstGeom prst="flowChartProcess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мотрение зая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962520"/>
            <a:ext cx="4190760" cy="533160"/>
          </a:xfrm>
          <a:prstGeom prst="rect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готовка заклю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343400"/>
            <a:ext cx="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1480" y="3962520"/>
            <a:ext cx="3733920" cy="533160"/>
          </a:xfrm>
          <a:prstGeom prst="rect">
            <a:avLst/>
          </a:prstGeom>
          <a:solidFill>
            <a:srgbClr val="00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тивированный отк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335268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57200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2133720"/>
            <a:ext cx="5331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6858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ЛИСТИНГОВЫЕ ТРЕБОВАНИЯ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628640"/>
            <a:ext cx="83818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47920"/>
            <a:ext cx="8640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постановление Правления АФН "О требованиях к эмитентам и их ценным бумагам, допускаемым (допущенным) к обращению на фондовой бирже, а также к отдельным категориям списка фондовой биржи" от 15 марта 2004 года № 63 (устанавливает нижний порог листинговых требований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приказ Председателя Агентства Республики Казахстан по регулированию деятельности регионального финансового центра города Алматы "Об установлении требований к эмитентам, чьи ценные бумаги предполагаются к включению или включены в список специальной торговой площадки регионального финансового центра города Алматы, а также к таким ценным бумагам” от 08 сентября 2006 года №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внутренний документ </a:t>
            </a:r>
            <a:r>
              <a:rPr b="0" lang="en-US" sz="1700" spc="-1" strike="noStrike">
                <a:solidFill>
                  <a:srgbClr val="ebeabd"/>
                </a:solidFill>
                <a:latin typeface="Arial Narrow"/>
              </a:rPr>
              <a:t>KASE</a:t>
            </a: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 "Листинговые правила" (устанавливает детальные листинговые требования для "внутренних" корпоративных ценных бумаг, листинговые процедуры </a:t>
            </a:r>
            <a:br>
              <a:rPr sz="1700"/>
            </a:b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и листинговые сборы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внутренний документ </a:t>
            </a:r>
            <a:r>
              <a:rPr b="0" lang="en-US" sz="1700" spc="-1" strike="noStrike">
                <a:solidFill>
                  <a:srgbClr val="ebeabd"/>
                </a:solidFill>
                <a:latin typeface="Arial Narrow"/>
              </a:rPr>
              <a:t>KASE</a:t>
            </a: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 "Листинговые требования </a:t>
            </a:r>
            <a:br>
              <a:rPr sz="1700"/>
            </a:b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к иностранным ценным бумагам и казахстанским депозитарным распискам«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Правила организации и функционирования специальной торговой площадки регионального финансового центра города Алматы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25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эти и другие упомянутые в настоящей презентации нормативные документы доступны на </a:t>
            </a:r>
            <a:r>
              <a:rPr b="0" lang="en-US" sz="17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kase.kz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ebeabd"/>
                </a:solidFill>
                <a:latin typeface="Arial Narro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762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Нормативная ба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685800"/>
            <a:ext cx="800100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Narrow"/>
              </a:rPr>
              <a:t>ЛИСТИНГОВЫЕ ТРЕБОВАНИЯ…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52388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Организационно-правовая фор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13372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Срок существ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74320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Финансовая отчетность в соответствии с МСФ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33360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Ау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394020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Требования к финансовым показателя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56084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Объем выпуска ценных бума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21496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Маркет-мейк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5845320"/>
            <a:ext cx="8382240" cy="519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Narrow"/>
              </a:rPr>
              <a:t>Корпоративный код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ОСНОВНЫЕ ЛИСТИНГОВЫЕ ТРЕБОВАНИЯ:</a:t>
            </a:r>
            <a:r>
              <a:rPr b="0" lang="en-US" sz="1400" spc="-1" strike="noStrike">
                <a:solidFill>
                  <a:srgbClr val="ff3300"/>
                </a:solidFill>
                <a:latin typeface="Arial Narro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7:44:47Z</dcterms:created>
  <dc:creator>Azamat</dc:creator>
  <dc:description/>
  <dc:language>en-US</dc:language>
  <cp:lastModifiedBy>Juassov</cp:lastModifiedBy>
  <dcterms:modified xsi:type="dcterms:W3CDTF">2007-09-24T07:12:21Z</dcterms:modified>
  <cp:revision>648</cp:revision>
  <dc:subject/>
  <dc:title>Презентация PowerPoint</dc:title>
</cp:coreProperties>
</file>