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3852720" y="-3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33120" y="740880"/>
            <a:ext cx="49338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4"/>
          </p:nvPr>
        </p:nvSpPr>
        <p:spPr>
          <a:xfrm>
            <a:off x="385272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AD5DED-7A27-4130-96F0-CA5D376618D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38052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2D8FAB-902A-4C11-B61B-773EC42C063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3480" y="74124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1ADC-D210-48CD-AB90-5FB89F9AF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1D41-D06A-42D0-BD6F-29D94625E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B45B-FA32-49AD-9E31-F20F6E251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7904-FE5F-4559-A6A2-E14B0E6BE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462D-2186-4036-956A-5FF58C87B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24092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776760"/>
            <a:ext cx="250236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E636-C1E9-466B-BBCA-8967132FD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E3BD-D26D-4FC1-95DE-6B8CAB054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25A0-A461-4132-9EA6-DA4183483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9160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78AE-8A26-44EC-977B-5DCD61DFB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4D0A-0E14-4405-B267-4745904EA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7676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20D3-B8E2-4E24-80D1-FC86C638A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40920"/>
            <a:ext cx="37926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76760"/>
            <a:ext cx="7772400" cy="231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2B6F-E144-4495-9121-5893143C9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ffcc00"/>
              </a:buClr>
              <a:buSzPct val="11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800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1920" y="6431040"/>
            <a:ext cx="419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C67-3D1A-4418-994D-1BCBF869562D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814320"/>
            <a:ext cx="7696080" cy="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ffcc00"/>
              </a:buClr>
              <a:buSzPct val="11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8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800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8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28400" y="4971600"/>
            <a:ext cx="7148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жегодная конференция</a:t>
            </a:r>
            <a:r>
              <a:rPr b="1" lang="kk-K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AS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о финансовому рынку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сык-Куль, 2007 год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ый Банк Республики Казахстан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иртанов 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инамика изменений объемов интервенций НБРК на основной сессии КФБ и среднебиржевой курс за 2006 год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2" name="Rectangle 3"/>
          <p:cNvGraphicFramePr/>
          <p:nvPr/>
        </p:nvGraphicFramePr>
        <p:xfrm>
          <a:off x="0" y="1004760"/>
          <a:ext cx="9144000" cy="528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04760"/>
                    <a:ext cx="914400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4AED-58BB-48C0-9A45-A5DE9F52D6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Золотовалютные резервы НБ РК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838080" y="1244520"/>
          <a:ext cx="7620120" cy="486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44520"/>
                    <a:ext cx="762012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C628-5157-42D8-81E7-17A109E7B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ациональный Фонд РК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18" name="Rectangle 3"/>
          <p:cNvGraphicFramePr/>
          <p:nvPr/>
        </p:nvGraphicFramePr>
        <p:xfrm>
          <a:off x="1015920" y="1246320"/>
          <a:ext cx="7772400" cy="504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920" y="1246320"/>
                    <a:ext cx="777240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5FBF-01EC-4F5A-AC43-0ECEDA9D72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инамика изменения спрэдов между АА и ВВ за последние три месяца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49591" r="0" b="8599"/>
          <a:stretch/>
        </p:blipFill>
        <p:spPr>
          <a:xfrm>
            <a:off x="800280" y="1338120"/>
            <a:ext cx="7619760" cy="465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A0F6-DDA3-48B2-ABE3-00AFF21DAC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Индекс 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KazPrime</a:t>
            </a:r>
            <a:endParaRPr b="1" lang="en-US" sz="2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22009" r="0" b="9108"/>
          <a:stretch/>
        </p:blipFill>
        <p:spPr>
          <a:xfrm>
            <a:off x="762120" y="1287360"/>
            <a:ext cx="7645320" cy="47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F2F6-363C-40CC-97FC-36A924A171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пераций Национального Банка по предоставлению ликвидности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7" name="Rectangle 3"/>
          <p:cNvGraphicFramePr/>
          <p:nvPr/>
        </p:nvGraphicFramePr>
        <p:xfrm>
          <a:off x="647640" y="1486080"/>
          <a:ext cx="7772400" cy="48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1486080"/>
                    <a:ext cx="7772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6AB9-60AA-4B4A-8A84-3602846E5A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Динамика изменений объемов интервенций НБРК на основной сессии КФБ в корреляции со среднебиржевым курсом </a:t>
            </a:r>
            <a:br>
              <a:rPr sz="1800"/>
            </a:b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0" name="Rectangle 3"/>
          <p:cNvGraphicFramePr/>
          <p:nvPr/>
        </p:nvGraphicFramePr>
        <p:xfrm>
          <a:off x="812880" y="1133640"/>
          <a:ext cx="7810560" cy="465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2880" y="1133640"/>
                    <a:ext cx="7810560" cy="46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050E-AC3C-4B4E-8924-27E55DE1F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Национальный Банк Республики Казахстан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AB61-69D6-498B-9CD0-35B7BDBAFB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аловый внутренний продукт и прямые инвестиции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1143000" y="1258920"/>
          <a:ext cx="7569360" cy="457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258920"/>
                    <a:ext cx="756936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F9F2-141F-461B-AD73-B58BBE2D1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овокупные активы: банковский сектор, страховой сектор и пенсионные накопления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Rectangle 3"/>
          <p:cNvGraphicFramePr/>
          <p:nvPr/>
        </p:nvGraphicFramePr>
        <p:xfrm>
          <a:off x="1292400" y="1241280"/>
          <a:ext cx="7153200" cy="48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2400" y="1241280"/>
                    <a:ext cx="715320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D743-E53B-4830-98FF-4C8692FE4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клады населения и кредиты экономике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Rectangle 3"/>
          <p:cNvGraphicFramePr/>
          <p:nvPr/>
        </p:nvGraphicFramePr>
        <p:xfrm>
          <a:off x="1041480" y="1427040"/>
          <a:ext cx="7353360" cy="452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427040"/>
                    <a:ext cx="735336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3CD7-2335-468F-9645-925C475D0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Капитализация акций на внутреннем финансовом рынке Казахстана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6" name="Rectangle 3"/>
          <p:cNvGraphicFramePr/>
          <p:nvPr/>
        </p:nvGraphicFramePr>
        <p:xfrm>
          <a:off x="954000" y="1050840"/>
          <a:ext cx="7500960" cy="53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1050840"/>
                    <a:ext cx="750096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86F8-578F-43E0-9F10-8944DA9E5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Капитализация облигаций на внутреннем финансовом рынке Казахстана</a:t>
            </a:r>
            <a:endParaRPr b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Rectangle 3"/>
          <p:cNvGraphicFramePr/>
          <p:nvPr/>
        </p:nvGraphicFramePr>
        <p:xfrm>
          <a:off x="1030320" y="1241280"/>
          <a:ext cx="7424640" cy="485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0320" y="1241280"/>
                    <a:ext cx="742464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FBE5-7187-4848-8AB9-EAAE6C9460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Валовый внешний долг и заимствования коммерческих банков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2" name="Rectangle 3"/>
          <p:cNvGraphicFramePr/>
          <p:nvPr/>
        </p:nvGraphicFramePr>
        <p:xfrm>
          <a:off x="1041480" y="1231920"/>
          <a:ext cx="7351560" cy="40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231920"/>
                    <a:ext cx="735156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22B9F-FF96-4175-AC8B-8D763B9DA1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бъемы производства нефти в Казахстане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44160" y="5216040"/>
            <a:ext cx="7378920" cy="8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cc00"/>
              </a:buClr>
              <a:buSzPct val="94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По данным статистического обзора мирового рынка энергоносителей от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 British Petroleum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tatistical Review of World Energy 2007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Rectangle 3"/>
          <p:cNvGraphicFramePr/>
          <p:nvPr/>
        </p:nvGraphicFramePr>
        <p:xfrm>
          <a:off x="952560" y="1114560"/>
          <a:ext cx="7505640" cy="491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2560" y="1114560"/>
                    <a:ext cx="750564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48CC-E6D9-4E77-945D-F2DC9F2F73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Rectangle 3"/>
          <p:cNvGraphicFramePr/>
          <p:nvPr/>
        </p:nvGraphicFramePr>
        <p:xfrm>
          <a:off x="988920" y="1162080"/>
          <a:ext cx="697572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1162080"/>
                    <a:ext cx="6975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44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525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Инфляция в Казахстан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A622-53B2-4C70-88C0-45879BBEE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4T12:38:07Z</dcterms:created>
  <dc:creator>laskda</dc:creator>
  <dc:description/>
  <dc:language>en-US</dc:language>
  <cp:lastModifiedBy>Juassov</cp:lastModifiedBy>
  <cp:lastPrinted>2004-10-12T10:25:35Z</cp:lastPrinted>
  <dcterms:modified xsi:type="dcterms:W3CDTF">2007-09-24T07:12:06Z</dcterms:modified>
  <cp:revision>791</cp:revision>
  <dc:subject/>
  <dc:title>The Republic of Kazakhstan</dc:title>
</cp:coreProperties>
</file>