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Click to move the slide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602E-D3DE-4DC4-9A6E-65D461EE60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МХ – 738 эмитентов, 857 млрд. долл. об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ay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 – 4785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итентов, 141,8 млрд. долл. - об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D25D-83F2-40FF-A0FB-97D115C90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4A7E-09A9-4EA7-A18F-2B81D7659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7B71-3CAB-4C5E-883E-31A74BD56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0ACE-C522-480D-BC06-28EB01D45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8199D-F93F-4BB2-B1FF-6A5FDE67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E00B8-DBD7-4F7D-8845-A7473F03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53E4E-0FB3-4CAF-94EE-0C6F95BD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1AFC1-9E0A-4CB7-9238-D03B426C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07D07-4E4A-4A3E-83D3-EB7D3916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D4639-3EEB-4C14-A4A3-F41E4648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C6791-6B22-446E-B591-E97DB618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0F71-70C6-4A51-9C9A-204E9A1C5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CA76D-5FE3-45ED-9987-19A46F2E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69397-5686-4BD6-90DF-8D389F60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7E6F1-81BE-4ECB-B1DC-AE350D31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76EF0-E559-4C53-A55D-FBCCDB36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95DCF-00E9-41BD-B1F8-632F1DD0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0B97-4552-439A-9EE3-9D3CAB0C4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DAD7-D290-47FC-BD86-2D34CC9AA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9994-9D99-4B4F-9A1E-CE3CBD556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89D4-9A06-4CBF-81B9-C4CAAE6BE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05A5-4E42-431E-A728-9FCF8B806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7EF3-75DC-410B-AA9B-58966A7D8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C249-B66A-4D18-B668-0B69D4A80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Click to edit the title text format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Click to edit the outline text format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Second Outline Level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lvl="2" marL="1143000" indent="-22860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Third Outline Level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lvl="3" marL="1600200" indent="-22860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Fourth Outline Level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lvl="4" marL="2057400" indent="-22860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Fifth Outline Level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lvl="5" marL="2057400" indent="-228600">
              <a:spcBef>
                <a:spcPts val="476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Sixth Outline Level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lvl="6" marL="2057400" indent="-228600">
              <a:spcBef>
                <a:spcPts val="476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Seventh Outline Level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864E-8022-47C0-AB45-9BB8ADF9137F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cap="sq" w="28440">
            <a:solidFill>
              <a:srgbClr val="dd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95280" y="6381720"/>
            <a:ext cx="5067360" cy="33012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Click to edit the title text format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8708-3CA4-4086-AF4A-BCEE71E8AB80}" type="slidenum"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4337"/>
                </a:solidFill>
                <a:latin typeface="Microsoft Sans Serif"/>
              </a:rPr>
              <a:t>Click to edit the outline text format</a:t>
            </a:r>
            <a:endParaRPr b="1" lang="en-US" sz="20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1341360"/>
            <a:ext cx="727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Microsoft Sans Serif"/>
              </a:rPr>
              <a:t>Фондовая биржа ММВБ: </a:t>
            </a:r>
            <a:br>
              <a:rPr sz="2800"/>
            </a:br>
            <a:r>
              <a:rPr b="1" lang="ru-RU" sz="2800" spc="-1" strike="noStrike">
                <a:solidFill>
                  <a:srgbClr val="1d4944"/>
                </a:solidFill>
                <a:latin typeface="Microsoft Sans Serif"/>
              </a:rPr>
              <a:t>возможности для эмитентов стран СНГ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1d4944"/>
                </a:solidFill>
                <a:latin typeface="Microsoft Sans Serif"/>
              </a:rPr>
              <a:t>сентябрь</a:t>
            </a:r>
            <a:r>
              <a:rPr b="0" lang="ru-RU" sz="2000" spc="-1" strike="noStrike">
                <a:solidFill>
                  <a:srgbClr val="1d4944"/>
                </a:solidFill>
                <a:latin typeface="Microsoft Sans Serif"/>
              </a:rPr>
              <a:t> </a:t>
            </a:r>
            <a:r>
              <a:rPr b="1" lang="ru-RU" sz="2000" spc="-1" strike="noStrike">
                <a:solidFill>
                  <a:srgbClr val="1d4944"/>
                </a:solidFill>
                <a:latin typeface="Microsoft Sans Serif"/>
              </a:rPr>
              <a:t>2007 г.</a:t>
            </a:r>
            <a:endParaRPr b="1" lang="en-US" sz="2000" spc="-1" strike="noStrike">
              <a:solidFill>
                <a:srgbClr val="1d4944"/>
              </a:solidFill>
              <a:latin typeface="Microsoft Sans Serif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4653000"/>
          <a:ext cx="2016360" cy="13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653000"/>
                    <a:ext cx="201636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124000" y="494172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35280" y="4581360"/>
            <a:ext cx="507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Times New Roman"/>
              </a:rPr>
              <a:t>Заместитель Генерального директора – руководитель  СВК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Times New Roman"/>
              </a:rPr>
              <a:t>Фондовой биржи ММВБ</a:t>
            </a:r>
            <a:br>
              <a:rPr sz="2400"/>
            </a:br>
            <a:r>
              <a:rPr b="1" lang="ru-RU" sz="2400" spc="-1" strike="noStrike">
                <a:solidFill>
                  <a:srgbClr val="1d4944"/>
                </a:solidFill>
                <a:latin typeface="Times New Roman"/>
              </a:rPr>
              <a:t>Бородин И.А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88920"/>
            <a:ext cx="91440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Варианты организации размещений акций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  </a:t>
            </a:r>
            <a:r>
              <a:rPr b="1" lang="ru-RU" sz="30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на </a:t>
            </a: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ФБ </a:t>
            </a:r>
            <a:r>
              <a:rPr b="1" lang="ru-RU" sz="30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ММВБ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5445000"/>
            <a:ext cx="8569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1484280"/>
            <a:ext cx="3888000" cy="824040"/>
          </a:xfrm>
          <a:prstGeom prst="rect">
            <a:avLst/>
          </a:prstGeom>
          <a:noFill/>
          <a:ln w="22320">
            <a:solidFill>
              <a:srgbClr val="71a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Times New Roman"/>
              </a:rPr>
              <a:t>2-й: предложение на открытом рынке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Times New Roman"/>
              </a:rPr>
              <a:t>пакета зарегистрированных акций</a:t>
            </a:r>
            <a:r>
              <a:rPr b="1" lang="en-US" sz="1600" spc="-1" strike="noStrike">
                <a:solidFill>
                  <a:srgbClr val="1d4337"/>
                </a:solidFill>
                <a:latin typeface="Times New Roman"/>
              </a:rPr>
              <a:t> (SPO)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557360"/>
            <a:ext cx="3600360" cy="580680"/>
          </a:xfrm>
          <a:prstGeom prst="rect">
            <a:avLst/>
          </a:prstGeom>
          <a:noFill/>
          <a:ln w="22320">
            <a:solidFill>
              <a:srgbClr val="71a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337"/>
                </a:solidFill>
                <a:latin typeface="Times New Roman"/>
              </a:rPr>
              <a:t>I</a:t>
            </a:r>
            <a:r>
              <a:rPr b="1" lang="ru-RU" sz="1600" spc="-1" strike="noStrike">
                <a:solidFill>
                  <a:srgbClr val="1d4337"/>
                </a:solidFill>
                <a:latin typeface="Times New Roman"/>
              </a:rPr>
              <a:t>-й: публичное размещение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d4337"/>
                </a:solidFill>
                <a:latin typeface="Times New Roman"/>
              </a:rPr>
              <a:t>новой эмиссии акций (</a:t>
            </a:r>
            <a:r>
              <a:rPr b="1" lang="en-US" sz="1600" spc="-1" strike="noStrike">
                <a:solidFill>
                  <a:srgbClr val="1d4337"/>
                </a:solidFill>
                <a:latin typeface="Times New Roman"/>
              </a:rPr>
              <a:t>IPO)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2133720"/>
            <a:ext cx="45370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5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определение компанией цены размещения и реализация в течение 45 дней (в течение 20 дней в случае листинга в секторе 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B)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 существующими акционерами преимущественного права на покупку акций (вне ФБ ММВБ)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сбор  ФБ ММВБ заявок от инвесторов/либо вне ФБ ММВБ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определение компанией окончательной цены размещения (отличной от первоначальной не более чем на 10%)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/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 в случае листинга в секторе В возможно определение цены после реализации преимущественного права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сделки с инвесторами по продаже акций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расчеты и перевод денежных средств от 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IPO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1844640"/>
            <a:ext cx="720720" cy="0"/>
          </a:xfrm>
          <a:prstGeom prst="line">
            <a:avLst/>
          </a:prstGeom>
          <a:ln w="34920">
            <a:solidFill>
              <a:srgbClr val="71ad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2421000"/>
            <a:ext cx="40338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5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аккумуляция владельцами компании пакета зарегистрированных акций предназначенных для продажи (вне ФБ ММВБ)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формирование клиентской базы инвесторов, сбор предварительных заявок на покупку (возможно участие ФБ ММВБ)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определение компанией цены размещения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сделки на ФБ ММВБ по продаже акций инвесторам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расчеты и перевод денежных средств от 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SPO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2C78-E39B-4F85-AD5E-7B40A632AE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5692b"/>
                </a:solidFill>
                <a:latin typeface="Arial"/>
                <a:ea typeface="Times New Roman"/>
              </a:rPr>
              <a:t>Допуск ценных бумаг к размещению</a:t>
            </a:r>
            <a:br>
              <a:rPr sz="2800"/>
            </a:br>
            <a:r>
              <a:rPr b="1" lang="ru-RU" sz="2800" spc="-1" strike="noStrike">
                <a:solidFill>
                  <a:srgbClr val="15692b"/>
                </a:solidFill>
                <a:latin typeface="Arial"/>
                <a:ea typeface="Times New Roman"/>
              </a:rPr>
              <a:t>и торгам при </a:t>
            </a:r>
            <a:r>
              <a:rPr b="1" lang="en-US" sz="2800" spc="-1" strike="noStrike">
                <a:solidFill>
                  <a:srgbClr val="15692b"/>
                </a:solidFill>
                <a:latin typeface="Arial"/>
                <a:ea typeface="Times New Roman"/>
              </a:rPr>
              <a:t>IPO</a:t>
            </a:r>
            <a:r>
              <a:rPr b="1" lang="ru-RU" sz="2800" spc="-1" strike="noStrike">
                <a:solidFill>
                  <a:srgbClr val="15692b"/>
                </a:solidFill>
                <a:latin typeface="Arial"/>
                <a:ea typeface="Times New Roman"/>
              </a:rPr>
              <a:t> и </a:t>
            </a:r>
            <a:r>
              <a:rPr b="1" lang="en-US" sz="2800" spc="-1" strike="noStrike">
                <a:solidFill>
                  <a:srgbClr val="15692b"/>
                </a:solidFill>
                <a:latin typeface="Arial"/>
                <a:ea typeface="Times New Roman"/>
              </a:rPr>
              <a:t>SPO</a:t>
            </a:r>
            <a:endParaRPr b="1" lang="en-US" sz="2800" spc="-1" strike="noStrike">
              <a:solidFill>
                <a:srgbClr val="1d4944"/>
              </a:solidFill>
              <a:latin typeface="Microsoft Sans Serif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102360" y="3583080"/>
          <a:ext cx="108252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02360" y="3583080"/>
                    <a:ext cx="10825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484280"/>
            <a:ext cx="2122560" cy="79236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IPO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первичный рынок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2492280"/>
            <a:ext cx="2729160" cy="87480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Допуск акций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к размещению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692360" y="2275920"/>
            <a:ext cx="304560" cy="215640"/>
          </a:xfrm>
          <a:prstGeom prst="upArrow">
            <a:avLst>
              <a:gd name="adj1" fmla="val 36463"/>
              <a:gd name="adj2" fmla="val 32917"/>
            </a:avLst>
          </a:prstGeom>
          <a:solidFill>
            <a:srgbClr val="71ad49"/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948360" y="2275920"/>
            <a:ext cx="304920" cy="215640"/>
          </a:xfrm>
          <a:prstGeom prst="upArrow">
            <a:avLst>
              <a:gd name="adj1" fmla="val 36463"/>
              <a:gd name="adj2" fmla="val 32917"/>
            </a:avLst>
          </a:prstGeom>
          <a:solidFill>
            <a:srgbClr val="71ad49"/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21400" y="4508640"/>
            <a:ext cx="2514600" cy="60948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котировальные списки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3429000"/>
            <a:ext cx="2232000" cy="122400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w!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ировальные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иски «В» «И»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4984920"/>
            <a:ext cx="3313080" cy="74916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ые торги в 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ировальных списках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21440" y="4221000"/>
            <a:ext cx="16192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рез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с.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2000" y="1484280"/>
            <a:ext cx="2122200" cy="79236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4337"/>
                </a:solidFill>
                <a:latin typeface="Arial"/>
              </a:rPr>
              <a:t>SPO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вторичный рынок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2492280"/>
            <a:ext cx="2729160" cy="87480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Включение акций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Arial"/>
              </a:rPr>
              <a:t>в ПВЦБ *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1400" y="3645000"/>
            <a:ext cx="2514600" cy="60948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вторичные торги 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в ПВЦБ (аукцион)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3645000"/>
            <a:ext cx="2514600" cy="609480"/>
          </a:xfrm>
          <a:prstGeom prst="bevel">
            <a:avLst>
              <a:gd name="adj" fmla="val 12500"/>
            </a:avLst>
          </a:prstGeom>
          <a:solidFill>
            <a:srgbClr val="71ad49">
              <a:alpha val="50000"/>
            </a:srgbClr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биржевое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4337"/>
                </a:solidFill>
                <a:latin typeface="Arial"/>
              </a:rPr>
              <a:t>размещение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692360" y="3357720"/>
            <a:ext cx="304560" cy="287280"/>
          </a:xfrm>
          <a:prstGeom prst="upArrow">
            <a:avLst>
              <a:gd name="adj1" fmla="val 36463"/>
              <a:gd name="adj2" fmla="val 32917"/>
            </a:avLst>
          </a:prstGeom>
          <a:solidFill>
            <a:srgbClr val="71ad49"/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51800" y="3357720"/>
            <a:ext cx="304920" cy="287280"/>
          </a:xfrm>
          <a:prstGeom prst="upArrow">
            <a:avLst>
              <a:gd name="adj1" fmla="val 36463"/>
              <a:gd name="adj2" fmla="val 32917"/>
            </a:avLst>
          </a:prstGeom>
          <a:solidFill>
            <a:srgbClr val="71ad49"/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667640" y="4220280"/>
            <a:ext cx="304920" cy="287640"/>
          </a:xfrm>
          <a:prstGeom prst="upArrow">
            <a:avLst>
              <a:gd name="adj1" fmla="val 36463"/>
              <a:gd name="adj2" fmla="val 32917"/>
            </a:avLst>
          </a:prstGeom>
          <a:solidFill>
            <a:srgbClr val="71ad49"/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1844640"/>
            <a:ext cx="1440000" cy="0"/>
          </a:xfrm>
          <a:prstGeom prst="line">
            <a:avLst/>
          </a:prstGeom>
          <a:ln cap="sq" w="66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427280" y="1844640"/>
            <a:ext cx="1584360" cy="0"/>
          </a:xfrm>
          <a:prstGeom prst="line">
            <a:avLst/>
          </a:prstGeom>
          <a:ln cap="sq" w="66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1844640"/>
            <a:ext cx="0" cy="1584360"/>
          </a:xfrm>
          <a:prstGeom prst="line">
            <a:avLst/>
          </a:prstGeom>
          <a:ln cap="sq" w="66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356000" y="4653000"/>
            <a:ext cx="304920" cy="287280"/>
          </a:xfrm>
          <a:prstGeom prst="upArrow">
            <a:avLst>
              <a:gd name="adj1" fmla="val 36463"/>
              <a:gd name="adj2" fmla="val 32917"/>
            </a:avLst>
          </a:prstGeom>
          <a:solidFill>
            <a:srgbClr val="71ad49"/>
          </a:solidFill>
          <a:ln w="936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00720" y="5445000"/>
            <a:ext cx="2843280" cy="792360"/>
          </a:xfrm>
          <a:prstGeom prst="rect">
            <a:avLst/>
          </a:prstGeom>
          <a:solidFill>
            <a:srgbClr val="71ad49"/>
          </a:solidFill>
          <a:ln cap="sq"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*ПВЦБ – перечень внесписочных 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ценных бумаг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B429-710B-45B1-8F18-475E8B7841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d4944"/>
                </a:solidFill>
                <a:latin typeface="Microsoft Sans Serif"/>
              </a:rPr>
              <a:t>IPO российских компаний в 2006 г.</a:t>
            </a:r>
            <a:endParaRPr b="1" lang="en-US" sz="2900" spc="-1" strike="noStrike">
              <a:solidFill>
                <a:srgbClr val="1d4944"/>
              </a:solidFill>
              <a:latin typeface="Microsoft Sans Serif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8360" y="1844640"/>
          <a:ext cx="7653240" cy="3995640"/>
        </p:xfrm>
        <a:graphic>
          <a:graphicData uri="http://schemas.openxmlformats.org/drawingml/2006/table">
            <a:tbl>
              <a:tblPr/>
              <a:tblGrid>
                <a:gridCol w="307800"/>
                <a:gridCol w="1239840"/>
                <a:gridCol w="1011240"/>
                <a:gridCol w="1114560"/>
                <a:gridCol w="1011240"/>
                <a:gridCol w="874800"/>
                <a:gridCol w="939600"/>
                <a:gridCol w="1154160"/>
              </a:tblGrid>
              <a:tr h="423720"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Компания-эмитен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Дата </a:t>
                      </a:r>
                      <a:r>
                        <a:rPr b="1" lang="en-US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IPO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Бирж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Объем IPO</a:t>
                      </a:r>
                      <a:r>
                        <a:rPr b="1" lang="en-US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млн.долл.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Процент </a:t>
                      </a:r>
                      <a:r>
                        <a:rPr b="1" lang="en-US" sz="1000" spc="-1" strike="noStrike">
                          <a:solidFill>
                            <a:srgbClr val="1d4944"/>
                          </a:solidFill>
                          <a:latin typeface="Times New Roman"/>
                          <a:ea typeface="Times New Roman"/>
                        </a:rPr>
                        <a:t>IPO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</a:rPr>
                        <a:t>Ценовой коридор,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</a:rPr>
                        <a:t>долл. СШ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</a:rPr>
                        <a:t>Цена размещения,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1d4944"/>
                          </a:solidFill>
                          <a:latin typeface="Times New Roman"/>
                        </a:rPr>
                        <a:t>долл. СШ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1224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НК Роснефть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4.07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0 400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5,85 – 7,8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7,5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ТМК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.10.2006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 070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,60 – 5,4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5,4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Северсталь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08.11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 063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9,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1,00 - 13,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2,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Комстар-О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7.02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 007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5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6,50 – 8,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7,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Trader Media East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7.02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650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ГК-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1.10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59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4,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,076 – 0,09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,0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Система-Гал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3.11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96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6,7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92,0 – 229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14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Магни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8.04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68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8,9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4,0 – 28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7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92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СТС-Меди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1.06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NASDAQ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46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6,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3,50 – 15,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4,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Распадская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0.11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17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3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,00 – 2,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,2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ЧЦЗ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7.11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81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27,5 -155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67,5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Группа Черкизово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0.05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/LSE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51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7,8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 212,5 –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 037,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 287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Группа Разгуляй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6.03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МВБ</a:t>
                      </a:r>
                      <a:r>
                        <a:rPr b="0" lang="en-US" sz="1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44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5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,00 – 4,8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,8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Верофарм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5.04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40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9,9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4,00-29,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8,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ЦМ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5.12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05,3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,54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Белон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05.06.2006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РТС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57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5,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N/A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8,00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80"/>
                      </a:solidFill>
                    </a:lnL>
                    <a:lnR w="1224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2240">
                      <a:solidFill>
                        <a:srgbClr val="000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DFB0-615E-47D7-A45C-B8C115AAE2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Соотношение объемов IPO в России и за рубежом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771560" y="1773360"/>
          <a:ext cx="5958000" cy="40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1560" y="1773360"/>
                    <a:ext cx="59580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796000" y="6308640"/>
            <a:ext cx="30970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D852-A9CB-470D-ADED-AF526480DA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Жизнь после </a:t>
            </a: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IPO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35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Акции компаний, проводивших размещение на российских биржах, имеют лучшую биржевую историю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Российские инвесторы поддерживают рынок</a:t>
            </a:r>
            <a:r>
              <a:rPr b="0" lang="en-US" sz="1800" spc="-1" strike="noStrike">
                <a:solidFill>
                  <a:srgbClr val="1d4337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акций компании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Внутри страны цены менее волатильны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3357720"/>
          <a:ext cx="8893440" cy="2911320"/>
        </p:xfrm>
        <a:graphic>
          <a:graphicData uri="http://schemas.openxmlformats.org/drawingml/2006/table">
            <a:tbl>
              <a:tblPr/>
              <a:tblGrid>
                <a:gridCol w="1271520"/>
                <a:gridCol w="1268640"/>
                <a:gridCol w="1271520"/>
                <a:gridCol w="1270080"/>
                <a:gridCol w="1271520"/>
                <a:gridCol w="1268280"/>
                <a:gridCol w="1271880"/>
              </a:tblGrid>
              <a:tr h="378720">
                <a:tc rowSpan="2"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Компании, проведшие </a:t>
                      </a: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IPO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дин месяц после </a:t>
                      </a: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IPO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Шесть месяцев после </a:t>
                      </a: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IPO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дин год после </a:t>
                      </a: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IPO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пережали рынок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тставали от рынка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пережали рынок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тставали от рынка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пережали рынок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тставали от рынка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</a:tr>
              <a:tr h="844200"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На внутреннем рынке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</a:tr>
              <a:tr h="844200"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На внешнем рынке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72000" bIns="720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4</a:t>
                      </a:r>
                      <a:endParaRPr b="0" lang="en-US" sz="17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gradFill rotWithShape="0">
                      <a:gsLst>
                        <a:gs pos="0">
                          <a:srgbClr val="ddffdd"/>
                        </a:gs>
                        <a:gs pos="50000">
                          <a:srgbClr val="fefefe"/>
                        </a:gs>
                        <a:gs pos="100000">
                          <a:srgbClr val="ddff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Динамика цены после </a:t>
            </a:r>
            <a:r>
              <a:rPr b="1" lang="en-US" sz="1800" spc="-1" strike="noStrike">
                <a:solidFill>
                  <a:srgbClr val="1d4337"/>
                </a:solidFill>
                <a:latin typeface="Times New Roman"/>
              </a:rPr>
              <a:t>IPO</a:t>
            </a: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 в сравнении с индексом ММВБ,</a:t>
            </a:r>
            <a:r>
              <a:rPr b="1" lang="en-US" sz="1800" spc="-1" strike="noStrike">
                <a:solidFill>
                  <a:srgbClr val="1d4337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1d4337"/>
                </a:solidFill>
                <a:latin typeface="Times New Roman"/>
              </a:rPr>
              <a:t>кол-во компаний.</a:t>
            </a:r>
            <a:r>
              <a:rPr b="1" lang="en-US" sz="1800" spc="-1" strike="noStrike">
                <a:solidFill>
                  <a:srgbClr val="1d4337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6424560"/>
            <a:ext cx="356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*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По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данным Ю. Данилова и ММВБ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C509-95CB-4745-B9FD-8DEFC4FD7F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Microsoft Sans Serif"/>
              </a:rPr>
              <a:t>Объем торгов депозитарными расписками (ADR/GDR) и акциями российских компаний в 2006 – 2007 г.</a:t>
            </a:r>
            <a:endParaRPr b="1" lang="en-US" sz="24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6237360"/>
            <a:ext cx="3097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 Cyr"/>
              </a:rPr>
              <a:t>* 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Данные на 1 марта 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200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1484280"/>
          <a:ext cx="8424720" cy="4251240"/>
        </p:xfrm>
        <a:graphic>
          <a:graphicData uri="http://schemas.openxmlformats.org/drawingml/2006/table">
            <a:tbl>
              <a:tblPr/>
              <a:tblGrid>
                <a:gridCol w="1800360"/>
                <a:gridCol w="744480"/>
                <a:gridCol w="795240"/>
                <a:gridCol w="717480"/>
                <a:gridCol w="793800"/>
                <a:gridCol w="608040"/>
                <a:gridCol w="619200"/>
                <a:gridCol w="809640"/>
                <a:gridCol w="728640"/>
                <a:gridCol w="807840"/>
              </a:tblGrid>
              <a:tr h="28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Месяц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Зарубежные рынки, млн. долл.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Российский рынок, млн. долл.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DB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LSE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NYSE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%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%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РТС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ММВБ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</a:tr>
              <a:tr h="28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Январь 200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006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3867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55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8629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41,2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58,8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6543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9468,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074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феврал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385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2528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627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5540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1,7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8,3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3549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854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7695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март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47,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4523,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650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8921,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4,4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5,6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6149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7583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8566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апрел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820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5920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22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9463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29,2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70,8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47167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9346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7820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май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446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7710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820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3977,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4,6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5,4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64406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9927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4479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июн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02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0591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864,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5158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2,0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8,0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3506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4498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49008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июл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045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6965,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632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9643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2,0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8,0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41500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317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39182,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август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341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9442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328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3113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29,8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70,2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5973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526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3447,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сентябр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065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9365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951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3382,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1,6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8,4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0607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501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49106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октябр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149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8677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41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1568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29,4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70,6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1881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917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49963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ноябр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027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0894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121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4042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29,5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70,5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7503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169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5334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декабрь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952,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3862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550,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7365,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21,9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78,1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61961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044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9916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Итого 2006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9690,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14350,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6765,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60806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ff0000"/>
                          </a:solidFill>
                          <a:latin typeface="Microsoft Sans Serif"/>
                          <a:ea typeface="Arial CYR"/>
                        </a:rPr>
                        <a:t>31,0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00ff"/>
                          </a:solidFill>
                          <a:latin typeface="Microsoft Sans Serif"/>
                          <a:ea typeface="Arial CYR"/>
                        </a:rPr>
                        <a:t>69,0%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80749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9153,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521595,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95280" y="5734080"/>
          <a:ext cx="8424720" cy="288720"/>
        </p:xfrm>
        <a:graphic>
          <a:graphicData uri="http://schemas.openxmlformats.org/drawingml/2006/table">
            <a:tbl>
              <a:tblPr/>
              <a:tblGrid>
                <a:gridCol w="1825560"/>
                <a:gridCol w="719280"/>
                <a:gridCol w="795240"/>
                <a:gridCol w="717480"/>
                <a:gridCol w="793800"/>
                <a:gridCol w="608040"/>
                <a:gridCol w="619200"/>
                <a:gridCol w="809640"/>
                <a:gridCol w="728640"/>
                <a:gridCol w="807840"/>
              </a:tblGrid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Январь – июль 2007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2795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88544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3374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24713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8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71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62887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8554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54333</a:t>
                      </a: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8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E30A-D8E2-44FF-AEDF-3DA35461DC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Фондовая биржа ММВБ:</a:t>
            </a:r>
            <a:br>
              <a:rPr sz="3000"/>
            </a:b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рост количества участников и инвесторов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324320" y="1989000"/>
          <a:ext cx="4711680" cy="3310200"/>
        </p:xfrm>
        <a:graphic>
          <a:graphicData uri="http://schemas.openxmlformats.org/drawingml/2006/table">
            <a:tbl>
              <a:tblPr/>
              <a:tblGrid>
                <a:gridCol w="1513080"/>
                <a:gridCol w="1025280"/>
                <a:gridCol w="1150920"/>
                <a:gridCol w="10224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Инвесторы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Январь</a:t>
                      </a:r>
                      <a:r>
                        <a:rPr b="1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 1, 2005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Январь</a:t>
                      </a:r>
                      <a:r>
                        <a:rPr b="1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 1, 2006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Июль 1</a:t>
                      </a:r>
                      <a:r>
                        <a:rPr b="1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 200</a:t>
                      </a: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7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108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03 932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34 440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464</a:t>
                      </a:r>
                      <a:r>
                        <a:rPr b="1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032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Юридические лица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15 268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9 069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425 560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Частные инвесторы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85 731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09 714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6 54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Нерезиденты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787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 145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 59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Институц. инвесторы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Times New Roman"/>
                          <a:ea typeface="Arial CYR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  <a:ea typeface="Arial CYR"/>
                        </a:rPr>
                        <a:t>2146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4 512</a:t>
                      </a:r>
                      <a:endParaRPr b="0" lang="en-US" sz="1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9 33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0" y="1484280"/>
          <a:ext cx="423720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42372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580000" y="6237360"/>
            <a:ext cx="3097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 Cyr"/>
              </a:rPr>
              <a:t>* 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Данные на 1 апреля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 200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2B0B-EB98-4C48-A58E-D718F805CA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324000" y="1052640"/>
          <a:ext cx="8280360" cy="5314680"/>
        </p:xfrm>
        <a:graphic>
          <a:graphicData uri="http://schemas.openxmlformats.org/drawingml/2006/table">
            <a:tbl>
              <a:tblPr/>
              <a:tblGrid>
                <a:gridCol w="2484360"/>
                <a:gridCol w="1171440"/>
                <a:gridCol w="647640"/>
                <a:gridCol w="595440"/>
                <a:gridCol w="463680"/>
                <a:gridCol w="709560"/>
                <a:gridCol w="350640"/>
                <a:gridCol w="752760"/>
                <a:gridCol w="1104840"/>
              </a:tblGrid>
              <a:tr h="88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Основные требования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Котироваль-ный список «А» 1-го уровня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Котироваль-ный список «А» 2-го уровня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Котироваль</a:t>
                      </a: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ый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список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«Б»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Котироваль</a:t>
                      </a: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ый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список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«</a:t>
                      </a: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В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»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Котироваль</a:t>
                      </a: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ый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список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«</a:t>
                      </a:r>
                      <a:r>
                        <a:rPr b="1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И</a:t>
                      </a:r>
                      <a:r>
                        <a:rPr b="1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»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Доля обыкновенных акций, которая находится во владении одного лица и (или) его аффилированных лиц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е более 75%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е более 75%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е более 90%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Капитализация акций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О - 10 млрд. АП - 3 млрд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О - 3 млрд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П – 1 млрд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О - 1,5 млрд. АП – 500 млн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О - 60 млн. АП – 25 млн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Объем выпуска облигаций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1 млрд. руб.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500 млн. руб.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300 млн. руб.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300 млн. руб.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8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Срок существования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е менее 3 ле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е менее 3 ле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не менее 1 год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кции - не менее 3 ле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Облигации - не менее 6 мес.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Безубыточность баланса эмитент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2 года из последних 3 ле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2 года из последних 3 ле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кции - 2 года из последних 3 лет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Ежемесячный объем сделок за последние 3 месяца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кции - 25 млн. Обл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– 10 млн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кции – 2,5 млн. Обл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– 1 млн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Акции – 1,5 млн. Обл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– 500 тыс. 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Соблюдение эмитентом Кодекса корпоративного поведения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Формализованные требования по соблюдению Кодекса при наличии подтверждающих документов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Финансовая отчетность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МСФО</a:t>
                      </a: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 US GAAP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220011"/>
                          </a:solidFill>
                          <a:latin typeface="Microsoft Sans Serif"/>
                        </a:rPr>
                        <a:t>-</a:t>
                      </a:r>
                      <a:endParaRPr b="0" lang="en-US" sz="1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1d433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826920" y="260280"/>
            <a:ext cx="81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Требования ФБ ММВБ при включении ценных бумаг в Котировальные списки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FF9C-D04B-4A9E-9ABA-09AD4BCD02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Итак, предпосылки созданы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Регулятивный режим – дружелюбный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Инфраструктура адекватна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Ликвидность вполне достаточна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Инвесторская база - присутствует 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Издержки низкие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Исторический опыт? Есть успешные примеры!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98A9B-309B-40AE-BE1D-58A2B16AE0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Новации 2007 г.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Сектор инновационных и растущих компаний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Российские депозитарные расписки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Биржевые облигации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1E74-F4D9-4F2B-86F0-DC5CA1E749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Times New Roman"/>
              </a:rPr>
              <a:t>Фондовая биржа ММВБ</a:t>
            </a:r>
            <a:br>
              <a:rPr sz="3000"/>
            </a:br>
            <a:r>
              <a:rPr b="1" lang="ru-RU" sz="3000" spc="-1" strike="noStrike">
                <a:solidFill>
                  <a:srgbClr val="1d4944"/>
                </a:solidFill>
                <a:latin typeface="Times New Roman"/>
              </a:rPr>
              <a:t>на российском фондовом рынке</a:t>
            </a:r>
            <a:r>
              <a:rPr b="1" lang="ru-RU" sz="2600" spc="-1" strike="noStrike">
                <a:solidFill>
                  <a:srgbClr val="1d4944"/>
                </a:solidFill>
                <a:latin typeface="Microsoft Sans Serif"/>
              </a:rPr>
              <a:t> </a:t>
            </a:r>
            <a:endParaRPr b="1" lang="en-US" sz="26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5076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В 2006 г. доля ФБ ММВБ в обороте российского фондового рынка составила около 90%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Объем торгов за 2006 г. составил 755 млрд. долл., что в 3,3 раза больше объема торгов за 2005 г.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-343080"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Объем торгов за январь-август 2007 г. составил 1 018,2 млрд. долл., что в 2,4 раза больше объема торгов на аналогичную дату 2006 г.</a:t>
            </a: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97" name=""/>
          <p:cNvSpPr/>
          <p:nvPr/>
        </p:nvSpPr>
        <p:spPr>
          <a:xfrm>
            <a:off x="-324000" y="530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08400" y="1628640"/>
          <a:ext cx="413388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8400" y="1628640"/>
                    <a:ext cx="41338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690F-BC05-4430-B1C2-89ABD4661E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Российские депозитарные расписки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148428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1773360"/>
            <a:ext cx="7490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337"/>
                </a:solidFill>
                <a:latin typeface="Times New Roman"/>
              </a:rPr>
              <a:t>Российская депозитарная расписка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 - именная эмиссионная ценная бумага, не имеющая номинальной стоимости, удостоверяющая право собственности на определенное количество акций или облигаций иностранного эмитента (представляемых ценных бумаг) и закрепляющая право ее владельца требовать от эмитента РДР получения взамен РДР соответствующего количества представляемых ценных бумаг и оказания услуг, связанных с осуществлением владельцем российской депозитарной расписки прав, закрепленных представляемыми ценными бумагами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2E1B-6E62-4067-B2B5-2338A441C9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Российские депозитарные расписки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148428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1773360"/>
            <a:ext cx="749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■  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Эмитентом РДР может быть российский депозитарий, соответствующий требованиям, установленным ФСФР. Причем это может быть как кредитная, так и некредитная организация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■  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Предусмотрена возможность выпуска как спонсируемых программ РДР, когда заключается договор между  эмитентом базового актива и российским депозитарием – эмитентом РДР, так и не спонсируемых. В последнем случае представляемые ценные бумаги должны быть включены в листинг зарубежных фондовых бирж, список которых устанавливается ФСФР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4D24-5797-4CBA-ADAC-3FC9543032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1d4944"/>
                </a:solidFill>
                <a:latin typeface="Microsoft Sans Serif"/>
                <a:ea typeface="Times New Roman"/>
              </a:rPr>
              <a:t>Российские депозитарные расписки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8428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1484280"/>
            <a:ext cx="749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РДР – инструмент, интересный многим категориям эмитентов и инвесторов: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  <a:ea typeface="Times New Roman"/>
              </a:rPr>
              <a:t>■ 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Компаниям стран СНГ, прежде всего Казахстана, Узбекистана, Украины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■ 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Зарубежным компаниям, владеющим активами на территории России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■ </a:t>
            </a: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Зарубежным компаниям, имеющим бизнес интересы в России, а значит и потребности в российской валюте для реализации своих бизнес планов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5A0C-D68C-4075-A249-9F9357F0AE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2803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4944"/>
                </a:solidFill>
                <a:latin typeface="Microsoft Sans Serif"/>
              </a:rPr>
              <a:t>Схема выпуска российских депозитарных расписок</a:t>
            </a:r>
            <a:endParaRPr b="1" lang="en-US" sz="24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89856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Garamond"/>
                <a:ea typeface="Arial"/>
              </a:rPr>
              <a:t>Государство СНГ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2000" y="981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Россия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4221000"/>
            <a:ext cx="1655640" cy="36828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Инвесторы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2565360"/>
            <a:ext cx="1871640" cy="36828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Андеррайтер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492280"/>
            <a:ext cx="1728720" cy="36828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ЭМИТЕНТ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195280" y="2708280"/>
            <a:ext cx="431640" cy="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4365720"/>
            <a:ext cx="1224000" cy="64260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Банк кастоди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9" idx="1"/>
            <a:endCxn id="201" idx="1"/>
          </p:cNvCxnSpPr>
          <p:nvPr/>
        </p:nvCxnSpPr>
        <p:spPr>
          <a:xfrm flipH="1" flipV="1" rot="10800000">
            <a:off x="468000" y="2689560"/>
            <a:ext cx="2160" cy="2010600"/>
          </a:xfrm>
          <a:prstGeom prst="bentConnector3">
            <a:avLst>
              <a:gd name="adj1" fmla="val -14400000"/>
            </a:avLst>
          </a:prstGeom>
          <a:ln w="9360">
            <a:solidFill>
              <a:srgbClr val="1d4337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6948360" y="2349360"/>
            <a:ext cx="1800360" cy="91692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Эмитент РДР (депозитарий)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3419640" y="2924280"/>
            <a:ext cx="288720" cy="129672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35280" y="2924280"/>
            <a:ext cx="5113080" cy="1441440"/>
          </a:xfrm>
          <a:prstGeom prst="line">
            <a:avLst/>
          </a:prstGeom>
          <a:ln w="9360">
            <a:solidFill>
              <a:srgbClr val="1d4337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184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Книга заявок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450864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Заявки на приобретение РДР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2997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4337"/>
                </a:solidFill>
                <a:latin typeface="Times New Roman"/>
              </a:rPr>
              <a:t>Выпуск РДР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3141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Перевод базового актива в соответствии с книгой заявок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08720" y="2997000"/>
            <a:ext cx="1798560" cy="1871640"/>
          </a:xfrm>
          <a:prstGeom prst="line">
            <a:avLst/>
          </a:prstGeom>
          <a:ln w="9360">
            <a:solidFill>
              <a:srgbClr val="1d43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2852640"/>
            <a:ext cx="0" cy="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0360" y="5373720"/>
            <a:ext cx="2592360" cy="64260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Расчетно-торговая система ФБ ММВБ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812000" y="5013360"/>
            <a:ext cx="0" cy="21600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96360" y="4221000"/>
            <a:ext cx="1296720" cy="73332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Garamond"/>
                <a:ea typeface="Arial"/>
              </a:rPr>
              <a:t>Расчетный депозитарий(НДЦ)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85080" y="2997360"/>
            <a:ext cx="0" cy="1079280"/>
          </a:xfrm>
          <a:prstGeom prst="line">
            <a:avLst/>
          </a:prstGeom>
          <a:ln w="9360">
            <a:solidFill>
              <a:srgbClr val="1d43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101080" y="5013360"/>
            <a:ext cx="0" cy="21600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364000" y="2997000"/>
            <a:ext cx="2232360" cy="2663640"/>
          </a:xfrm>
          <a:prstGeom prst="line">
            <a:avLst/>
          </a:prstGeom>
          <a:ln w="9360">
            <a:solidFill>
              <a:srgbClr val="1d43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27280" y="2492280"/>
            <a:ext cx="1871640" cy="36828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Андеррайтер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4869000"/>
            <a:ext cx="1655640" cy="36828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Инвесторы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5589720"/>
            <a:ext cx="1655640" cy="368280"/>
          </a:xfrm>
          <a:prstGeom prst="rect">
            <a:avLst/>
          </a:prstGeom>
          <a:solidFill>
            <a:srgbClr val="71ad49"/>
          </a:solidFill>
          <a:ln w="2844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Garamond"/>
                <a:ea typeface="Arial"/>
              </a:rPr>
              <a:t>Инвесторы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203640" y="2924280"/>
            <a:ext cx="503280" cy="216216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916000" y="2923920"/>
            <a:ext cx="647640" cy="266364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508720" y="2997360"/>
            <a:ext cx="1511280" cy="1295280"/>
          </a:xfrm>
          <a:prstGeom prst="line">
            <a:avLst/>
          </a:prstGeom>
          <a:ln w="9360">
            <a:solidFill>
              <a:srgbClr val="1d433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3213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d4337"/>
                </a:solidFill>
                <a:latin typeface="Times New Roman"/>
              </a:rPr>
              <a:t>Счет номинального держания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876720" y="2997360"/>
            <a:ext cx="863640" cy="2232000"/>
          </a:xfrm>
          <a:prstGeom prst="line">
            <a:avLst/>
          </a:prstGeom>
          <a:ln w="9360">
            <a:solidFill>
              <a:srgbClr val="1d43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378936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0360" y="4722480"/>
            <a:ext cx="164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Листинг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7539-5841-4D0B-BAB8-3F42B6ECA8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Контакты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1773360"/>
            <a:ext cx="8282160" cy="39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Адрес</a:t>
            </a: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:</a:t>
            </a: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Москва, Б. Кисловский пер., 13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Телефон</a:t>
            </a: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:</a:t>
            </a: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95) 234-48-1</a:t>
            </a: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Факс</a:t>
            </a: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:</a:t>
            </a: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95) 705-96-22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E-mail:</a:t>
            </a: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savvinov@micex.com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d4337"/>
                </a:solidFill>
                <a:latin typeface="Microsoft Sans Serif"/>
              </a:rPr>
              <a:t>Сайт</a:t>
            </a:r>
            <a:r>
              <a:rPr b="0" lang="en-US" sz="1900" spc="-1" strike="noStrike">
                <a:solidFill>
                  <a:srgbClr val="1d4337"/>
                </a:solidFill>
                <a:latin typeface="Microsoft Sans Serif"/>
              </a:rPr>
              <a:t>:</a:t>
            </a: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Times New Roman"/>
              </a:rPr>
              <a:t>www.micex.ru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4DD0-D9AC-49B1-92B7-6968CC428D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Фондовая биржа ММВБ - рост ликвидности рынка </a:t>
            </a: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(</a:t>
            </a: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среднедневной объем торгов</a:t>
            </a: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)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6237360"/>
            <a:ext cx="3097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0" y="1460520"/>
          <a:ext cx="8964720" cy="46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60520"/>
                    <a:ext cx="896472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BE1E-330F-4973-8049-D741800D54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Фондовая биржа ММВБ: </a:t>
            </a:r>
            <a:br>
              <a:rPr sz="3000"/>
            </a:b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рост количества эмитентов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5661000"/>
            <a:ext cx="381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4337"/>
                </a:solidFill>
                <a:latin typeface="Microsoft Sans Serif"/>
              </a:rPr>
              <a:t>*</a:t>
            </a:r>
            <a:r>
              <a:rPr b="0" lang="ru-RU" sz="1600" spc="-1" strike="noStrike">
                <a:solidFill>
                  <a:srgbClr val="1d4337"/>
                </a:solidFill>
                <a:latin typeface="Microsoft Sans Serif"/>
              </a:rPr>
              <a:t>включая паи ПИФов и еврооблигации РФ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6237360"/>
            <a:ext cx="3097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* Данные на 1 сентября</a:t>
            </a:r>
            <a:r>
              <a:rPr b="0" lang="en-US" sz="1800" spc="-1" strike="noStrike">
                <a:solidFill>
                  <a:srgbClr val="1d4337"/>
                </a:solidFill>
                <a:latin typeface="Times New Roman"/>
              </a:rPr>
              <a:t> 200</a:t>
            </a:r>
            <a:r>
              <a:rPr b="0" lang="ru-RU" sz="1800" spc="-1" strike="noStrike">
                <a:solidFill>
                  <a:srgbClr val="1d4337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6200" y="1557360"/>
          <a:ext cx="4040280" cy="45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6200" y="1557360"/>
                    <a:ext cx="404028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08000" y="1125360"/>
          <a:ext cx="4535280" cy="4138920"/>
        </p:xfrm>
        <a:graphic>
          <a:graphicData uri="http://schemas.openxmlformats.org/drawingml/2006/table">
            <a:tbl>
              <a:tblPr/>
              <a:tblGrid>
                <a:gridCol w="1224000"/>
                <a:gridCol w="792000"/>
                <a:gridCol w="719280"/>
                <a:gridCol w="792000"/>
                <a:gridCol w="1008000"/>
              </a:tblGrid>
              <a:tr h="102456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Эмитенты на ФБ ММВБ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 января 200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 января 2006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 января 200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31 августа 200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Всего эмитентов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41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385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30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637</a:t>
                      </a:r>
                      <a:endParaRPr b="0" lang="en-US" sz="12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Эмитенты акций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8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61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93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97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Эмитенты облигаций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79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45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364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482</a:t>
                      </a:r>
                      <a:endParaRPr b="0" lang="en-US" sz="11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04A6-4B2D-4C33-90C7-DCDEA0F403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46836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Фондовая биржа ММВБ – положение в мире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484280"/>
          <a:ext cx="8137440" cy="4772160"/>
        </p:xfrm>
        <a:graphic>
          <a:graphicData uri="http://schemas.openxmlformats.org/drawingml/2006/table">
            <a:tbl>
              <a:tblPr/>
              <a:tblGrid>
                <a:gridCol w="3036960"/>
                <a:gridCol w="2611440"/>
                <a:gridCol w="2489040"/>
              </a:tblGrid>
              <a:tr h="317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Оборот торгов рынка акций  за январь-июль 200</a:t>
                      </a:r>
                      <a:r>
                        <a:rPr b="1" lang="en-US" sz="16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1d4337"/>
                          </a:solidFill>
                          <a:latin typeface="Times New Roman"/>
                        </a:rPr>
                        <a:t> года и кол-во эмитентов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млрд долл.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число эмитентов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NY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5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750,5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 849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NASDAQ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8</a:t>
                      </a: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34</a:t>
                      </a: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8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 783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London 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6 532,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 615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Tokyo 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3 800,6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 393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Euronext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3 214,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951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Deutsche B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  <a:ea typeface="Microsoft Sans Serif"/>
                        </a:rPr>
                        <a:t>ö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r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 515,4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657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Shanghai 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 349,9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852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Hong Kong Ex&amp;Cl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922,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 198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ФБ 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ММВБ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96,7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96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Singapore Ex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212,6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468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Wiener B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  <a:ea typeface="Microsoft Sans Serif"/>
                        </a:rPr>
                        <a:t>ö</a:t>
                      </a: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r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75,9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10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576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Warsaw SE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872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52,5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576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872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4337"/>
                          </a:solidFill>
                          <a:latin typeface="Microsoft Sans Serif"/>
                        </a:rPr>
                        <a:t>300</a:t>
                      </a:r>
                      <a:endParaRPr b="0" lang="en-US" sz="16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4337"/>
                      </a:solidFill>
                    </a:lnL>
                    <a:lnR w="13680">
                      <a:solidFill>
                        <a:srgbClr val="1d4337"/>
                      </a:solidFill>
                    </a:lnR>
                    <a:lnT w="5760">
                      <a:solidFill>
                        <a:srgbClr val="1d4337"/>
                      </a:solidFill>
                    </a:lnT>
                    <a:lnB w="18720">
                      <a:solidFill>
                        <a:srgbClr val="1d4337"/>
                      </a:solidFill>
                    </a:lnB>
                    <a:solidFill>
                      <a:srgbClr val="ddff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5580000" y="6237360"/>
            <a:ext cx="3097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 Cyr"/>
              </a:rPr>
              <a:t>* 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Данные на 1 марта 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200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0262-630E-4B1B-82F0-27C936A0DE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ФБ ММВБ – инвестиционный характер рынка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24360"/>
          </a:xfrm>
          <a:prstGeom prst="rect">
            <a:avLst/>
          </a:prstGeom>
          <a:noFill/>
          <a:ln w="9360">
            <a:solidFill>
              <a:srgbClr val="1d4337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47040" indent="-347040">
              <a:lnSpc>
                <a:spcPct val="8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Microsoft Sans Serif"/>
              </a:rPr>
              <a:t>Доля нерезидентов</a:t>
            </a:r>
            <a:endParaRPr b="0" lang="en-US" sz="20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Объем торгов нерезидентов вырос с 15,2 % в 2005 г. до 32,0 в июле 2007 г.</a:t>
            </a:r>
            <a:r>
              <a:rPr b="0" lang="ru-RU" sz="1600" spc="-1" strike="noStrike">
                <a:solidFill>
                  <a:srgbClr val="1d4337"/>
                </a:solidFill>
                <a:latin typeface="Microsoft Sans Serif"/>
              </a:rPr>
              <a:t> </a:t>
            </a:r>
            <a:endParaRPr b="0" lang="en-US" sz="16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4337"/>
                </a:solidFill>
                <a:latin typeface="Microsoft Sans Serif"/>
              </a:rPr>
              <a:t>2. Сегмент крупных сделок.</a:t>
            </a:r>
            <a:endParaRPr b="0" lang="en-US" sz="20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Сегмент крупных сделок (свыше 5 млн.руб.) 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275 млрд.руб. или 29,5% от общего оборота торгов на ФБ ММВБ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Средний размер сделки – 11,5 млн.руб.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В 7 раз больше суммарного оборота рынков акций РТС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В 1,3 раза больше оборота биржевого рынка депозитарных расписок на акции российских компаний на </a:t>
            </a:r>
            <a:r>
              <a:rPr b="0" lang="en-US" sz="1800" spc="-1" strike="noStrike">
                <a:solidFill>
                  <a:srgbClr val="1d4337"/>
                </a:solidFill>
                <a:latin typeface="Microsoft Sans Serif"/>
              </a:rPr>
              <a:t>IOB LSE</a:t>
            </a: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 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Сегмент очень крупных сделок (свыше 50 млн.руб.) 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37,2 млрд.руб. или 4,0% общего оборота торгов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Средний размер сделки – 108 млн.руб.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Равен суммарному обороту рынков РТС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-347040">
              <a:lnSpc>
                <a:spcPct val="80000"/>
              </a:lnSpc>
              <a:spcBef>
                <a:spcPts val="451"/>
              </a:spcBef>
              <a:buClr>
                <a:srgbClr val="7a8e32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337"/>
                </a:solidFill>
                <a:latin typeface="Microsoft Sans Serif"/>
              </a:rPr>
              <a:t>Более 17% от суммарного оборота биржевого рынка депозитарных расписок на акции российских компаний на </a:t>
            </a:r>
            <a:r>
              <a:rPr b="0" lang="en-US" sz="1800" spc="-1" strike="noStrike">
                <a:solidFill>
                  <a:srgbClr val="1d4337"/>
                </a:solidFill>
                <a:latin typeface="Microsoft Sans Serif"/>
              </a:rPr>
              <a:t>IOB LSE</a:t>
            </a: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1d4337"/>
                </a:solidFill>
                <a:latin typeface="Microsoft Sans Serif"/>
              </a:rPr>
              <a:t> </a:t>
            </a:r>
            <a:endParaRPr b="0" lang="en-US" sz="900" spc="-1" strike="noStrike">
              <a:solidFill>
                <a:srgbClr val="1d4337"/>
              </a:solidFill>
              <a:latin typeface="Microsoft Sans Serif"/>
            </a:endParaRPr>
          </a:p>
          <a:p>
            <a:pPr marL="347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0A41-9D22-4FD5-98D1-9985E9682C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Способы привлечения инвестиций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2781360"/>
            <a:ext cx="2422800" cy="863640"/>
          </a:xfrm>
          <a:prstGeom prst="rect">
            <a:avLst/>
          </a:prstGeom>
          <a:noFill/>
          <a:ln w="2232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Внутреннее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финансирование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3640" y="2133720"/>
            <a:ext cx="2206440" cy="884160"/>
          </a:xfrm>
          <a:prstGeom prst="rect">
            <a:avLst/>
          </a:prstGeom>
          <a:noFill/>
          <a:ln w="2232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Долговые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инструменты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1628640"/>
            <a:ext cx="2494080" cy="790560"/>
          </a:xfrm>
          <a:prstGeom prst="rect">
            <a:avLst/>
          </a:prstGeom>
          <a:noFill/>
          <a:ln w="22320">
            <a:solidFill>
              <a:srgbClr val="7a8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Акционерный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a8e32"/>
                </a:solidFill>
                <a:latin typeface="Times New Roman"/>
              </a:rPr>
              <a:t>капитал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3640" y="3141720"/>
            <a:ext cx="273672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Кредиты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Векселя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Рублевые     облигации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Еврооблигации и производные </a:t>
            </a: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продукты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2565360"/>
            <a:ext cx="287964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Частное  размещение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Стратегический инвестор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011"/>
                </a:solidFill>
                <a:latin typeface="Times New Roman"/>
              </a:rPr>
              <a:t>IPO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789360"/>
            <a:ext cx="2438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Собственные средства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0011"/>
                </a:solidFill>
                <a:latin typeface="Times New Roman"/>
              </a:rPr>
              <a:t>Капитал    владельцев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3488-61B5-4A45-AFB5-5AD9895047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13000"/>
            <a:ext cx="4716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За 2006 г. размещено 238 выпусков корпоративных облигаций (КО) на общую сумму более 17 млрд. долл.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За 1999 – 2006 гг. размещено 726 выпусков КО 628 компаний на сумму 40 млрд. долл.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Сейчас торгуются 430 КО 316 компаний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Крупнейший выпуск по объему :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Внешторгбанк – 15 млрд. руб.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2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Самый «маленький» по объему :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24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4337"/>
                </a:solidFill>
                <a:latin typeface="Times New Roman"/>
              </a:rPr>
              <a:t>ИС – лизинг – 19 млн. руб.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Рынок корпоративных облигаций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859280" y="1557360"/>
          <a:ext cx="4021200" cy="44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557360"/>
                    <a:ext cx="40212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580000" y="6237360"/>
            <a:ext cx="3097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d4337"/>
                </a:solidFill>
                <a:latin typeface="Times New Roman Cyr"/>
              </a:rPr>
              <a:t>* 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Данные на 1 июля</a:t>
            </a:r>
            <a:r>
              <a:rPr b="0" lang="en-US" sz="1600" spc="-1" strike="noStrike">
                <a:solidFill>
                  <a:srgbClr val="1d4337"/>
                </a:solidFill>
                <a:latin typeface="Times New Roman"/>
              </a:rPr>
              <a:t> 200</a:t>
            </a:r>
            <a:r>
              <a:rPr b="0" lang="ru-RU" sz="1600" spc="-1" strike="noStrike">
                <a:solidFill>
                  <a:srgbClr val="1d4337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0FDD-5E67-48D2-8BAD-CEC7038FCE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4944"/>
                </a:solidFill>
                <a:latin typeface="Microsoft Sans Serif"/>
              </a:rPr>
              <a:t>IPO - </a:t>
            </a: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выбор торговой площадки: </a:t>
            </a:r>
            <a:br>
              <a:rPr sz="3000"/>
            </a:br>
            <a:r>
              <a:rPr b="1" lang="ru-RU" sz="3000" spc="-1" strike="noStrike">
                <a:solidFill>
                  <a:srgbClr val="1d4944"/>
                </a:solidFill>
                <a:latin typeface="Microsoft Sans Serif"/>
              </a:rPr>
              <a:t>Позиция эмитента</a:t>
            </a:r>
            <a:endParaRPr b="1" lang="en-US" sz="3000" spc="-1" strike="noStrike">
              <a:solidFill>
                <a:srgbClr val="1d4944"/>
              </a:solidFill>
              <a:latin typeface="Microsoft Sans Serif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4944"/>
                </a:solidFill>
                <a:latin typeface="Times New Roman"/>
              </a:rPr>
              <a:t>Факторы выбора</a:t>
            </a:r>
            <a:r>
              <a:rPr b="0" lang="ru-RU" sz="2800" spc="-1" strike="noStrike">
                <a:solidFill>
                  <a:srgbClr val="1d494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944"/>
                </a:solidFill>
                <a:latin typeface="Times New Roman"/>
              </a:rPr>
              <a:t>Технология размещения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Размер сделки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Целевая инвесторская база 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Критическая масса ликвидности 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Законодательство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Требования листинга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Издержки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71ad4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4337"/>
                </a:solidFill>
                <a:latin typeface="Times New Roman"/>
              </a:rPr>
              <a:t>Исторический опыт</a:t>
            </a:r>
            <a:endParaRPr b="0" lang="en-US" sz="2800" spc="-1" strike="noStrike">
              <a:solidFill>
                <a:srgbClr val="1d4337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B9E4-539C-4487-98F3-5BE9A51DEF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2:46:37Z</dcterms:created>
  <dc:creator>User</dc:creator>
  <dc:description/>
  <dc:language>en-US</dc:language>
  <cp:lastModifiedBy>Juassov</cp:lastModifiedBy>
  <dcterms:modified xsi:type="dcterms:W3CDTF">2007-09-24T07:12:50Z</dcterms:modified>
  <cp:revision>119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51049</vt:lpwstr>
  </property>
</Properties>
</file>