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DE0-6A43-45BE-8A07-0B737979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396432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63F-A6DD-4EA0-B93B-40868DED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60020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396432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396432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DF3-F17B-440A-A034-7568E6F5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2E6-5E63-46CB-8B78-297FC40F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600200"/>
            <a:ext cx="90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D73-6E2B-42A0-B0B3-DD663860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907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D70-4F7A-4664-A68E-2E35D111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44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600200"/>
            <a:ext cx="44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A4C-28D5-4516-B931-3BF28104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BF74-5A5D-432C-9DC3-58E80C2E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6840" y="-12960"/>
            <a:ext cx="907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EAD-2F2A-4968-85F1-BF7B5702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600200"/>
            <a:ext cx="44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396432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D7EE-563F-4568-B6AB-A086F2C8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44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60020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396432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054-1636-4CD4-AE0F-826E0CBC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60020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396432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D3E-8EE1-4B59-B57C-259A2FCC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840" y="-12960"/>
            <a:ext cx="907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600200"/>
            <a:ext cx="907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244920"/>
            <a:ext cx="2351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244920"/>
            <a:ext cx="31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244920"/>
            <a:ext cx="2352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0F1B-D275-4E60-B5A8-E4E7372215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061640" y="6205680"/>
            <a:ext cx="8853480" cy="0"/>
          </a:xfrm>
          <a:prstGeom prst="line">
            <a:avLst/>
          </a:prstGeom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68640" y="0"/>
            <a:ext cx="0" cy="617076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9560" cy="573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78320" y="3676680"/>
            <a:ext cx="4764240" cy="2489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44640" y="1413000"/>
            <a:ext cx="733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Palatino Linotype"/>
              </a:rPr>
              <a:t>I</a:t>
            </a:r>
            <a:r>
              <a:rPr b="1" lang="ru-RU" sz="2400" spc="-1" strike="noStrike">
                <a:solidFill>
                  <a:srgbClr val="000066"/>
                </a:solidFill>
                <a:latin typeface="Palatino Linotype"/>
              </a:rPr>
              <a:t> ЕЖЕГОДНАЯ КОНФЕРЕНЦИЯ КАЗАХСТАНСКОЙ ФОНДОВОЙ БИРЖИ ПО ФИНАНСОВОМУ РЫ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Palatino Linotype"/>
              </a:rPr>
              <a:t>Коллективное инвест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Palatino Linotype"/>
              </a:rPr>
              <a:t>ОБЗОР РЫНКА ПАЕВЫХ ИНВЕСТИЦИОННЫХ ФОН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205680" y="404640"/>
            <a:ext cx="3709800" cy="43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01600" y="966960"/>
          <a:ext cx="9677520" cy="5846760"/>
        </p:xfrm>
        <a:graphic>
          <a:graphicData uri="http://schemas.openxmlformats.org/drawingml/2006/table">
            <a:tbl>
              <a:tblPr/>
              <a:tblGrid>
                <a:gridCol w="349200"/>
                <a:gridCol w="1776600"/>
                <a:gridCol w="1977840"/>
                <a:gridCol w="1646280"/>
                <a:gridCol w="1314360"/>
                <a:gridCol w="1441440"/>
                <a:gridCol w="1171800"/>
              </a:tblGrid>
              <a:tr h="48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  </a:t>
                      </a: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ПИ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  </a:t>
                      </a: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Управляющая комп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Тип фон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Стоимость П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Стоимость П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Прирост стоимости П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на 31.12.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на 31.08.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Даму Инв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ОРДА Капит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откры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8 523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4 24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67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Фавори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REAL-INVEST.k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44 501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81 903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25.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Наси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Алматы Инвестмент Менеджме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93 941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11 561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8.7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RESMI Монетный дв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ФД RES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28 565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48 253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5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Казы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Алматы Инвестмент Менеджме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откры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49 957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54 661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9.4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HALYK - Привиле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Halyk Fin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 063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 153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8.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БТА Доход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ТуранАлем Секьюрит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откры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 678 686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 815 586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8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БТА Сбалансирова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ТуранАлем Секьюрит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14 205.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23 210.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7.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Казначей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Сентрас Секьюрити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откры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31 011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40 057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6.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Альтернатива депозитам – весна-ос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Казкоммерц Инв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42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7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5.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Навигатор - А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ДЕЛЬТА-ИНВ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10 877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16 422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5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Алмазный Д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Asia Broker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 101.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 156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4.9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зумрудный Д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Asia Broker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откры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 048.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 088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3.8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Навигатор - Облигации и денежный рын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ДЕЛЬТА-ИНВ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откры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10 944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14 918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3.5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216000" y="71280"/>
            <a:ext cx="9583560" cy="765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РЕЙТИНГ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ПИФ по доходности с начала года </a:t>
            </a: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(по данным 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bo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76120" y="957240"/>
          <a:ext cx="9528120" cy="5784480"/>
        </p:xfrm>
        <a:graphic>
          <a:graphicData uri="http://schemas.openxmlformats.org/drawingml/2006/table">
            <a:tbl>
              <a:tblPr/>
              <a:tblGrid>
                <a:gridCol w="436680"/>
                <a:gridCol w="2502000"/>
                <a:gridCol w="1984320"/>
                <a:gridCol w="1349280"/>
                <a:gridCol w="1271520"/>
                <a:gridCol w="1111320"/>
                <a:gridCol w="873000"/>
              </a:tblGrid>
              <a:tr h="3711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  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  </a:t>
                      </a: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ПИ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  </a:t>
                      </a: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Управляющая комп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Тип фон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Соимость па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Прирост стоимости П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31.07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н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31.08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lobal Fin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Цесна Капит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28 511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30 81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7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авори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AL-INVEST.k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79 820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81 903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MI Монетный дв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ФД RES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7 038.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8 253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.8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зы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лматы Инвестмент Менеджме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крыты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4 293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4 661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.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значей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ентрас Секьюрити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крыты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39 261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0 057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.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аму Инв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РДА Капит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крыты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 172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 24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.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ТА Доход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уранАлем Секьюрит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крыты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817 276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815 586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ИТ Фортис – Фонд сбалансированный консерватив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ИТ Фортис Инвестмент Менеджме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9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вигатор - Облигации 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нежный рын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ЛЬТА-ИНВ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крыты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15 277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14 918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0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си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лматы Инвестмент Менеджме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12 016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11 561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0.4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ТА Сбалансирова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уранАлем Секьюрит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23 728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23 210.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0.4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льтернатива депозитам 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есна-ос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зкоммерц Инв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7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7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0.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аворит - Колле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AL-INVEST.k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 325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 193.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зумрудный Д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ia Broker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крыты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120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088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2.8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LYK - Привиле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lyk Fin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187.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153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2.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лмазный Д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ia Broker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192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156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3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вигатор - А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ЛЬТА-ИНВ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20 649.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16 422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3.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ЦентрКредит - Чемпи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CC Inv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9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9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5.4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16000" y="71280"/>
            <a:ext cx="9583560" cy="765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РЕЙТИНГ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ПИФ по доходности за август 2007 года </a:t>
            </a: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(по данным 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bo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176960" y="6308640"/>
            <a:ext cx="2627280" cy="303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15880" y="5734080"/>
            <a:ext cx="1728720" cy="915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96984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6120" y="333360"/>
            <a:ext cx="958392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ИСТОРИЯ РОССИЙСКИХ ПАЕВЫХ ИНВЕСТИЦИОННЫХ ФОН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54160" y="1557360"/>
            <a:ext cx="770580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11 летняя история существования фон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Первые фонды появились после выхода  закона  «О        рынке ценных бумаг» от 22 апреля 1996 года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Закон «Об инвестиционных фондах» принят 29 ноября 200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416 Управляющих компаний , 841 ПИ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Детализированное законод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Биржевые прода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Агентские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98360" y="836640"/>
          <a:ext cx="9605880" cy="5932440"/>
        </p:xfrm>
        <a:graphic>
          <a:graphicData uri="http://schemas.openxmlformats.org/drawingml/2006/table">
            <a:tbl>
              <a:tblPr/>
              <a:tblGrid>
                <a:gridCol w="1111320"/>
                <a:gridCol w="1231920"/>
                <a:gridCol w="1241280"/>
                <a:gridCol w="1241640"/>
                <a:gridCol w="1365120"/>
                <a:gridCol w="238320"/>
                <a:gridCol w="795240"/>
                <a:gridCol w="199800"/>
                <a:gridCol w="592200"/>
                <a:gridCol w="954360"/>
                <a:gridCol w="634680"/>
              </a:tblGrid>
              <a:tr h="3682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ЧА Фондов (млн.р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ичество фон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ип фон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ткрыт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терваль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крыт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тк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тер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к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кции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6 2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 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3 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9 933 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3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2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3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8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лиг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 8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38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 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8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мешан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2 8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9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5 5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0 3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8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9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71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декс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63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6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7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5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6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енежный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3 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3 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онд фондов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1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0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едвижимость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е предусмотр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конодатель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4 1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4 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е предусмотр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конодатель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38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38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потечный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6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6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енчу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 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 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7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7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ямых инвести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8 803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8 8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9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3 86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80 4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53 8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95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3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53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41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2320200" y="260280"/>
            <a:ext cx="49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Статистика паевых  фондо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9120" y="0"/>
            <a:ext cx="958392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СОСТОЯНИЕ РОССИЙСКОГО РЫНКА НА 01.09.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176960" y="6308640"/>
            <a:ext cx="2627280" cy="303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15880" y="5734080"/>
            <a:ext cx="1728720" cy="9158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6984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6120" y="333360"/>
            <a:ext cx="958392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ТИПЫ РОССИЙСКИХ ПАЕВЫХ ИНВЕСТИЦИОННЫХ ФОН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5880" y="1455840"/>
            <a:ext cx="934416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Открытые, интервальные , закрытые фонды облига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Открытые, интервальные, закрытые фонды смешанных инвести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Открытые, интервальные, закрытые фонды ак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Открытые, интервальные, закрытые фонды фон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Открытые, интервальные, закрытые фонды денежного ры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Открытые, интервальные, закрытые  индексные фон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Закрытые фонды недвиж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Закрытые фонды венчурных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Закрытые фонды прямых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Закрытые ипотечные фон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176960" y="6308640"/>
            <a:ext cx="2627280" cy="303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15880" y="5734080"/>
            <a:ext cx="1728720" cy="9158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96984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6120" y="333360"/>
            <a:ext cx="958392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ПРОБЛЕМЫ И ПЕРСП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5880" y="1557360"/>
            <a:ext cx="45244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СИЛЬНЫЕ СТ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строгий контроль государственного регулирующего орга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наличие специальной контролирующей структуры -специализированного  депозитар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возможность вложений, как для крупных, так и для мелких инвесто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доступность инструментов и сравнительно небольшие издержки на в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40360" y="1557360"/>
            <a:ext cx="4537080" cy="36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ЛАБЫЕ СТ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низкий уровень финансовой грамот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недостаток широкой информационной поддержки, как для участников, так и для инвесто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несовершенство законодатель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небольшая история ПИФ-ов – ещё не прошли проверку на проч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высокий порог вхождения в ПИФ-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слабое развитие в регион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отсутствие биржевых прода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176960" y="6308640"/>
            <a:ext cx="2627280" cy="303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15880" y="5734080"/>
            <a:ext cx="1728720" cy="915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6984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6120" y="333360"/>
            <a:ext cx="958392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ПРОБЛЕМЫ И ПЕРСП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5880" y="1557360"/>
            <a:ext cx="45244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ВО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перспективы роста казахстанского фондового рын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колоссальный объем средств, остающихся на руках у населения (наличные сбережения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политика государства в области популяризации РЦБ среди насел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усиление конкуренции У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налаживание реальных процессов интермедиации в эконом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40360" y="1557360"/>
            <a:ext cx="4537080" cy="15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переток казахстанских эмитентов на западные фондовые рын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кризис фондового ры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16000" y="404640"/>
            <a:ext cx="4537080" cy="482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727280" y="2590920"/>
            <a:ext cx="68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76360" y="4653000"/>
            <a:ext cx="288432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76120" y="333360"/>
            <a:ext cx="958392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094520" y="6308640"/>
            <a:ext cx="2625840" cy="303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95440" y="1628640"/>
            <a:ext cx="587376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Казахстан, г. Алмат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050060 ул. Хусаинова, 28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Тел.:  (327) 299-10-50, 249-46-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Факс: (327) 299-10-2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e-mail</a:t>
            </a: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info</a:t>
            </a: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@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tas</a:t>
            </a: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k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http</a:t>
            </a: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://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www</a:t>
            </a: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tas</a:t>
            </a: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k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904000" y="3313080"/>
            <a:ext cx="288432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5880" y="5734080"/>
            <a:ext cx="1728720" cy="915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6984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205680" y="404640"/>
            <a:ext cx="3709800" cy="43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69840" y="1268280"/>
            <a:ext cx="5235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История ПИФ-ов в Р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зор ры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остояние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равнитель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ей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зор ПИФ-о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роблемы и персп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5880" y="836640"/>
            <a:ext cx="0" cy="4680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76960" y="6308640"/>
            <a:ext cx="2627280" cy="303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5880" y="5734080"/>
            <a:ext cx="1728720" cy="915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984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6120" y="208080"/>
            <a:ext cx="9583920" cy="1147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ИСТОРИЯ ПАЕВЫХ ИНВЕСТИЦИОННЫХ ФОНДОВ РК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(на 01 январ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320840" y="1700280"/>
            <a:ext cx="8424360" cy="4320720"/>
            <a:chOff x="1320840" y="1700280"/>
            <a:chExt cx="8424360" cy="4320720"/>
          </a:xfrm>
        </p:grpSpPr>
        <p:sp>
          <p:nvSpPr>
            <p:cNvPr id="57" name=""/>
            <p:cNvSpPr/>
            <p:nvPr/>
          </p:nvSpPr>
          <p:spPr>
            <a:xfrm>
              <a:off x="1467720" y="1700280"/>
              <a:ext cx="117216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67720" y="2538720"/>
              <a:ext cx="116892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2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0840" y="3278880"/>
              <a:ext cx="1317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200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93560" y="4110840"/>
              <a:ext cx="124524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2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67720" y="4940640"/>
              <a:ext cx="1173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87120" y="1782360"/>
              <a:ext cx="673956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Закон РК«Об инвестиционных фондах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85680" y="2613960"/>
              <a:ext cx="695952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 УК 2 ЗПИФР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85680" y="3278880"/>
              <a:ext cx="60066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ookman Old Style"/>
                </a:rPr>
                <a:t>14 УК 46 ПИФов открытые 5 интервальные 6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ookman Old Style"/>
                </a:rPr>
                <a:t>закрытые 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85680" y="4109040"/>
              <a:ext cx="527328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ookman Old Style"/>
                </a:rPr>
                <a:t>21 УК 86 ПИФов открытые 9 интервальные 10 закрытые 6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85680" y="5189400"/>
              <a:ext cx="60066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0" y="283680"/>
            <a:ext cx="45450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Состояние рынка </a:t>
            </a:r>
            <a:endParaRPr b="1" lang="en-US" sz="20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08440" y="3457440"/>
          <a:ext cx="521028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8440" y="3457440"/>
                    <a:ext cx="52102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616720" y="6054840"/>
            <a:ext cx="20383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Bookman Old Style"/>
              </a:rPr>
              <a:t>Закрытые ПИФ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3720" y="3762360"/>
            <a:ext cx="1909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Bookman Old Style"/>
              </a:rPr>
              <a:t>Открытые ПИФ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51920" y="3697200"/>
            <a:ext cx="23727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Bookman Old Style"/>
              </a:rPr>
              <a:t>Интервальные ПИФ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42000" y="2997360"/>
            <a:ext cx="30510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man Old Style"/>
              </a:rPr>
              <a:t>Доли ПИФов по типа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87280" y="3284640"/>
          <a:ext cx="3825720" cy="1871640"/>
        </p:xfrm>
        <a:graphic>
          <a:graphicData uri="http://schemas.openxmlformats.org/drawingml/2006/table">
            <a:tbl>
              <a:tblPr/>
              <a:tblGrid>
                <a:gridCol w="2492280"/>
                <a:gridCol w="1333440"/>
              </a:tblGrid>
              <a:tr h="345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ип фон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крыт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ткрыт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терваль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569880" y="1754280"/>
            <a:ext cx="2857680" cy="933480"/>
          </a:xfrm>
          <a:prstGeom prst="ellipse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Bookman Old Style"/>
              </a:rPr>
              <a:t>26 управляющих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Bookman Old Style"/>
              </a:rPr>
              <a:t>компа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64360" y="1751040"/>
            <a:ext cx="2860560" cy="936720"/>
          </a:xfrm>
          <a:prstGeom prst="ellipse">
            <a:avLst/>
          </a:prstGeom>
          <a:solidFill>
            <a:srgbClr val="bbe0e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900" spc="-1" strike="noStrike">
                <a:solidFill>
                  <a:srgbClr val="003366"/>
                </a:solidFill>
                <a:latin typeface="Bookman Old Style"/>
              </a:rPr>
              <a:t>155 ПИФ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0960" y="515772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man Old Style"/>
              </a:rPr>
              <a:t>По данным АФ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9120" y="284040"/>
            <a:ext cx="958392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СОСТОЯНИЕ КАЗАХСТАНСКОГО РЫНКА НА 01.09.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76120" y="1557360"/>
          <a:ext cx="9447480" cy="3956040"/>
        </p:xfrm>
        <a:graphic>
          <a:graphicData uri="http://schemas.openxmlformats.org/drawingml/2006/table">
            <a:tbl>
              <a:tblPr/>
              <a:tblGrid>
                <a:gridCol w="3017880"/>
                <a:gridCol w="3194280"/>
                <a:gridCol w="323532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имальный входной порог от 10 000 – 100 000 тен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имальный входной порог от 100 000 – 300 000 тен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имальный входной порог от 300 000  тенге и выш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аксимальный порог – 13 млн тен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 фон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 фон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9 фон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и открытых фон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фо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фо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и интервальных фон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фо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фон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фо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и  закрытых фон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фон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фо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4 фо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76120" y="260280"/>
            <a:ext cx="958392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СРАВНИТЕЛЬНЫЕ ДАННЫЕ ПО МИНИМАЛЬНОМУ ВХОДНОМУ ПОРОГУ В ПИФЫ Р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31840" y="-123120"/>
            <a:ext cx="22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840" y="-123120"/>
            <a:ext cx="22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1840" y="-123120"/>
            <a:ext cx="22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1840" y="-123120"/>
            <a:ext cx="22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1840" y="-123120"/>
            <a:ext cx="22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1840" y="-123120"/>
            <a:ext cx="22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29040" y="17784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3240" y="17784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59240" y="177840"/>
            <a:ext cx="6840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3440" y="17784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7640" y="17784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177840"/>
            <a:ext cx="68436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7480" y="17784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680" y="17784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840" y="177840"/>
            <a:ext cx="1584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77840"/>
            <a:ext cx="1584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29040" y="147600"/>
            <a:ext cx="685800" cy="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3240" y="147600"/>
            <a:ext cx="685800" cy="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59240" y="147600"/>
            <a:ext cx="684000" cy="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3440" y="147600"/>
            <a:ext cx="685800" cy="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87640" y="147600"/>
            <a:ext cx="685800" cy="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147600"/>
            <a:ext cx="684360" cy="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7480" y="147600"/>
            <a:ext cx="685800" cy="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680" y="147600"/>
            <a:ext cx="685800" cy="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7600"/>
            <a:ext cx="31680" cy="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29040" y="13320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3240" y="13320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59240" y="133200"/>
            <a:ext cx="6840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3440" y="13320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87640" y="13320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133200"/>
            <a:ext cx="68436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7480" y="13320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680" y="13320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840" y="133200"/>
            <a:ext cx="1584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3200"/>
            <a:ext cx="1584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29040" y="103320"/>
            <a:ext cx="685800" cy="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43240" y="103320"/>
            <a:ext cx="685800" cy="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59240" y="103320"/>
            <a:ext cx="684000" cy="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3440" y="103320"/>
            <a:ext cx="685800" cy="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87640" y="103320"/>
            <a:ext cx="685800" cy="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103320"/>
            <a:ext cx="684360" cy="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7480" y="103320"/>
            <a:ext cx="685800" cy="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680" y="103320"/>
            <a:ext cx="685800" cy="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03320"/>
            <a:ext cx="31680" cy="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29040" y="8892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43240" y="8892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59240" y="88920"/>
            <a:ext cx="6840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3440" y="8892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87640" y="8892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88920"/>
            <a:ext cx="68436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7480" y="8892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680" y="8892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840" y="88920"/>
            <a:ext cx="1584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8920"/>
            <a:ext cx="1584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840" y="73080"/>
            <a:ext cx="1584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3080"/>
            <a:ext cx="1584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29040" y="44280"/>
            <a:ext cx="6858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3240" y="44280"/>
            <a:ext cx="6858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59240" y="44280"/>
            <a:ext cx="6840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3440" y="44280"/>
            <a:ext cx="6858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87640" y="44280"/>
            <a:ext cx="6858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4280"/>
            <a:ext cx="68436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680" y="44280"/>
            <a:ext cx="6858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29040" y="30240"/>
            <a:ext cx="685800" cy="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43240" y="30240"/>
            <a:ext cx="685800" cy="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9240" y="30240"/>
            <a:ext cx="684000" cy="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3440" y="30240"/>
            <a:ext cx="685800" cy="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87640" y="30240"/>
            <a:ext cx="685800" cy="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30240"/>
            <a:ext cx="684360" cy="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7480" y="30240"/>
            <a:ext cx="685800" cy="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680" y="30240"/>
            <a:ext cx="685800" cy="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316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92240"/>
            <a:ext cx="5514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0" cy="192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0"/>
            <a:ext cx="0" cy="192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11440" y="177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11440" y="177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01600" y="1289160"/>
          <a:ext cx="9677520" cy="2280960"/>
        </p:xfrm>
        <a:graphic>
          <a:graphicData uri="http://schemas.openxmlformats.org/drawingml/2006/table">
            <a:tbl>
              <a:tblPr/>
              <a:tblGrid>
                <a:gridCol w="1166760"/>
                <a:gridCol w="959040"/>
                <a:gridCol w="1164960"/>
                <a:gridCol w="1108080"/>
                <a:gridCol w="1025640"/>
                <a:gridCol w="1081080"/>
                <a:gridCol w="1076400"/>
                <a:gridCol w="1050840"/>
                <a:gridCol w="1044720"/>
              </a:tblGrid>
              <a:tr h="3366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Тип фон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01.10.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01.01.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01.04.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01.07.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01.10.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01.01.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01.04.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01.07.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Закрытые  фон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0 5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1 2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4 7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6 4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20 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45 8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61 5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Открытые фон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5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7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 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 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9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 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 71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Интервальные  фон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3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4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8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 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 4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2 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1 2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2 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6 3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8 3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22 2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48 6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65 3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90 8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74680" y="3429000"/>
          <a:ext cx="564336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3429000"/>
                    <a:ext cx="564336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8322840" y="61740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en-US" sz="1600" spc="-1" strike="noStrike" u="sng">
                <a:solidFill>
                  <a:srgbClr val="333399"/>
                </a:solidFill>
                <a:uFillTx/>
                <a:latin typeface="Garamond"/>
              </a:rPr>
              <a:t>(млн.тенг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1600" y="4443480"/>
            <a:ext cx="3614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Bookman Old Style"/>
              </a:rPr>
              <a:t>Совокупные активы паевых инвестиционных фондов по состоянию на 1 июля текущего года составили </a:t>
            </a:r>
            <a:r>
              <a:rPr b="1" lang="en-US" sz="1400" spc="-1" strike="noStrike" u="sng">
                <a:solidFill>
                  <a:srgbClr val="003366"/>
                </a:solidFill>
                <a:uFillTx/>
                <a:latin typeface="Bookman Old Style"/>
              </a:rPr>
              <a:t>90834</a:t>
            </a:r>
            <a:r>
              <a:rPr b="1" lang="en-US" sz="1400" spc="-1" strike="noStrike">
                <a:solidFill>
                  <a:srgbClr val="003366"/>
                </a:solidFill>
                <a:latin typeface="Bookman Old Style"/>
              </a:rPr>
              <a:t> млн. тенге, увеличившись за период с 1 апреля 2007 года на 25 447 млн. тенге или на 38,92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9520" y="163440"/>
            <a:ext cx="958392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СОСТОЯНИЕ КАЗАХСТАНСКОГО РЫНК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АКТИВЫ ПИФОВ (МЛН. ТЕНГ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00160" y="1052640"/>
          <a:ext cx="9531360" cy="5700600"/>
        </p:xfrm>
        <a:graphic>
          <a:graphicData uri="http://schemas.openxmlformats.org/drawingml/2006/table">
            <a:tbl>
              <a:tblPr/>
              <a:tblGrid>
                <a:gridCol w="2273040"/>
                <a:gridCol w="1613160"/>
                <a:gridCol w="733320"/>
                <a:gridCol w="1098360"/>
                <a:gridCol w="1057320"/>
                <a:gridCol w="744480"/>
                <a:gridCol w="835200"/>
                <a:gridCol w="1176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Паевый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Инвестиционный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Фон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Управляющая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Комп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Min,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тыс.тенг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Стоимость пая, тыс.тенг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Рост стоимости пая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01/01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01/09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с нач.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с 01/01/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ИПИФ"Насип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Алматы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Инвестмент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Менедж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50,0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11,5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0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8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22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Фавор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Real-Inv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5,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81,9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25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73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БТА Доход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ТуранАлем Секьюрити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145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815,8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0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8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58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Альтернатива депози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Казкоммерц инв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5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0,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0,00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1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44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Монетный дв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ИФД Res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2,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48,2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0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5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43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Казначе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Сентрас Секьюрити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12,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40,0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0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6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24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БТА Сбаланс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ТуранАлем Секьюрити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5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2,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23,2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0,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7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20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Алмазный д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Asia Broker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,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3,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4,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Изумрудный д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Asia Broker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,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2,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3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Навигатор-А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Дельта-Инв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16,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Навигатор-Облигации и денежный ры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Дельта-Инв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14,9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1,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3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1228680" y="276120"/>
            <a:ext cx="79390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Bookman Old Styl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0160" y="162000"/>
            <a:ext cx="958356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СОСТОЯНИЕ ОТКРЫТЫХ И ИНТЕРВАЛЬНЫХ ПИФОВ, ПРОРАБОТАВШИХ БОЛЕЕ ГОДА НА 01.09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495360" y="1353960"/>
          <a:ext cx="9070920" cy="1171800"/>
        </p:xfrm>
        <a:graphic>
          <a:graphicData uri="http://schemas.openxmlformats.org/drawingml/2006/table">
            <a:tbl>
              <a:tblPr/>
              <a:tblGrid>
                <a:gridCol w="9070920"/>
              </a:tblGrid>
              <a:tr h="117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онды/УК</a:t>
                      </a:r>
                      <a:br>
                        <a:rPr sz="1100"/>
                      </a:br>
                      <a:r>
                        <a:rPr b="1" lang="ru-RU" sz="1200" spc="-1" strike="noStrike">
                          <a:solidFill>
                            <a:srgbClr val="cd3700"/>
                          </a:solidFill>
                          <a:latin typeface="Bookman Old Style"/>
                        </a:rPr>
                        <a:t>БТА Доходный -ТуранАлем Секьюритис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ff69b4"/>
                          </a:solidFill>
                          <a:latin typeface="Bookman Old Style"/>
                        </a:rPr>
                        <a:t>Изумрудный Дом –</a:t>
                      </a:r>
                      <a:r>
                        <a:rPr b="1" lang="en-US" sz="1200" spc="-1" strike="noStrike">
                          <a:solidFill>
                            <a:srgbClr val="ff69b4"/>
                          </a:solidFill>
                          <a:latin typeface="Bookman Old Style"/>
                        </a:rPr>
                        <a:t>Asia Brocer Services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ffa500"/>
                          </a:solidFill>
                          <a:latin typeface="Bookman Old Style"/>
                        </a:rPr>
                        <a:t>Казначейство –Сентр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cc00"/>
                          </a:solidFill>
                          <a:latin typeface="Bookman Old Style"/>
                        </a:rPr>
                        <a:t>Казына   АИМ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6600cc"/>
                          </a:solidFill>
                          <a:latin typeface="Bookman Old Style"/>
                        </a:rPr>
                        <a:t>Навигатор - Облигации и денежный рынок -Дельта Инв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22280" y="2693880"/>
            <a:ext cx="8796240" cy="3946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22280" y="260280"/>
            <a:ext cx="9583560" cy="109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СРАВНИТЕЛЬНЫЕ ДАННЫЕ СУММ ЧИСТЫХ АКТИВОВ В УПРАВЛЕНИИ ПО ФОНДАМ ОТКРЫТОГО ТИПА ДАННЫЕ ЗА ПЕРИОД С 01.01.07 ПО 01.09.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95360" y="1353960"/>
          <a:ext cx="9070920" cy="1186200"/>
        </p:xfrm>
        <a:graphic>
          <a:graphicData uri="http://schemas.openxmlformats.org/drawingml/2006/table">
            <a:tbl>
              <a:tblPr/>
              <a:tblGrid>
                <a:gridCol w="907092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онды/У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d3700"/>
                          </a:solidFill>
                          <a:latin typeface="Bookman Old Style"/>
                        </a:rPr>
                        <a:t>БТА Доходный -ТуранАлем Секьюритис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ff69b4"/>
                          </a:solidFill>
                          <a:latin typeface="Bookman Old Style"/>
                        </a:rPr>
                        <a:t>Изумрудный Дом - </a:t>
                      </a:r>
                      <a:r>
                        <a:rPr b="1" lang="en-US" sz="1200" spc="-1" strike="noStrike">
                          <a:solidFill>
                            <a:srgbClr val="ff69b4"/>
                          </a:solidFill>
                          <a:latin typeface="Bookman Old Style"/>
                        </a:rPr>
                        <a:t>Asia Brocer Service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ffa500"/>
                          </a:solidFill>
                          <a:latin typeface="Bookman Old Style"/>
                        </a:rPr>
                        <a:t>Казначейство -Сентрас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99cc00"/>
                          </a:solidFill>
                          <a:latin typeface="Bookman Old Style"/>
                        </a:rPr>
                        <a:t>Казына А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cc"/>
                          </a:solidFill>
                          <a:latin typeface="Bookman Old Style"/>
                        </a:rPr>
                        <a:t>Навигатор - Облигации и денежный рынок -Дельта Инв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22280" y="2781360"/>
            <a:ext cx="9016920" cy="3946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16000" y="260280"/>
            <a:ext cx="9583560" cy="109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СРАВНИТЕЛЬНЫЕ ДАННЫЕ РСП ПО ФОНДАМ ОТКРЫТОГО ТИПА ДАННЫЕ ЗА ПЕРИОД С 01.01.07 ПО 01.09.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07:02:07Z</dcterms:created>
  <dc:creator>ruslan yegembayev</dc:creator>
  <dc:description/>
  <dc:language>en-US</dc:language>
  <cp:lastModifiedBy>Juassov</cp:lastModifiedBy>
  <dcterms:modified xsi:type="dcterms:W3CDTF">2007-09-24T07:15:57Z</dcterms:modified>
  <cp:revision>757</cp:revision>
  <dc:subject/>
  <dc:title>Результаты деятельности ТуранАлем Секьюритис (2003 – 1H04)</dc:title>
</cp:coreProperties>
</file>