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A1A-38BD-4BC8-89A6-22D6DE1E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58F-9ADD-4A09-B5A9-40C84369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766-38C9-421C-8EF8-B807513C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5EF-022E-4344-A8B7-281E1B3E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7EE-0222-453A-9C18-F4DA458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C77-31FF-42D1-BB10-3014280F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53B-9E5B-45A4-98B8-58EB4AA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505-267F-4860-9D17-4FC2468D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548-E21E-464E-A7E1-DB4CFDD5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AF7-18DE-49EF-8B5C-E67AC1D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D5A-3515-45A9-BAA8-5A7B343C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989-63C7-4458-B31E-ACE5537C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D84E-E573-4883-9510-098ED622A8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mailto:dnurpeissov@rfca.kz" TargetMode="External"/><Relationship Id="rId4" Type="http://schemas.openxmlformats.org/officeDocument/2006/relationships/hyperlink" Target="mailto:ka@rfca.kz" TargetMode="External"/><Relationship Id="rId5" Type="http://schemas.openxmlformats.org/officeDocument/2006/relationships/hyperlink" Target="mailto:dzhumagaliyeva@rfca.kz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РФЦА – стратегия, перспективы и первые результаты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602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ОНАЛЬНЫЙ ФИНАНСОВЫЙ ЦЕНТР ГОРОДА АЛМ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09300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-1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нтября 2007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40720" y="609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ык-Ку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ИЗАЦИЯ ЦЕННЫХ БУМАГ НА СТП РФ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916280"/>
          <a:ext cx="835164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916280"/>
                    <a:ext cx="83516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332000" y="2349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DA0-29C4-4989-BDAA-CC7C1B68D6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ПРОГРАММА РАЗВИ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РФЦА ДО 2010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CA3-DE47-4AF4-B75D-B6D7EA09C8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ГРАММА РАЗВИТИЯ  РФЦ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2010 Г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итуциональное развитие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лечение эмитентов, профессиональных участников и институциональных инвесторо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активного участия холдинга Самрук и фонда Казына и других государственных организаций в деятельност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влечение активного участия холдинга Самрук и фонда Казына и других государственных организаций в деятельност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и внедрение новых финансовых инструментов и технологи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ершенствование государственного регулирования рынка ценных бумаг 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инвестиционной привлекательности города Алматы и формирование благоприятного инвестиционного имиджа Республики Казахстан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онно-техническое обеспечение деятельност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459-E9F6-4A2F-AFCC-A7C3EEAF36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ВЛЕЧЕНИЕ ЭМИТЕНТОВ, ПРОФЕССИОНАЛЬНЫХ УЧАСТНИКОВ И ИНСТИТУЦИОНАЛЬНЫХ ИНВЕСТОРОВ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бота по привлечению российских и украинских  эмитентов на региональный финансовый центр города Алма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ведение семинаров для эмитентов, журналистов  для детального ознакомления с деятельностью финансового центр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ведение активной работы в странах СНГ и граничащих с Казахстаном областях Китайской Народной Республик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ведение работы с другими азиатскими странами и странами Персидского залив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8D7-EF45-4140-8025-877C1E3A99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ВЛЕЧЕНИЕ ВНУТРЕННИХ СБЕРЕЖЕНИЙ НАСЕЛЕНИЯ ПОСРЕДСТВОМ РЫНКА ЦЕННЫХ БУМА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работана программа Правительства  по повышению инвестиционной культуры и финансовой грамотности населения Республики Казахстан на 2007 - 2009 г.г.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танавливаются связи с Высшими учебными заведениями по поводу проведений  тематических лекций среди участников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вещение в СМИ об особенностях работы на рынке ценных бумаг  и разъяснения роли РФЦА в экономике стран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938-B0F1-4146-85E7-FFAC77ABE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АЦИОННО-ТЕХНИЧЕСКОЕ ОБЕСПЕЧЕНИЕ ДЕЯТЕЛЬНОСТЬ ФИНАНСОВОГО ЦЕНТР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здано АО «РФЦА», основной задачей которого является развитие технической инфраструктуры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нируется приобретение бизнес-центра с завершенной инфраструктурой, в котором будут размещены Агентство, АО «РФЦА», фондовая биржа, центральный депозитарий, специализированный финансовый суд, а также участники РФ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1C5-0842-46E9-9F50-91FAF930AE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904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ТАКТНАЯ ИНФОРМ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урпеисов Дархан Кадырбаевич, Заместитель председа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л 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+ 7 327 244 95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dnurpeissov@rfca.k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лигазин Аслан, Начальник управления по работе с эмитентами и инвестор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л 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+ 7 327 244 95 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. 11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kaligazin@rfca.k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жумагалиева Дана, Управление по работе с эмитентами и ивесторам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л . + 7 327 244 95 06 (вн. 115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dzhumagaliyeva@rfca.k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A4A-01BF-4EAC-9F89-E0DA0428D7B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43280" y="18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ww.rfca.k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2280" y="2852640"/>
            <a:ext cx="803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808080"/>
                </a:solidFill>
                <a:latin typeface="Times New Roman"/>
              </a:rPr>
              <a:t>БЛАГОДАРИМ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D21-3A45-43ED-9915-4E48D5783F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НОРМОТВОРЧЕСКАЯ ДЕЯТЕЛЬНОСТЬ  АГЕНТ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CEB-0E5D-4EA8-B57A-4EF3B5EB7F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К «О РЕГИОНАЛЬНОМ ФИНАНСОВОМ ЦЕНТРЕ ГОРОДА АЛМАТЫ»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уск действующих брокерских и (или) дилерских организаций в качестве участника финансового центра, предусмотрев для них процедуру аккредит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ение сферы деятельности зарегистрированных участников финансового центра, в том числе разрешения им осуществлять торги на неорганизованном рынке и на других фондовых биржах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уск иных профессиональных участников рынка ценных бумаг на специальную торговую площадку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ие размера и порядка возмещения затрат на аудит эмитентов финансовых инструментов, допущенных на специальную торговую площадку финансового центр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очнение некоторых понятий и функций уполномоченного органа по регулированию деятельности регионального финансового центра города Алма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ие конкретного перечня организаций, не являющихся участниками финансового центр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C04-E087-48CB-810B-AA18878322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К «О РЫНКЕ ЦЕННЫХ БУМАГ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02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есены изменения по исключению нормы,  закрепляющей функционирование фондовой биржи только в виде некоммерческой организ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ен круг участников в капитале бирж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ы условия владения пакетами акций организатора торг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E54-79EE-40FC-8F2E-6F4E08EB0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ИНФРАСТРУКТУРА ФОНДОВОГО РЫ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81A-1284-425B-B0DE-D3501C03CD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мерциализация биржи было одобрено Общим собранием акционеров биржи, которое состоялось 23 августа т.г.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ционерами биржи была утверждена Стратегия развития биржи на 2007-2010 годы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гентством подготовлен проект единых листинговых правил для обеих площадок, который изучается и согласовывается, совместно с бирже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7FB-6979-485A-892D-235E18EB2D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НАНСОВЫЕ ИНСТРУМЕНТ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лиг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ивативы на золо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I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ламские инструмен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кьюритизированные актив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4D6-D778-4428-B90D-AFA2903AE8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ИТЕНТЫ И ПРОФЕССИОНАЛЬНЫЕ УЧАСТНИКИ НА СТП РФЦ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1903320"/>
          <a:ext cx="8196480" cy="41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903320"/>
                    <a:ext cx="819648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08F-8424-472D-8B6A-57FA1066A0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ЪЕМ ТОРГОВ ПО АКЦИЯМ И ОБЛИГАЦИЯ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1916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тыс.  дол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0647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58D-9AF6-4884-91CD-E6FFC40663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5:32:55Z</dcterms:created>
  <dc:creator>User</dc:creator>
  <dc:description/>
  <dc:language>en-US</dc:language>
  <cp:lastModifiedBy>Juassov</cp:lastModifiedBy>
  <dcterms:modified xsi:type="dcterms:W3CDTF">2007-09-24T06:55:56Z</dcterms:modified>
  <cp:revision>212</cp:revision>
  <dc:subject/>
  <dc:title>Слайд 1</dc:title>
</cp:coreProperties>
</file>