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232-431F-468F-8B17-83C2754F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BD5-9CF6-4251-A605-F429D409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FC86-F130-40C6-A357-7307B7C4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545-5964-43E8-BF99-1081998A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0B1-8D5E-4895-8511-30E48FF0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F98-830C-4E7A-B468-FAE35DDD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A235-FBAE-4FEA-A2E1-8382F977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83B-FBC5-42D3-922E-21EAEA6A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274320"/>
            <a:ext cx="6985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0CE4-B511-45D0-8BB8-0F293AC5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7AE-CADF-42AF-82A1-C2AF5A2D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1908-43BF-41F1-BBD3-8FFB4571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5AC3-A418-4705-9157-B4CA3BC7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3DD6-9D98-4850-BFEA-58096F0F45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mailto:dnurpeissov@rfca.kz" TargetMode="External"/><Relationship Id="rId4" Type="http://schemas.openxmlformats.org/officeDocument/2006/relationships/hyperlink" Target="mailto:ka@rfca.kz" TargetMode="External"/><Relationship Id="rId5" Type="http://schemas.openxmlformats.org/officeDocument/2006/relationships/hyperlink" Target="mailto:dzhumagaliyeva@rfca.kz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РФЦА – стратегия, перспективы и первые результаты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26028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ГИОНАЛЬНЫЙ ФИНАНСОВЫЙ ЦЕНТР ГОРОДА АЛМ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09300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-1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ентября 2007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40720" y="6093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сык-Ку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ПИТАЛИЗАЦИЯ ЦЕННЫХ БУМАГ НА СТП РФЦ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4000" y="1916280"/>
          <a:ext cx="835164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916280"/>
                    <a:ext cx="83516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332000" y="2349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млн. долл.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822E-9221-44F4-9D59-4C01D8C253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ПРОГРАММА РАЗВИТ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РФЦА ДО 2010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27E-FB43-4039-A3F4-D40E1C5AAE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ГРАММА РАЗВИТИЯ  РФЦА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 2010 ГОД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ституциональное развитие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влечение эмитентов, профессиональных участников и институциональных инвесторов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еспечение активного участия холдинга Самрук и фонда Казына и других государственных организаций в деятельности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влечение активного участия холдинга Самрук и фонда Казына и других государственных организаций в деятельности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е и внедрение новых финансовых инструментов и технологий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вершенствование государственного регулирования рынка ценных бумаг и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ышение инвестиционной привлекательности города Алматы и формирование благоприятного инвестиционного имиджа Республики Казахстан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рганизационно-техническое обеспечение деятельности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B78-361E-47F1-9ACC-F52EFC25AD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ВЛЕЧЕНИЕ ЭМИТЕНТОВ, ПРОФЕССИОНАЛЬНЫХ УЧАСТНИКОВ И ИНСТИТУЦИОНАЛЬНЫХ ИНВЕСТОРОВ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бота по привлечению российских и украинских  эмитентов на региональный финансовый центр города Алмат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ведение семинаров для эмитентов, журналистов  для детального ознакомления с деятельностью финансового центра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ведение активной работы в странах СНГ и граничащих с Казахстаном областях Китайской Народной Республик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ведение работы с другими азиатскими странами и странами Персидского залива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C69-94AD-42AF-98D7-E1FE1000A5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ВЛЕЧЕНИЕ ВНУТРЕННИХ СБЕРЕЖЕНИЙ НАСЕЛЕНИЯ ПОСРЕДСТВОМ РЫНКА ЦЕННЫХ БУМА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зработана программа Правительства  по повышению инвестиционной культуры и финансовой грамотности населения Республики Казахстан на 2007 - 2009 г.г.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станавливаются связи с Высшими учебными заведениями по поводу проведений  тематических лекций среди участников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вещение в СМИ об особенностях работы на рынке ценных бумаг  и разъяснения роли РФЦА в экономике стран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34D-0B94-43C0-BA4F-29B90699C3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РГАНИЗАЦИОННО-ТЕХНИЧЕСКОЕ ОБЕСПЕЧЕНИЕ ДЕЯТЕЛЬНОСТЬ ФИНАНСОВОГО ЦЕНТР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оздано АО «РФЦА», основной задачей которого является развитие технической инфраструктуры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ланируется приобретение бизнес-центра с завершенной инфраструктурой, в котором будут размещены Агентство, АО «РФЦА», фондовая биржа, центральный депозитарий, специализированный финансовый суд, а также участники РФЦ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C7F-3213-43BB-BAC1-8124E84EFA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59040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ТАКТНАЯ ИНФОРМ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25360"/>
            <a:ext cx="813600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урпеисов Дархан Кадырбаевич, Заместитель председател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л 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+ 7 327 244 95 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dnurpeissov@rfca.k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лигазин Аслан, Начальник управления по работе с эмитентами и инвестор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л 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+ 7 327 244 95 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н. 112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kaligazin@rfca.k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жумагалиева Дана, Управление по работе с эмитентами и ивесторам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л . + 7 327 244 95 06 (вн. 115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dzhumagaliyeva@rfca.k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F59-6604-4D6F-BE89-0E2BDE720C4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43280" y="189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ww.rfca.k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2280" y="2852640"/>
            <a:ext cx="803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808080"/>
                </a:solidFill>
                <a:latin typeface="Times New Roman"/>
              </a:rPr>
              <a:t>БЛАГОДАРИМ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9560-2117-4A43-A117-294ADA0774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НОРМОТВОРЧЕСКАЯ ДЕЯТЕЛЬНОСТЬ  АГЕНТСТ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0F96-D70B-45D0-8CEA-10D87E1358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РК «О РЕГИОНАЛЬНОМ ФИНАНСОВОМ ЦЕНТРЕ ГОРОДА АЛМАТЫ»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пуск действующих брокерских и (или) дилерских организаций в качестве участника финансового центра, предусмотрев для них процедуру аккредитаци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ширение сферы деятельности зарегистрированных участников финансового центра, в том числе разрешения им осуществлять торги на неорганизованном рынке и на других фондовых биржах;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пуск иных профессиональных участников рынка ценных бумаг на специальную торговую площадку финансового центр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ределение размера и порядка возмещения затрат на аудит эмитентов финансовых инструментов, допущенных на специальную торговую площадку финансового центра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точнение некоторых понятий и функций уполномоченного органа по регулированию деятельности регионального финансового центра города Алмат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ределение конкретного перечня организаций, не являющихся участниками финансового центр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AB8-2BB5-45C5-9D5D-49ADE0254A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 РК «О РЫНКЕ ЦЕННЫХ БУМАГ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0244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несены изменения по исключению нормы,  закрепляющей функционирование фондовой биржи только в виде некоммерческой организаци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ширен круг участников в капитале бирж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ределены условия владения пакетами акций организатора торг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6C6-17A1-485F-B08E-71F78DE53C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ИНФРАСТРУКТУРА ФОНДОВОГО РЫН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BD7-05C5-4CBC-A6ED-FE2DAF2ED4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НДОВАЯ БИРЖ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ммерциализация биржи было одобрено Общим собранием акционеров биржи, которое состоялось 23 августа т.г.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ционерами биржи была утверждена Стратегия развития биржи на 2007-2010 годы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гентством подготовлен проект единых листинговых правил для обеих площадок, который изучается и согласовывается, совместно с биржей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63F4-6170-4471-AF33-C8898F8B9C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НАНСОВЫЕ ИНСТРУМЕНТ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ци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лигаци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ивативы на золо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F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I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ламские инструмент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кьюритизированные актив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783A-CA78-44E1-B06A-2EBD1BD2BB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МИТЕНТЫ И ПРОФЕССИОНАЛЬНЫЕ УЧАСТНИКИ НА СТП РФЦ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9640" y="1903320"/>
          <a:ext cx="8196480" cy="412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903320"/>
                    <a:ext cx="8196480" cy="41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4985-DD16-4C16-9FB3-124B0C64DA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ЪЕМ ТОРГОВ ПО АКЦИЯМ И ОБЛИГАЦИЯ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1916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тыс.  долл.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064720" cy="48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078-38DF-45AF-8AD6-D8E5E9BCAD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5:32:55Z</dcterms:created>
  <dc:creator>User</dc:creator>
  <dc:description/>
  <dc:language>en-US</dc:language>
  <cp:lastModifiedBy>Juassov</cp:lastModifiedBy>
  <dcterms:modified xsi:type="dcterms:W3CDTF">2007-09-24T06:55:56Z</dcterms:modified>
  <cp:revision>212</cp:revision>
  <dc:subject/>
  <dc:title>Слайд 1</dc:title>
</cp:coreProperties>
</file>