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B763-847B-425A-8300-5273AAD48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856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640" y="3063960"/>
            <a:ext cx="856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C282-3F70-4446-8B62-8D08672A1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306396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06396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DC45-CF86-4F23-B4CB-F9DFF77A4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91440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560" y="91440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3640" y="306396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06396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560" y="3063960"/>
            <a:ext cx="275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405D-E0AB-4AB6-9FC6-6B690A5EFF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3640" y="9144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EF02-2451-4713-9F01-9D423EB468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D2E2-9EDF-4A26-BB5A-F1ED919B4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8F42-04F4-40F2-9502-712B21219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6694-8D3D-480A-B5C0-E3CFCEE0C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218520"/>
            <a:ext cx="882000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91AF0-DE97-45D2-A461-680220879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3640" y="306396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DF6C3-6E34-4F43-9DBE-9EFC3B9D87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418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06396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80E8-1E41-43B2-BF4D-5620BE0F2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81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640" y="3063960"/>
            <a:ext cx="856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97FE-D7F9-498C-B9C6-50503C144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218520"/>
            <a:ext cx="88200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9144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71280" y="6400440"/>
            <a:ext cx="62960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24000" y="6419520"/>
            <a:ext cx="28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B2E1-118C-4479-B324-4C30A5993E30}" type="slidenum">
              <a:rPr b="0" lang="en-US" sz="14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47240"/>
            <a:ext cx="871380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24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Narrow"/>
              </a:rPr>
              <a:t>Очередной переходный период на казахстанском фондовом рынк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ff00"/>
                </a:solidFill>
                <a:latin typeface="Arial Narrow"/>
              </a:rPr>
              <a:t>Перспективы развития биржевого рынка </a:t>
            </a:r>
            <a:endParaRPr b="1" lang="en-US" sz="40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5270040"/>
            <a:ext cx="87836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Идель Сабитов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первый вице-президент Казахстанской фондовой биржи (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9DE3-E18B-4585-AB29-EA990B338F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909720"/>
            <a:ext cx="5040360" cy="5256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508360" y="907920"/>
            <a:ext cx="345420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Под давлением действий регуляторов, а в последнее время – из-за кризиса в США банкам стало менее выгодно занимать доллары за рубежом.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Спрос на </a:t>
            </a:r>
            <a:r>
              <a:rPr b="0" lang="en-US" sz="2200" spc="-1" strike="noStrike">
                <a:solidFill>
                  <a:srgbClr val="ffff99"/>
                </a:solidFill>
                <a:latin typeface="Arial Narrow"/>
              </a:rPr>
              <a:t>USD</a:t>
            </a: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 на внутреннем рынке вырос.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Есть основания предполагать разворот долговременного тренда укрепления тенге к доллару.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ДОЛЛАРЫ НАДО ЗАНИМАТЬ ЗДЕСЬ!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81" name=""/>
          <p:cNvSpPr/>
          <p:nvPr/>
        </p:nvSpPr>
        <p:spPr>
          <a:xfrm>
            <a:off x="1185480" y="1125720"/>
            <a:ext cx="99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Январь 2003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3069360"/>
            <a:ext cx="745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Сентябрь</a:t>
            </a:r>
            <a:br>
              <a:rPr sz="1600"/>
            </a:b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2007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4624560" y="3141720"/>
            <a:ext cx="0" cy="1295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4A32-4C8F-4125-B104-E7C94E6C4D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4520" y="1052640"/>
            <a:ext cx="5019480" cy="5219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35280" y="1125000"/>
            <a:ext cx="3454200" cy="17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Хроническая недооценка акций на рынке до 2006 года – теперь лишь ностальгическое воспоминание о былом потенциале доходности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ЧУДЕСА НА РЫНКЕ АКЦИЙ КОНЧИЛИСЬ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898560" y="2205360"/>
            <a:ext cx="164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Narrow"/>
              </a:rPr>
              <a:t>индекс </a:t>
            </a:r>
            <a:r>
              <a:rPr b="0" lang="en-US" sz="1600" spc="-1" strike="noStrike">
                <a:solidFill>
                  <a:srgbClr val="ff0000"/>
                </a:solidFill>
                <a:latin typeface="Arial Narrow"/>
              </a:rPr>
              <a:t>KASE_Shares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711360" y="887760"/>
            <a:ext cx="436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Изменение </a:t>
            </a: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KASE_Shares</a:t>
            </a: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 и курса 5 акций-фаворитов, %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3995280" y="1484640"/>
            <a:ext cx="45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HSBK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4037040" y="31849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 Narrow"/>
              </a:rPr>
              <a:t>KKGB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506040" y="3716640"/>
            <a:ext cx="43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 Narrow"/>
              </a:rPr>
              <a:t>BTAS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46533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 Narrow"/>
              </a:rPr>
              <a:t>RDGZ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1983600" y="5229720"/>
            <a:ext cx="42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Arial Narrow"/>
              </a:rPr>
              <a:t>KZTK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669960" y="5138640"/>
            <a:ext cx="4535280" cy="0"/>
          </a:xfrm>
          <a:prstGeom prst="line">
            <a:avLst/>
          </a:prstGeom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95" name=""/>
          <p:cNvSpPr/>
          <p:nvPr/>
        </p:nvSpPr>
        <p:spPr>
          <a:xfrm>
            <a:off x="357120" y="5013360"/>
            <a:ext cx="3272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508720" y="3613320"/>
          <a:ext cx="3574800" cy="2552400"/>
        </p:xfrm>
        <a:graphic>
          <a:graphicData uri="http://schemas.openxmlformats.org/drawingml/2006/table">
            <a:tbl>
              <a:tblPr/>
              <a:tblGrid>
                <a:gridCol w="677880"/>
                <a:gridCol w="546120"/>
                <a:gridCol w="563400"/>
                <a:gridCol w="595440"/>
                <a:gridCol w="596880"/>
                <a:gridCol w="595080"/>
              </a:tblGrid>
              <a:tr h="2822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TAS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HSBK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KGB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ZTK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DGZ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1.0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0.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0.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.4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0.9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7.0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.0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.0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.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1.0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8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8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8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4.0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.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7.0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.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3680">
                      <a:solidFill>
                        <a:srgbClr val="ff0000"/>
                      </a:solidFill>
                    </a:lnR>
                    <a:lnT>
                      <a:noFill/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10.0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1.0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.4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1.04.0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5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.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.8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5539320" y="3329280"/>
            <a:ext cx="144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Price-to-Book Ratio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FE6E-71C8-4502-9812-6084CE4F57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А ВОТ ПИФЫ – ВСЕ КРУЧЕ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764240" y="1197360"/>
            <a:ext cx="4200480" cy="4738320"/>
            <a:chOff x="4764240" y="1197360"/>
            <a:chExt cx="4200480" cy="4738320"/>
          </a:xfrm>
        </p:grpSpPr>
        <p:sp>
          <p:nvSpPr>
            <p:cNvPr id="100" name=""/>
            <p:cNvSpPr/>
            <p:nvPr/>
          </p:nvSpPr>
          <p:spPr>
            <a:xfrm>
              <a:off x="5128920" y="1197360"/>
              <a:ext cx="2280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ff00"/>
                  </a:solidFill>
                  <a:latin typeface="Arial Narrow"/>
                </a:rPr>
                <a:t>Динамика количества ПИФов</a:t>
              </a:r>
              <a:endParaRPr b="0" lang="en-US" sz="1600" spc="-1" strike="noStrike">
                <a:solidFill>
                  <a:srgbClr val="ffff99"/>
                </a:solidFill>
                <a:latin typeface="Arial Narrow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764240" y="1392120"/>
              <a:ext cx="4200480" cy="454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324000" y="1197360"/>
            <a:ext cx="4209840" cy="4733640"/>
            <a:chOff x="324000" y="1197360"/>
            <a:chExt cx="4209840" cy="473364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324000" y="1387440"/>
              <a:ext cx="4209840" cy="45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81120" y="1197360"/>
              <a:ext cx="2961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ff00"/>
                  </a:solidFill>
                  <a:latin typeface="Arial Narrow"/>
                </a:rPr>
                <a:t>Динамика активов ПИФов, млрд тенге</a:t>
              </a:r>
              <a:endParaRPr b="0" lang="en-US" sz="1600" spc="-1" strike="noStrike">
                <a:solidFill>
                  <a:srgbClr val="ffff99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2650-295D-4177-A6AA-D54DDFC634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2084400"/>
            <a:ext cx="87138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24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 Narrow"/>
              </a:rPr>
              <a:t>В СЛОЖИВШЕЙСЯ СИТУАЦИИ</a:t>
            </a: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Arial Narrow"/>
              </a:rPr>
              <a:t>KASE</a:t>
            </a:r>
            <a:r>
              <a:rPr b="1" lang="ru-RU" sz="4000" spc="-1" strike="noStrike">
                <a:solidFill>
                  <a:srgbClr val="00ff00"/>
                </a:solidFill>
                <a:latin typeface="Arial Narrow"/>
              </a:rPr>
              <a:t> ОТВЕЧАЕТ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НОВОЙ СТРАТЕГИЕЙ</a:t>
            </a:r>
            <a:endParaRPr b="1" lang="en-US" sz="40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2C80-9364-4540-A8A9-4BCC6D2A98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ДАЕШЬ ОТКРЫТЫЙ РЫНОК!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160" y="959040"/>
            <a:ext cx="4343400" cy="5349600"/>
            <a:chOff x="281160" y="959040"/>
            <a:chExt cx="4343400" cy="53496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81160" y="1203120"/>
              <a:ext cx="43434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41520" y="959040"/>
              <a:ext cx="389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ff00"/>
                  </a:solidFill>
                  <a:latin typeface="Arial Narrow"/>
                </a:rPr>
                <a:t>Динамика доли прямых сделок на рынке </a:t>
              </a:r>
              <a:r>
                <a:rPr b="0" lang="en-US" sz="1600" spc="-1" strike="noStrike">
                  <a:solidFill>
                    <a:srgbClr val="00ff00"/>
                  </a:solidFill>
                  <a:latin typeface="Arial Narrow"/>
                </a:rPr>
                <a:t>KASE</a:t>
              </a:r>
              <a:r>
                <a:rPr b="0" lang="ru-RU" sz="1600" spc="-1" strike="noStrike">
                  <a:solidFill>
                    <a:srgbClr val="00ff00"/>
                  </a:solidFill>
                  <a:latin typeface="Arial Narrow"/>
                </a:rPr>
                <a:t>, %</a:t>
              </a:r>
              <a:endParaRPr b="0" lang="en-US" sz="1600" spc="-1" strike="noStrike">
                <a:solidFill>
                  <a:srgbClr val="ffff99"/>
                </a:solidFill>
                <a:latin typeface="Arial Narrow"/>
              </a:endParaRPr>
            </a:p>
          </p:txBody>
        </p:sp>
      </p:grp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58920" y="2422440"/>
            <a:ext cx="38163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0000" indent="-2700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сохранение с начала 2007 года льгот по налогообложению прироста стоимости акций, если этот прирост был зафиксирован методами открытых торгов (</a:t>
            </a: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 активно способствовала принятию соответствующих поправок в законодательство)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  <a:p>
            <a:pPr marL="270000" indent="-270000">
              <a:lnSpc>
                <a:spcPct val="80000"/>
              </a:lnSpc>
              <a:spcBef>
                <a:spcPts val="1001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прекращение </a:t>
            </a: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c </a:t>
            </a: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01 марта 2007 года использования на </a:t>
            </a: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 метода  франкфуртских торгов для наиболее ликвидных акций с одновременным ужесточением требований к маркет-мейкерам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268280"/>
            <a:ext cx="39607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Принципиальному падению доли прямых сделок с акциями на бирже способствовали: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389E9-1B39-4629-8147-0A333F2EF6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ЛИКВИДНОСТЬ И ЕЩЕ РАЗ ЛИКВИДНОСТЬ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671040" y="834120"/>
            <a:ext cx="3918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Динамика сравнительного</a:t>
            </a:r>
            <a:br>
              <a:rPr sz="1600"/>
            </a:b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коэффициента ликвидности на рынке акций </a:t>
            </a: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KASE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907920"/>
            <a:ext cx="4211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Одной из своих главных задач биржа видит повышение ликвидности на рынке акций.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Прекращение c 01 марта 2007 года использования на KASE метода  франкфуртских торгов для ликвидных акций с ужесточением требований к маркет-мейкерам по спрэдам, вовлечение в рынок "физиков" без взимания с них комиссионного сбора – далеко не полный перечень мер, которые способствовали росту ликвидности акций на </a:t>
            </a:r>
            <a:r>
              <a:rPr b="0" lang="en-US" sz="20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За первые 8 месяцев 2007 года оборот акций на бирже вырос относительно соответствующего периода 2006 года</a:t>
            </a:r>
            <a:br>
              <a:rPr sz="2000"/>
            </a:br>
            <a:r>
              <a:rPr b="0" lang="ru-RU" sz="2000" spc="-1" strike="noStrike">
                <a:solidFill>
                  <a:srgbClr val="ffff99"/>
                </a:solidFill>
                <a:latin typeface="Arial Narrow"/>
              </a:rPr>
              <a:t>в 5,4 раза.</a:t>
            </a:r>
            <a:endParaRPr b="0" lang="en-US" sz="20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8440" y="1279440"/>
            <a:ext cx="4371840" cy="4886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059360" y="2752920"/>
            <a:ext cx="51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Narrow"/>
              </a:rPr>
              <a:t>кризис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7D1AA-26E0-421A-B90C-53DC05757A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914400"/>
            <a:ext cx="88200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01 октября 2007 года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презентует новый индекс своего рынка акций – </a:t>
            </a:r>
            <a:r>
              <a:rPr b="0" lang="en-US" sz="2800" spc="-1" strike="noStrike">
                <a:solidFill>
                  <a:srgbClr val="00ff00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Индекс продолжит числовой ряд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_Shares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и будет введен биржей в качестве признания определенного уровня развития рынка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Индекс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– это взвешенный по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free-float 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реал-тайм индекс, который 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вычисляется исключительно по ценам сделок с акциями двенадцати наименований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. Именно эти акции за предыдущий квартал являлись на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наиболее ликвидными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Биржа будет стремиться сделать индекс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инструментообразующим уже в 2008 году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НОВЫЙ ИНДЕКС РЫНКА АКЦИЙ – </a:t>
            </a: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KASE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0CEA-A3D7-4BFE-A53F-F6F4440346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ПРЕДСТАВИТЕЛЬСКИЙ СПИСОК ИНДЕКСА АКЦИЙ </a:t>
            </a: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KASE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125360"/>
          <a:ext cx="8569440" cy="4499280"/>
        </p:xfrm>
        <a:graphic>
          <a:graphicData uri="http://schemas.openxmlformats.org/drawingml/2006/table">
            <a:tbl>
              <a:tblPr/>
              <a:tblGrid>
                <a:gridCol w="504720"/>
                <a:gridCol w="1079640"/>
                <a:gridCol w="2298600"/>
                <a:gridCol w="4686480"/>
              </a:tblGrid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№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д акции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Тип акции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раткое наименование эмитента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ATFB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АТФ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ATFBp8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ивилегированн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АТФ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BTAS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Банк ТуранАлем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CCBN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Банк ЦентрКредит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HSBK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Народный сберегательный банк Казахстана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KKGB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Казкоммерц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KKGBp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ивилегированн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Казкоммерц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KZTK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Казахтелеком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KZTKp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ивилегированн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Казахтелеком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RDGZ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Разведка Добыча "КазМунайГаз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1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TEBN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ост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Темiр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TEBNp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привилегированная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АО "Темiрбанк"</a:t>
                      </a:r>
                      <a:endParaRPr b="0" lang="en-US" sz="17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270000" y="5877000"/>
            <a:ext cx="84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77777"/>
                </a:solidFill>
                <a:latin typeface="Arial"/>
              </a:rPr>
              <a:t>Представительский список планируется пересматривать не чаще одного раза в квартал</a:t>
            </a:r>
            <a:endParaRPr b="0" lang="en-US" sz="1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E3E4-FA2B-4164-82CC-91D8DC9562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914400"/>
            <a:ext cx="88200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100"/>
              </a:spcBef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 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будет стремиться к максимальному приближению своих листинговых требований и листинговых процедур к наилучшей листинговой практике крупнейших фондовых бирж мира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110000"/>
              </a:lnSpc>
              <a:spcBef>
                <a:spcPts val="2100"/>
              </a:spcBef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Рынок акций через систему листинговых требований будет разделен на несколько частей, в том числе сектор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 "голубых фишек"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("Blue_Chips"), сектор акций субъектов 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среднего предпринимательства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("Mid_Cap") и так называемый сектор 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"start-up"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, предназначенный для акций "молодых", "растущих" компаний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РЕСТРУКТУРИЗАЦИЯ ЛИСТИНГА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F1C0-B873-4D99-B31F-35C26B80BB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914400"/>
            <a:ext cx="8496000" cy="32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Новая модель РФЦА – создание 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единого рынка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, который объединяет СТП РФЦА и основную площадку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При этом биржа функционирует как </a:t>
            </a: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коммерческая организация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проводит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IPO</a:t>
            </a:r>
            <a:r>
              <a:rPr b="0" lang="kk-KZ" sz="2800" spc="-1" strike="noStrike">
                <a:solidFill>
                  <a:srgbClr val="ffff99"/>
                </a:solidFill>
                <a:latin typeface="Arial Narrow"/>
              </a:rPr>
              <a:t> и выходит на рынок в качестве образцовой “голубой фишки”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KASE 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+ РФЦА = ЕДИНЫЙ РЫНОК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750C-C83B-4352-B30F-878E554A69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1440" y="25632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ПОЧЕМУ МЫ СЧИТАЕМ, ЧТО ЭТОТ ПЕРИОД НАСТУПИЛ?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1440" y="914040"/>
            <a:ext cx="860292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Главное: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изменение правил инвестирования пенсионных активов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"дробление" рынка в связи с запуском СТП РФЦА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ужесточение денежно-кредитной политики и, как следствие, удорожание денег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изменение тенденций на рынке акций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 Narrow"/>
              </a:rPr>
              <a:t>а также: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рост волатильности и рисков на внутреннем рынке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USD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"кризис ликвидности" на мировом рынке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Aft>
                <a:spcPts val="1400"/>
              </a:spcAft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рост ПИФов как альтернативы инвестициям в депозиты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3028B-3DA8-428D-9F72-C684844029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914040"/>
            <a:ext cx="8820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4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Биржа должна быть той торговой площадкой, на которой казахстанские и иностранные эмитенты ценных бумаг могут привлечь в ходе одного публичного размещения (IPO) не менее эквивалента 50 млн долларов США.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KASE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 ПРИГЛАШАЕТ ВСЕХ НА </a:t>
            </a: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IPO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836F-13EE-4AE2-BFB2-C6C205C9D4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914400"/>
            <a:ext cx="882000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Идея: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А. Джолдасбеков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Сценарий: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И. Сабитов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Б. Бабенов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А. Цалюк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Базы данных: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, ИРБИС, АФН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Обработка данных: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Д. Мукашева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Р. Дзюбайло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С. Яковлев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А. Цалюк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Текст: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И. Сабитов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А. Цалюк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Дизайн: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А. Цалюк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r" pos="3490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     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©</a:t>
            </a:r>
            <a:r>
              <a:rPr b="0" lang="ru-RU" sz="24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 Narrow"/>
              </a:rPr>
              <a:t>KASE, 2007</a:t>
            </a:r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ВЫСОКОЙ ВАМ ДОХОДНОСТИ НА РЫНКЕ!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5F97-E0CC-4EDF-9935-832438A6D6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914040"/>
            <a:ext cx="8820000" cy="54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99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Отказ от использования категории листинга </a:t>
            </a: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 в качестве критерия при инвестиции пенсионных активов (ПА)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indent="0">
              <a:spcAft>
                <a:spcPts val="1599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падение скорости роста списков ценных бумаг </a:t>
            </a: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KASE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ff00"/>
                </a:solidFill>
                <a:latin typeface="Arial Narrow"/>
              </a:rPr>
              <a:t>+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снижение активности "пенсионщиков" на бирже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ff00"/>
                </a:solidFill>
                <a:latin typeface="Arial Narrow"/>
              </a:rPr>
              <a:t>+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заметное удорожание местной базы фондирования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ПЕНСЫ, ВЫ ГДЕ?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47" name=""/>
          <p:cNvSpPr/>
          <p:nvPr/>
        </p:nvSpPr>
        <p:spPr>
          <a:xfrm>
            <a:off x="706320" y="2565360"/>
            <a:ext cx="142920" cy="432000"/>
          </a:xfrm>
          <a:prstGeom prst="downArrow">
            <a:avLst>
              <a:gd name="adj1" fmla="val 50000"/>
              <a:gd name="adj2" fmla="val 755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78B27-D358-4327-A80E-DCDCEA33F6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914400"/>
            <a:ext cx="8424720" cy="6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Принятые меры к заметному росту доходности ПА не привели, однако способствовали сокращению доли ПА на организованном рынке  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ПЕНСЫ: А ВОТ МЫ!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50" name=""/>
          <p:cNvSpPr/>
          <p:nvPr/>
        </p:nvSpPr>
        <p:spPr>
          <a:xfrm>
            <a:off x="451800" y="1845000"/>
            <a:ext cx="2033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Средневзвешенный К2, %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00720" y="2133720"/>
          <a:ext cx="4295520" cy="3778200"/>
        </p:xfrm>
        <a:graphic>
          <a:graphicData uri="http://schemas.openxmlformats.org/drawingml/2006/table">
            <a:tbl>
              <a:tblPr/>
              <a:tblGrid>
                <a:gridCol w="1431720"/>
                <a:gridCol w="1432080"/>
                <a:gridCol w="143172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ид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 мес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06 год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8 мес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07 год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99"/>
                      </a:solidFill>
                    </a:lnT>
                    <a:lnB w="288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441360">
                <a:tc gridSpan="3">
                  <a:txBody>
                    <a:bodyPr lIns="90000" rIns="90000" tIns="900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АКЦИИ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купк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9,9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,7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даж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2,4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 среднем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ccff"/>
                          </a:solidFill>
                          <a:latin typeface="Arial Narrow"/>
                        </a:rPr>
                        <a:t>16,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ccff"/>
                          </a:solidFill>
                          <a:latin typeface="Arial Narrow"/>
                        </a:rPr>
                        <a:t>4,4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826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КОРПОРАТИВНЫЕ ОБЛИГАЦИИ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купк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2,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6,2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дажа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0,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,6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 среднем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ccff"/>
                          </a:solidFill>
                          <a:latin typeface="Arial Narrow"/>
                        </a:rPr>
                        <a:t>26,1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ccff"/>
                          </a:solidFill>
                          <a:latin typeface="Arial Narrow"/>
                        </a:rPr>
                        <a:t>9,4</a:t>
                      </a:r>
                      <a:endParaRPr b="0" lang="en-US" sz="1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576680" y="1845000"/>
            <a:ext cx="280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Доля участия ПА на рынке </a:t>
            </a: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KASE</a:t>
            </a: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, %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36673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760A-8C4F-499D-9F79-369C9F2B11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652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РФЦА-2007: ДУБЛИРОВАНИЕ РЫНКА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(1)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602560" cy="52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Листинг на РФЦА проходили только ценные бумаги, уже листингованные на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Ни одного нового эмитента, желающего продавать свои ценные бумаги только на РФЦА, нет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Членами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категории "А" желают стать только компании, которые (или "мамы" которых) уже являются членами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по другим категориям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Доля оборота СТП РФЦА на 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KASE</a:t>
            </a:r>
            <a:r>
              <a:rPr b="0" lang="ru-RU" sz="2800" spc="-1" strike="noStrike">
                <a:solidFill>
                  <a:srgbClr val="ffff99"/>
                </a:solidFill>
                <a:latin typeface="Arial Narrow"/>
              </a:rPr>
              <a:t> в 2007 году не превысила 0,18%, в том числе на рынке акций – 0,78%, корпоративных облигаций – 13,1%</a:t>
            </a:r>
            <a:endParaRPr b="0" lang="en-US" sz="28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4674-6183-43E1-A70E-B7FD2B1B00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РФЦА-2007: ДУБЛИРОВАНИЕ РЫНКА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(2)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1440" y="914040"/>
            <a:ext cx="860292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 Narrow"/>
              </a:rPr>
              <a:t>Несовершенство модели РФЦА привело к: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неоправданным затратам брокеров на организацию "дочек" и "сестер"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 Narrow"/>
              </a:rPr>
              <a:t>замешательству новых эмитентов, для которых наличие двух площадок не совсем понятно; при этом вся ликвидность находится на основной площадке </a:t>
            </a:r>
            <a:r>
              <a:rPr b="0" lang="en-US" sz="3200" spc="-1" strike="noStrike">
                <a:solidFill>
                  <a:srgbClr val="ffff99"/>
                </a:solidFill>
                <a:latin typeface="Arial Narrow"/>
              </a:rPr>
              <a:t>KASE</a:t>
            </a:r>
            <a:endParaRPr b="0" lang="en-US" sz="3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CC7D-7BBC-4BDC-9F8A-C50280B873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ЛИСТИНГ </a:t>
            </a:r>
            <a:r>
              <a:rPr b="1" lang="en-US" sz="2800" spc="-1" strike="noStrike">
                <a:solidFill>
                  <a:srgbClr val="183c1b"/>
                </a:solidFill>
                <a:latin typeface="Arial Narrow"/>
              </a:rPr>
              <a:t>KASE: </a:t>
            </a: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КТО НА ГОРИЗОНТЕ?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876240"/>
          <a:ext cx="8640720" cy="4568760"/>
        </p:xfrm>
        <a:graphic>
          <a:graphicData uri="http://schemas.openxmlformats.org/drawingml/2006/table">
            <a:tbl>
              <a:tblPr/>
              <a:tblGrid>
                <a:gridCol w="3271680"/>
                <a:gridCol w="1341720"/>
                <a:gridCol w="1342800"/>
                <a:gridCol w="1341720"/>
                <a:gridCol w="1342800"/>
              </a:tblGrid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 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лугодие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’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06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 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лугодие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’</a:t>
                      </a: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0</a:t>
                      </a: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7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мпании: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го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вых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сего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новых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отребительский сектор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ромышленность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Финансы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5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6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Энергетика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Телекоммуникации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сырьевой сектор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T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Здравоохранение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ммунальный сектор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ffff99"/>
                          </a:solidFill>
                          <a:latin typeface="Arial Narrow"/>
                        </a:rPr>
                        <a:t>–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ИТОГО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40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13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28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ff00"/>
                          </a:solidFill>
                          <a:latin typeface="Arial Narrow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99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96720" y="5572080"/>
            <a:ext cx="84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77777"/>
                </a:solidFill>
                <a:latin typeface="Arial"/>
              </a:rPr>
              <a:t>* Классификация компаний – по </a:t>
            </a:r>
            <a:r>
              <a:rPr b="0" i="1" lang="en-US" sz="1400" spc="-1" strike="noStrike">
                <a:solidFill>
                  <a:srgbClr val="777777"/>
                </a:solidFill>
                <a:latin typeface="Arial"/>
              </a:rPr>
              <a:t>Global Industry Classification Standard (GICS)</a:t>
            </a:r>
            <a:r>
              <a:rPr b="0" i="1" lang="ru-RU" sz="14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777777"/>
                </a:solidFill>
                <a:latin typeface="Arial"/>
              </a:rPr>
              <a:t>S&amp;P</a:t>
            </a:r>
            <a:endParaRPr b="0" lang="en-US" sz="1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1" name=""/>
          <p:cNvSpPr/>
          <p:nvPr/>
        </p:nvSpPr>
        <p:spPr>
          <a:xfrm>
            <a:off x="4356000" y="1301760"/>
            <a:ext cx="194472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7020000" y="1285920"/>
            <a:ext cx="194472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140B-CED0-4FFD-BE28-AF64B28EE4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424720" cy="62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Поэтапное ужесточение резервных требований и пруденциальных нормативов для банков привели к росту всех ставок денежного рынка: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АФН И НАЦБАНК: ДЕНЬГИ ДОЛЖНЫ БЫТЬ ДОРОЖЕ…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181400" cy="4305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49720" y="1963440"/>
            <a:ext cx="73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 Narrow"/>
              </a:rPr>
              <a:t>%</a:t>
            </a:r>
            <a:r>
              <a:rPr b="0" lang="en-US" sz="14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 Narrow"/>
              </a:rPr>
              <a:t>годовых</a:t>
            </a:r>
            <a:endParaRPr b="0" lang="en-US" sz="14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64240" y="1768320"/>
            <a:ext cx="4200480" cy="432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48720" y="1963440"/>
            <a:ext cx="73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 Narrow"/>
              </a:rPr>
              <a:t>%</a:t>
            </a:r>
            <a:r>
              <a:rPr b="0" lang="en-US" sz="14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 Narrow"/>
              </a:rPr>
              <a:t>годовых</a:t>
            </a:r>
            <a:endParaRPr b="0" lang="en-US" sz="1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69" name=""/>
          <p:cNvSpPr/>
          <p:nvPr/>
        </p:nvSpPr>
        <p:spPr>
          <a:xfrm>
            <a:off x="6513840" y="4330440"/>
            <a:ext cx="101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 Narrow"/>
              </a:rPr>
              <a:t>Ставки </a:t>
            </a:r>
            <a:r>
              <a:rPr b="0" lang="en-US" sz="1400" spc="-1" strike="noStrike">
                <a:solidFill>
                  <a:srgbClr val="ffff99"/>
                </a:solidFill>
                <a:latin typeface="Arial Narrow"/>
              </a:rPr>
              <a:t>KIBOR:</a:t>
            </a:r>
            <a:endParaRPr b="0" lang="en-US" sz="14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CFE27-8467-4365-9A8E-B0BE941658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3c1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4760" y="2022480"/>
            <a:ext cx="4286160" cy="432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8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99"/>
                </a:solidFill>
                <a:latin typeface="Arial Narrow"/>
              </a:rPr>
              <a:t>Удорожание базы фондирования вызвало рост доходности облигаций на первичном и вторичном рынках, а также к падению их ликвидности (кроме нот Нацбанка):</a:t>
            </a:r>
            <a:endParaRPr b="0" lang="en-US" sz="2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61440" y="188280"/>
            <a:ext cx="8782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3c1b"/>
                </a:solidFill>
                <a:latin typeface="Arial Narrow"/>
              </a:rPr>
              <a:t>РЫНОК: ДОРОЖЕ, ТАК ДОРОЖЕ…</a:t>
            </a:r>
            <a:endParaRPr b="1" lang="en-US" sz="2800" spc="-1" strike="noStrike">
              <a:solidFill>
                <a:srgbClr val="183c1b"/>
              </a:solidFill>
              <a:latin typeface="Arial Narrow"/>
            </a:endParaRPr>
          </a:p>
        </p:txBody>
      </p:sp>
      <p:sp>
        <p:nvSpPr>
          <p:cNvPr id="73" name=""/>
          <p:cNvSpPr/>
          <p:nvPr/>
        </p:nvSpPr>
        <p:spPr>
          <a:xfrm>
            <a:off x="754920" y="1845000"/>
            <a:ext cx="27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Корпоративные облигации на </a:t>
            </a: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KASE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52440" y="2022480"/>
            <a:ext cx="4305240" cy="428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81760" y="1845000"/>
            <a:ext cx="284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ff00"/>
                </a:solidFill>
                <a:latin typeface="Arial Narrow"/>
              </a:rPr>
              <a:t>Ноты Нацбанка и МЕОКАМ на </a:t>
            </a: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KASE</a:t>
            </a:r>
            <a:endParaRPr b="0" lang="en-US" sz="1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7889040" y="3002400"/>
            <a:ext cx="2011320" cy="253800"/>
          </a:xfrm>
          <a:prstGeom prst="rect">
            <a:avLst/>
          </a:prstGeom>
          <a:solidFill>
            <a:srgbClr val="183c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 Narrow"/>
              </a:rPr>
              <a:t>Объем торгов, млрд тенге</a:t>
            </a:r>
            <a:endParaRPr b="0" lang="en-US" sz="1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77" name=""/>
          <p:cNvSpPr/>
          <p:nvPr/>
        </p:nvSpPr>
        <p:spPr>
          <a:xfrm>
            <a:off x="5145120" y="2224080"/>
            <a:ext cx="138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 Narrow"/>
              </a:rPr>
              <a:t>Доходность, %</a:t>
            </a:r>
            <a:r>
              <a:rPr b="0" lang="en-US" sz="1200" spc="-1" strike="noStrike">
                <a:solidFill>
                  <a:srgbClr val="ffff99"/>
                </a:solidFill>
                <a:latin typeface="Arial Narrow"/>
              </a:rPr>
              <a:t> </a:t>
            </a:r>
            <a:r>
              <a:rPr b="0" lang="ru-RU" sz="1200" spc="-1" strike="noStrike">
                <a:solidFill>
                  <a:srgbClr val="ffff99"/>
                </a:solidFill>
                <a:latin typeface="Arial Narrow"/>
              </a:rPr>
              <a:t>годовых</a:t>
            </a:r>
            <a:endParaRPr b="0" lang="en-US" sz="12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Иссык-Куль, 18-19 сентября 2007 года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ABC2C-B2B2-48A4-8C86-218F37C9C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10:04:43Z</dcterms:created>
  <dc:creator>Andrey Tsalyuk</dc:creator>
  <dc:description/>
  <dc:language>en-US</dc:language>
  <cp:lastModifiedBy>Juassov</cp:lastModifiedBy>
  <dcterms:modified xsi:type="dcterms:W3CDTF">2007-09-24T07:10:32Z</dcterms:modified>
  <cp:revision>218</cp:revision>
  <dc:subject/>
  <dc:title>PowerPoint Presentation</dc:title>
</cp:coreProperties>
</file>