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AFFD-B6DB-4871-93F8-18DDECCACB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63600" y="744480"/>
            <a:ext cx="4270320" cy="3202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6480" y="4103280"/>
            <a:ext cx="4984560" cy="56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ы семинара для пользователей системы QUIK и приложений, Москва, 9 февраля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Сервер отчетов системы QUIK", Владимир Курляндчик, директор по развитию СМВБ-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66520" y="413064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34360" y="19810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34360" y="413064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4560" y="198108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82600" y="198108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666520" y="413064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624560" y="413064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82600" y="4130640"/>
            <a:ext cx="186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6665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34360" y="198108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34360" y="198108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82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4360" y="19810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34360" y="413064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6520" y="19810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34360" y="1981080"/>
            <a:ext cx="2826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66520" y="4130640"/>
            <a:ext cx="579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1752480"/>
            </a:xfrm>
            <a:prstGeom prst="rect">
              <a:avLst/>
            </a:prstGeom>
            <a:gradFill rotWithShape="0">
              <a:gsLst>
                <a:gs pos="0">
                  <a:srgbClr val="d7f0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638680"/>
              <a:ext cx="9148680" cy="1212840"/>
              <a:chOff x="0" y="5638680"/>
              <a:chExt cx="9148680" cy="121284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4680" y="6242040"/>
                <a:ext cx="9144000" cy="609480"/>
                <a:chOff x="4680" y="6242040"/>
                <a:chExt cx="9144000" cy="609480"/>
              </a:xfrm>
            </p:grpSpPr>
            <p:sp>
              <p:nvSpPr>
                <p:cNvPr id="4" name="Rectangle 6"/>
                <p:cNvSpPr/>
                <p:nvPr/>
              </p:nvSpPr>
              <p:spPr>
                <a:xfrm>
                  <a:off x="4680" y="6622920"/>
                  <a:ext cx="9144000" cy="228600"/>
                </a:xfrm>
                <a:prstGeom prst="rect">
                  <a:avLst/>
                </a:prstGeom>
                <a:solidFill>
                  <a:srgbClr val="e1f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" name="Group 7"/>
                <p:cNvGrpSpPr/>
                <p:nvPr/>
              </p:nvGrpSpPr>
              <p:grpSpPr>
                <a:xfrm>
                  <a:off x="4680" y="6242040"/>
                  <a:ext cx="9144000" cy="457200"/>
                  <a:chOff x="4680" y="6242040"/>
                  <a:chExt cx="9144000" cy="457200"/>
                </a:xfrm>
              </p:grpSpPr>
              <p:sp>
                <p:nvSpPr>
                  <p:cNvPr id="6" name="Freeform 8"/>
                  <p:cNvSpPr/>
                  <p:nvPr/>
                </p:nvSpPr>
                <p:spPr>
                  <a:xfrm>
                    <a:off x="6100560" y="6242040"/>
                    <a:ext cx="3048120" cy="380880"/>
                  </a:xfrm>
                  <a:prstGeom prst="pie">
                    <a:avLst/>
                  </a:prstGeom>
                  <a:solidFill>
                    <a:srgbClr val="e1f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4680" y="6318000"/>
                    <a:ext cx="3200400" cy="381240"/>
                  </a:xfrm>
                  <a:prstGeom prst="pie">
                    <a:avLst/>
                  </a:prstGeom>
                  <a:solidFill>
                    <a:srgbClr val="e1f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Freeform 10"/>
                  <p:cNvSpPr/>
                  <p:nvPr/>
                </p:nvSpPr>
                <p:spPr>
                  <a:xfrm>
                    <a:off x="3205080" y="6242040"/>
                    <a:ext cx="2971800" cy="457200"/>
                  </a:xfrm>
                  <a:prstGeom prst="pie">
                    <a:avLst/>
                  </a:prstGeom>
                  <a:solidFill>
                    <a:srgbClr val="e1f4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" name="Group 11"/>
              <p:cNvGrpSpPr/>
              <p:nvPr/>
            </p:nvGrpSpPr>
            <p:grpSpPr>
              <a:xfrm>
                <a:off x="0" y="6394320"/>
                <a:ext cx="9143640" cy="457200"/>
                <a:chOff x="0" y="6394320"/>
                <a:chExt cx="9143640" cy="457200"/>
              </a:xfrm>
            </p:grpSpPr>
            <p:sp>
              <p:nvSpPr>
                <p:cNvPr id="10" name="Freeform 12"/>
                <p:cNvSpPr/>
                <p:nvPr/>
              </p:nvSpPr>
              <p:spPr>
                <a:xfrm>
                  <a:off x="4421880" y="6394320"/>
                  <a:ext cx="4721760" cy="457200"/>
                </a:xfrm>
                <a:prstGeom prst="pie">
                  <a:avLst/>
                </a:prstGeom>
                <a:solidFill>
                  <a:srgbClr val="dbe3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0" y="6470640"/>
                  <a:ext cx="4424760" cy="380880"/>
                </a:xfrm>
                <a:prstGeom prst="pie">
                  <a:avLst/>
                </a:prstGeom>
                <a:solidFill>
                  <a:srgbClr val="dbe3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" name="Picture 14" descr="quiklogo2"/>
              <p:cNvPicPr/>
              <p:nvPr/>
            </p:nvPicPr>
            <p:blipFill>
              <a:blip r:embed="rId2"/>
              <a:stretch/>
            </p:blipFill>
            <p:spPr>
              <a:xfrm>
                <a:off x="609480" y="5638680"/>
                <a:ext cx="1371600" cy="60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6665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5f5f5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qort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19320" y="1904760"/>
            <a:ext cx="6705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99"/>
                </a:solidFill>
                <a:latin typeface="Tahoma"/>
              </a:rPr>
              <a:t>QUIK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ahoma"/>
              </a:rPr>
              <a:t>интегрированная платформа доступа к финансовым рынк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3" descr="quiklogo2"/>
          <p:cNvPicPr/>
          <p:nvPr/>
        </p:nvPicPr>
        <p:blipFill>
          <a:blip r:embed="rId1"/>
          <a:stretch/>
        </p:blipFill>
        <p:spPr>
          <a:xfrm>
            <a:off x="762120" y="689040"/>
            <a:ext cx="1371600" cy="606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457200" y="5638680"/>
            <a:ext cx="16765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295280" y="51814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Century Gothic"/>
              </a:rPr>
              <a:t>Юрий Воро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TrustManager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pic>
        <p:nvPicPr>
          <p:cNvPr id="83" name="Picture 6" descr="http://www.quik.ru/images/trumbig.gif"/>
          <p:cNvPicPr/>
          <p:nvPr/>
        </p:nvPicPr>
        <p:blipFill>
          <a:blip r:embed="rId1"/>
          <a:stretch/>
        </p:blipFill>
        <p:spPr>
          <a:xfrm>
            <a:off x="2362320" y="1295280"/>
            <a:ext cx="57150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Клиентский уровень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281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лайн учет и контроль позиц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ржинальная торгов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убброк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бкая система прав досту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Интеграция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63640" y="1483920"/>
            <a:ext cx="71294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порт (в том числе онлайн) в различные хранилищ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спорт в пакеты ТА (Омега, Метасток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althLab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фейс для МТ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порт клиентских позиц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0022"/>
                </a:solidFill>
                <a:latin typeface="Tahoma"/>
              </a:rPr>
              <a:t>Дополнительные возможности</a:t>
            </a:r>
            <a:endParaRPr b="0" lang="en-US" sz="40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0920" y="1341360"/>
            <a:ext cx="640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вера досту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дуль отче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Manager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рминал для управляющ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дуль котир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троенный язык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P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0022"/>
                </a:solidFill>
                <a:latin typeface="Tahoma"/>
              </a:rPr>
              <a:t>Политика продаж и поддержки</a:t>
            </a:r>
            <a:endParaRPr b="0" lang="en-US" sz="40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562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родажные консультации и подготов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дульный принцип построения и покуп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дача новых версий в рамках платежей по поддержк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минары и обучение специалис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9988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0022"/>
                </a:solidFill>
                <a:latin typeface="Tahoma"/>
              </a:rPr>
              <a:t>О разработчике</a:t>
            </a:r>
            <a:br>
              <a:rPr sz="4000"/>
            </a:br>
            <a:r>
              <a:rPr b="0" lang="ru-RU" sz="3200" spc="-1" strike="noStrike">
                <a:solidFill>
                  <a:srgbClr val="b20022"/>
                </a:solidFill>
                <a:latin typeface="Tahoma"/>
              </a:rPr>
              <a:t>«СМВБ-Информационные технологии»</a:t>
            </a:r>
            <a:endParaRPr b="0" lang="en-US" sz="32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93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та основания – 2000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исленность – более 50 чел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ной офис – Новосибирск, филиал – в Москв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ля рынка интернет-трейдинга в России – 7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 российские площадки и 6 мировых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SE, NYSE, NASDAQ, AMEX, CME, CBO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иентация на задачи клиен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утсорсин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ORT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матизированны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ddle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ck-offic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брокера (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www.qort.ru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Наши координаты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66880" y="1828440"/>
            <a:ext cx="5678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http://www.quik.ru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я о систем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ales@quik.r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дажи и тест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upport@quik.r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хническая поддерж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(+7 383) 2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19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16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рячая ли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QUIK </a:t>
            </a: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в цифрах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0661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1125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K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спользуют около 200 инвесткомпаний и бан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1125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ьшинство крупнейших операторов рынка (10 из ТОП-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ем операци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K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П10 ФБ ММВБ в августе – 125 млрд. доллар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00 000 сделок в ден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ее 50 000 конечных пользовател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ее 250 000 сче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11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одного брокера до 5000 клиентов одновремен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Общий вид интерфейса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pic>
        <p:nvPicPr>
          <p:cNvPr id="65" name="Picture 6" descr="image_large_314_01_interface"/>
          <p:cNvPicPr/>
          <p:nvPr/>
        </p:nvPicPr>
        <p:blipFill>
          <a:blip r:embed="rId1"/>
          <a:stretch/>
        </p:blipFill>
        <p:spPr>
          <a:xfrm>
            <a:off x="1403280" y="1452600"/>
            <a:ext cx="626436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Возможности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281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осмотр рынка в разных разрезах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се основные типы биржевых приказов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истема условных приказов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лерты на рыночные показатели и событ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Графики с историей и техническим анализо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Гибкий интерфейс с закладками, настройкой цветов, шаблонами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Возможности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81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овости и котировки от различных информационных агентств (включая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uter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иск инструмента по коду или названию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озможность работы через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-интерфейс и с КП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Работа на западных площадках и прием ордеров от западных сетей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Англоязычный интерфей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33520" y="45720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0880" indent="-380880">
              <a:spcBef>
                <a:spcPts val="2999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Виды </a:t>
            </a:r>
            <a:r>
              <a:rPr b="0" lang="ru-RU" sz="4400" spc="-1" strike="noStrike">
                <a:solidFill>
                  <a:srgbClr val="b20022"/>
                </a:solidFill>
                <a:latin typeface="Tahoma"/>
              </a:rPr>
              <a:t>т</a:t>
            </a: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ерминалов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14240" y="1643040"/>
            <a:ext cx="6324840" cy="43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  <a:ea typeface="Tahoma"/>
              </a:rPr>
              <a:t>Дополнительные терминалы досту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eb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Q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cketQUIK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50000"/>
              </a:lnSpc>
              <a:spcAft>
                <a:spcPts val="15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Tahoma"/>
                <a:ea typeface="Tahoma"/>
              </a:rPr>
              <a:t>Специализированные термина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Lib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Aft>
                <a:spcPts val="15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rust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webQUIK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pic>
        <p:nvPicPr>
          <p:cNvPr id="74" name="Picture 5" descr="http://www.quik.ru/i/wq.gif"/>
          <p:cNvPicPr/>
          <p:nvPr/>
        </p:nvPicPr>
        <p:blipFill>
          <a:blip r:embed="rId1"/>
          <a:stretch/>
        </p:blipFill>
        <p:spPr>
          <a:xfrm>
            <a:off x="2362320" y="1371600"/>
            <a:ext cx="58672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2"/>
          <p:cNvGrpSpPr/>
          <p:nvPr/>
        </p:nvGrpSpPr>
        <p:grpSpPr>
          <a:xfrm>
            <a:off x="6629400" y="2590920"/>
            <a:ext cx="2230560" cy="3581280"/>
            <a:chOff x="6629400" y="2590920"/>
            <a:chExt cx="2230560" cy="3581280"/>
          </a:xfrm>
        </p:grpSpPr>
        <p:pic>
          <p:nvPicPr>
            <p:cNvPr id="76" name="Picture 3" descr="http://www.ixbt.com/pda/pda/hp/1940/19401.jpg"/>
            <p:cNvPicPr/>
            <p:nvPr/>
          </p:nvPicPr>
          <p:blipFill>
            <a:blip r:embed="rId1"/>
            <a:stretch/>
          </p:blipFill>
          <p:spPr>
            <a:xfrm>
              <a:off x="6629400" y="2590920"/>
              <a:ext cx="223056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_x0013_⮸ͪ⯀ͪ°"/>
            <p:cNvPicPr/>
            <p:nvPr/>
          </p:nvPicPr>
          <p:blipFill>
            <a:blip r:embed="rId2"/>
            <a:stretch/>
          </p:blipFill>
          <p:spPr>
            <a:xfrm>
              <a:off x="6951240" y="3035880"/>
              <a:ext cx="1596600" cy="218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583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0022"/>
                </a:solidFill>
                <a:latin typeface="Tahoma"/>
              </a:rPr>
              <a:t>Pocket</a:t>
            </a:r>
            <a:r>
              <a:rPr b="0" lang="ru-RU" sz="4000" spc="-1" strike="noStrike">
                <a:solidFill>
                  <a:srgbClr val="b20022"/>
                </a:solidFill>
                <a:latin typeface="Tahoma"/>
              </a:rPr>
              <a:t>QUIK</a:t>
            </a:r>
            <a:endParaRPr b="0" lang="en-US" sz="4000" spc="-1" strike="noStrike">
              <a:solidFill>
                <a:srgbClr val="b20022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90560" y="1523520"/>
            <a:ext cx="5257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пециальная версия системы 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QUIK </a:t>
            </a:r>
            <a:r>
              <a:rPr b="0" lang="ru-RU" sz="2800" spc="-1" strike="noStrike">
                <a:solidFill>
                  <a:srgbClr val="336699"/>
                </a:solidFill>
                <a:latin typeface="Tahoma"/>
              </a:rPr>
              <a:t>для работы на КП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20022"/>
                </a:solidFill>
                <a:latin typeface="Tahoma"/>
              </a:rPr>
              <a:t>Рекомендуемые параметры КПК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 Pocket PC 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о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бильный телефон 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P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0022"/>
                </a:solidFill>
                <a:latin typeface="Tahoma"/>
              </a:rPr>
              <a:t>CoLibri</a:t>
            </a:r>
            <a:endParaRPr b="0" lang="en-US" sz="4400" spc="-1" strike="noStrike">
              <a:solidFill>
                <a:srgbClr val="b20022"/>
              </a:solidFill>
              <a:latin typeface="Tahoma"/>
            </a:endParaRPr>
          </a:p>
        </p:txBody>
      </p:sp>
      <p:pic>
        <p:nvPicPr>
          <p:cNvPr id="81" name="Picture 12" descr="http://www.quik.ru/images/colibri_big.gif"/>
          <p:cNvPicPr/>
          <p:nvPr/>
        </p:nvPicPr>
        <p:blipFill>
          <a:blip r:embed="rId1"/>
          <a:stretch/>
        </p:blipFill>
        <p:spPr>
          <a:xfrm>
            <a:off x="2209680" y="1371600"/>
            <a:ext cx="62485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5:38:04Z</dcterms:created>
  <dc:creator>Vladimir Kurlyandchik</dc:creator>
  <dc:description/>
  <dc:language>en-US</dc:language>
  <cp:lastModifiedBy>Juassov</cp:lastModifiedBy>
  <dcterms:modified xsi:type="dcterms:W3CDTF">2007-09-24T07:15:23Z</dcterms:modified>
  <cp:revision>59</cp:revision>
  <dc:subject/>
  <dc:title>QUIK Trading System</dc:title>
</cp:coreProperties>
</file>