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E62-0CB1-4C0B-BD04-8CD0D4243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8FD-F692-4292-8CA6-B38AAEFD8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F5B6-D3EE-4502-82A5-B4E2F3B64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F228-B7D8-4410-BF8D-0FA7BC12B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FC4-2FE5-4D4A-87EF-CE9ED5616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B7AF-95F5-46EA-AB2C-B57A968E0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3897-B6F8-4531-A93C-4A2221FEB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7A9-D36C-44E8-AC56-94BE83016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0C3C-144D-40A1-A9C1-136BA9D6D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8576-B8EB-4A04-AB39-5FD182F00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80D-16E8-4B02-86AD-65F23146E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7A5-4A68-4391-8683-BCB251E8B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32B-0BB7-41E6-B66C-240D4D855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450-9F7E-483B-B613-9E244BBFE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7076-B50B-4E63-8702-41EC27EAC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оптимизации процедуры оценки кредитного риска и формирования адекватного уровня провизий также предполагается внедр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нтрцикличного подхо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котором требования к формированию резервов под возможные потери в период экономического роста будут повышены, а в период спада – понижены. Также будет внедрено формирование резервов на случай наступления стрессовых ситуаций или шоков. Раннее признание ожидаемых потерь по кредитам, прежде чем начнется экономический спад, вносит свой вклад в создание буферов до тех пор, пока доходы остаются хорошими, снижая давление на финансовое состояние банков и обеспечивая предоставление кредитов в периоды рец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рамках совершенствования риск-менеджмента и улучшения корпоративного управления предполагается повышение роли и ответственности Совета директоров за мониторинг, оценку и управление рисками, связанными с выпуском и приобретением финансовой организацией производных финансовых инструментов.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чество и эффективность системы управления рисками и корпоративного управления будут основаны на обеспечении наличия эффективного порядка принятия решений при осуществлении деятельности, позволяющего органу финансовой организации, уполномоченному принимать подобные решения, владеть полным перечнем информации, как о положительных последствиях данного решения, так и о возможных рисках. Такой порядок принятия решений предполагает вовлеченность в процесс подготовки информации и обсуждения всех подразделений организации, ответственных за различные аспекты ее деятельности. При этом особое внимание будет уделено повышению ответственности и установлению требований к компетентности руководителей и работников подразделений риск-мендежмента, равно как и органов управления финансовых организаций.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целях формирования адекватного уровня ликвидности финансовых институтов действующие стандарты оценки ликвидности будут оптимизированы, в частности, будут усовершенствованы количественные показатели и параметры для оценки достаточности ликвидности, в регулировании ликвидности будут также адаптированы международные стандарты поддержания ликвидности финансовой организации, в том числе на консолидированной основе, а также наличия минимального уровня ликвидности, необходимого в период стрессовых ситуаций (буфер ликвидных активов).»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целях предоставления возможности использования рейтинговых оценок национальных рейтинговых агентств в регулировании деятельности субъектов финансового рынка будут выработаны подходы к регулированию и надзору за деятельностью рейтинговых агентств в Республике Казахстан, в том числе предусматривающие вопросы наделения Агентства соответствующими функциями и полномочиями. Предполагается, что регулирование и надзор за деятельностью национальных рейтинговых агентств будут предусматривать процедуры лицензирования, а также требования к деятельности рейтинговых агентст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захстанская модель регулирования и надзора за деятельностью рейтинговых агентств Казахстана будет сформулирована после определения окончательной модели регулирования деятельности рейтинговых агентств в странах ЕС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6E7-3B48-4A15-ADD6-BB6CDDFF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BE3-3ABA-4586-B232-0B229D3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C86-DBCB-4A81-8BAD-03F914C2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030-B7E9-4204-B744-DD9216CB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CEE-D4CD-4920-92D7-51557D6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0A8-706F-4C77-86E2-5466C5E9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D68-E6ED-498D-B7F6-03C0FE7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334-181E-429E-894C-CB82812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A6F-65EE-4885-9790-92C9756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516-D285-4897-BB0B-A51D92C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D7D-8262-48E8-BCEB-77EE41C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31E-C613-413F-86E3-B15B04EC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DC0E-6726-4869-9296-586B69DD8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mileycentral.com/?partner=ZSzeb001_ZB" TargetMode="External"/><Relationship Id="rId5" Type="http://schemas.openxmlformats.org/officeDocument/2006/relationships/hyperlink" Target="http://www.smileycentral.com/?partner=ZSzeb001_ZB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зор антикризисных регуляторных мер на фондовом рынке Республики Казахста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нтябрь 2009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3124080" cy="107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4"/>
          <p:cNvPicPr/>
          <p:nvPr/>
        </p:nvPicPr>
        <p:blipFill>
          <a:blip r:embed="rId2"/>
          <a:stretch/>
        </p:blipFill>
        <p:spPr>
          <a:xfrm>
            <a:off x="2666880" y="0"/>
            <a:ext cx="548640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5"/>
          <p:cNvPicPr/>
          <p:nvPr/>
        </p:nvPicPr>
        <p:blipFill>
          <a:blip r:embed="rId3"/>
          <a:stretch/>
        </p:blipFill>
        <p:spPr>
          <a:xfrm>
            <a:off x="8153280" y="0"/>
            <a:ext cx="990720" cy="1077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100000">
                <a:srgbClr val="3a58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462E-B95F-4602-AD54-84791A7B0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B846-2CBE-4CC4-87A6-EA2695040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5"/>
          <p:cNvPicPr/>
          <p:nvPr/>
        </p:nvPicPr>
        <p:blipFill>
          <a:blip r:embed="rId1"/>
          <a:stretch/>
        </p:blipFill>
        <p:spPr>
          <a:xfrm>
            <a:off x="8153280" y="0"/>
            <a:ext cx="990720" cy="1077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3124080" cy="107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4"/>
          <p:cNvPicPr/>
          <p:nvPr/>
        </p:nvPicPr>
        <p:blipFill>
          <a:blip r:embed="rId3"/>
          <a:stretch/>
        </p:blipFill>
        <p:spPr>
          <a:xfrm>
            <a:off x="2666880" y="0"/>
            <a:ext cx="5486400" cy="1068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100000">
                <a:srgbClr val="3a58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rId4"/>
          </p:cNvPr>
          <p:cNvSpPr/>
          <p:nvPr/>
        </p:nvSpPr>
        <p:spPr>
          <a:xfrm>
            <a:off x="4218120" y="2943360"/>
            <a:ext cx="707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>
            <a:hlinkClick r:id="rId5"/>
          </p:cNvPr>
          <p:cNvSpPr/>
          <p:nvPr/>
        </p:nvSpPr>
        <p:spPr>
          <a:xfrm>
            <a:off x="4218120" y="2943360"/>
            <a:ext cx="707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985-8D5F-46CD-9AD6-7E61D2E3E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958F-1EF2-4B84-A78D-C9A7FD67C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0B62-2EF0-4761-802B-956E90C5F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6095880" y="2971800"/>
            <a:ext cx="25909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152280" y="1600200"/>
            <a:ext cx="5715000" cy="60948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«левереджа» в банковском сект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52280" y="2590920"/>
            <a:ext cx="5715000" cy="53316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цен на недвиж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152280" y="3505320"/>
            <a:ext cx="5791320" cy="685800"/>
          </a:xfrm>
          <a:custGeom>
            <a:avLst/>
            <a:gdLst>
              <a:gd name="textAreaLeft" fmla="*/ 0 w 5791320"/>
              <a:gd name="textAreaRight" fmla="*/ 5791680 w 5791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ный рост кредитова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предъявляемы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152280" y="4648320"/>
            <a:ext cx="5867640" cy="457200"/>
          </a:xfrm>
          <a:custGeom>
            <a:avLst/>
            <a:gdLst>
              <a:gd name="textAreaLeft" fmla="*/ 0 w 5867640"/>
              <a:gd name="textAreaRight" fmla="*/ 5868000 w 5867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жнение схем секьюрит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152280" y="5562720"/>
            <a:ext cx="5943600" cy="4572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оценка риска ликв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6021-E506-4DA2-B174-6DCD56BED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243-1D7A-45D4-A574-61C107CBB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301F-9077-41F4-9D05-7C619E10B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52280" y="609480"/>
            <a:ext cx="861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дек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6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9" descr=""/>
          <p:cNvPicPr/>
          <p:nvPr/>
        </p:nvPicPr>
        <p:blipFill>
          <a:blip r:embed="rId2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A822-283A-4DE3-8B37-B2FF1ACA7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8BC4-9E6A-44C7-84F2-B50172E8B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2607-53E9-4B63-ADFD-CA910AA78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152280" y="838080"/>
            <a:ext cx="861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питализация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KASE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по акциям и облигациям (в млрд.тен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0"/>
          <p:cNvGraphicFramePr/>
          <p:nvPr/>
        </p:nvGraphicFramePr>
        <p:xfrm>
          <a:off x="380880" y="1600200"/>
          <a:ext cx="83152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152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B449-34CD-49CE-967C-EF63BE328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явленные проблемы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362320"/>
            <a:ext cx="2209680" cy="199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зис ликвидности: недостаточные ресурсы для фонд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362320" y="2362320"/>
            <a:ext cx="2133360" cy="199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ое снижение стоимости финансовых инстр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010280" y="2362320"/>
            <a:ext cx="2133720" cy="197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ыполнение обязательств участниками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724280" y="2362320"/>
            <a:ext cx="2133720" cy="2012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праведливой стоимости а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4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6D2E-2DED-4FFF-9D49-00B6F32A5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дпринятые меры (1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04920" y="1447920"/>
            <a:ext cx="2133360" cy="161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зис ликвидности: недостаточные ресурсы для фон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657600" y="1447920"/>
            <a:ext cx="2057400" cy="15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снижение стоимости финансовых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29400" y="1447920"/>
            <a:ext cx="19810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справедливой стоимости ак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137160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464832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>
            <a:off x="762012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2286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а «буферная» катего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 перечень финансовых инструментов, входящих в состав ликвидных актив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о требование к размеру активов клиента на счетах брокера в зависимости от суммы операции «реп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3429000" y="3581280"/>
            <a:ext cx="2362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ы случаи приостановления торгов на фондовой бирже и порядок их возобно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5562720" y="3581280"/>
            <a:ext cx="3352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171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 единый порядок оценки финансовых инструментов, составляющих активы накопительного пенсионного и инвестиционного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3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E2C-EE0F-43A9-9F40-4B7573948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дпринятые меры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895480" y="1600200"/>
            <a:ext cx="3200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ыполнение обязательств участниками ры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4114800"/>
            <a:ext cx="365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расчетов СК и К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ет «коротких продаж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репо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 д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требований к программно-техническим средствам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563868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800600" y="4038480"/>
            <a:ext cx="3505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ственность брокеров по сделкам «репо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ельный уровень маржи при заключении маржинальных сдел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ление дополнительных требований к эмитентам при регулировании выпуска ценных бумаг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процедуры реструктуризации обязательств эмитентов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3429000" y="3581280"/>
            <a:ext cx="2209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0" y="3048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D74D-DE24-44F6-9AB4-9DCDBAE16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иоритетны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52280" y="990720"/>
            <a:ext cx="4114800" cy="73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ход от процикличного к контрцикличному подходу в регулировании финансовых организа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52280" y="1905120"/>
            <a:ext cx="4114800" cy="73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ответственности должностных лиц и крупных участников, совершенствование корпоративного 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2280" y="2819520"/>
            <a:ext cx="4114800" cy="73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рис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52280" y="3733920"/>
            <a:ext cx="4114800" cy="5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защиты прав потребителей финансовых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4648320"/>
            <a:ext cx="4114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е финансовые 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52280" y="5105520"/>
            <a:ext cx="4114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ая стоимость ак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5562720"/>
            <a:ext cx="4114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йтинговые аген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343400" y="9907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пруденциального регу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подъем – ужесточение требования к капиталу, экономический спад – смягчение требования к капит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343400" y="1828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ющ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керов и (или) дил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6477120" y="182880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553080" y="198108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дуци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343400" y="27432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ие международные станд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покрытие рис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-your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-тестинг и анализ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343400" y="3657600"/>
            <a:ext cx="4648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омбудс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зрачности деятельности эмитентов и профессиональных участников рынка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контроля за манипулированием и использовани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айдерск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343400" y="4648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ламские финансовые инстр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343400" y="502920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ительные пенсионные фон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4343400" y="54864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подходов к использованию рейтинговых оц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8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9"/>
          <p:cNvSpPr/>
          <p:nvPr/>
        </p:nvSpPr>
        <p:spPr>
          <a:xfrm>
            <a:off x="152280" y="6095880"/>
            <a:ext cx="4114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343400" y="603720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работе международных интеграционных объединений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ши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62120" y="175248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финансовой стабильности финансового рынка и финансовых организаций и поддержание доверия к финансовой системе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го уровня защиты интересов потребителей финансов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равноправных условий для деятельности финансовых организаций, направленных на поддержание добросовестной конкуренции на финансовом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8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anyshbek</dc:creator>
  <dc:description/>
  <dc:language>en-US</dc:language>
  <cp:lastModifiedBy>User</cp:lastModifiedBy>
  <dcterms:modified xsi:type="dcterms:W3CDTF">2009-09-04T03:28:47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