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7F9B-D29F-4C6F-BEAE-08250E360B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0D1B-4475-4CA0-A754-1A80C28A6C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F808-4C1F-4878-BD89-1D07A1B740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08F3-9425-4A53-97F4-6B0A1809C4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46CF-8205-4564-BAAC-5C3056BB7D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BC24-E5F6-4896-9242-1290E56929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0543-3C6F-46C2-8E8D-B9516CB35B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E3B8-6E28-443F-ACA5-3D1EDA92FE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5020-528F-4B5E-93A5-E59F7CA502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F5BC-3C23-45F4-822B-544F6A4570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C815-6BD5-4D25-93A3-E74473273F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оптимизации процедуры оценки кредитного риска и формирования адекватного уровня провизий также предполагается внедрени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контрцикличного подход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ри котором требования к формированию резервов под возможные потери в период экономического роста будут повышены, а в период спада – понижены. Также будет внедрено формирование резервов на случай наступления стрессовых ситуаций или шоков. Раннее признание ожидаемых потерь по кредитам, прежде чем начнется экономический спад, вносит свой вклад в создание буферов до тех пор, пока доходы остаются хорошими, снижая давление на финансовое состояние банков и обеспечивая предоставление кредитов в периоды реце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 рамках совершенствования риск-менеджмента и улучшения корпоративного управления предполагается повышение роли и ответственности Совета директоров за мониторинг, оценку и управление рисками, связанными с выпуском и приобретением финансовой организацией производных финансовых инструментов.»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ачество и эффективность системы управления рисками и корпоративного управления будут основаны на обеспечении наличия эффективного порядка принятия решений при осуществлении деятельности, позволяющего органу финансовой организации, уполномоченному принимать подобные решения, владеть полным перечнем информации, как о положительных последствиях данного решения, так и о возможных рисках. Такой порядок принятия решений предполагает вовлеченность в процесс подготовки информации и обсуждения всех подразделений организации, ответственных за различные аспекты ее деятельности. При этом особое внимание будет уделено повышению ответственности и установлению требований к компетентности руководителей и работников подразделений риск-мендежмента, равно как и органов управления финансовых организаций.»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целях формирования адекватного уровня ликвидности финансовых институтов действующие стандарты оценки ликвидности будут оптимизированы, в частности, будут усовершенствованы количественные показатели и параметры для оценки достаточности ликвидности, в регулировании ликвидности будут также адаптированы международные стандарты поддержания ликвидности финансовой организации, в том числе на консолидированной основе, а также наличия минимального уровня ликвидности, необходимого в период стрессовых ситуаций (буфер ликвидных активов).»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 целях предоставления возможности использования рейтинговых оценок национальных рейтинговых агентств в регулировании деятельности субъектов финансового рынка будут выработаны подходы к регулированию и надзору за деятельностью рейтинговых агентств в Республике Казахстан, в том числе предусматривающие вопросы наделения Агентства соответствующими функциями и полномочиями. Предполагается, что регулирование и надзор за деятельностью национальных рейтинговых агентств будут предусматривать процедуры лицензирования, а также требования к деятельности рейтинговых агентст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азахстанская модель регулирования и надзора за деятельностью рейтинговых агентств Казахстана будет сформулирована после определения окончательной модели регулирования деятельности рейтинговых агентств в странах ЕС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5269-882C-44F0-B48A-016B441E2B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оптимизации процедуры оценки кредитного риска и формирования адекватного уровня провизий также предполагается внедрени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контрцикличного подход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ри котором требования к формированию резервов под возможные потери в период экономического роста будут повышены, а в период спада – понижены. Также будет внедрено формирование резервов на случай наступления стрессовых ситуаций или шоков. Раннее признание ожидаемых потерь по кредитам, прежде чем начнется экономический спад, вносит свой вклад в создание буферов до тех пор, пока доходы остаются хорошими, снижая давление на финансовое состояние банков и обеспечивая предоставление кредитов в периоды реце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 рамках совершенствования риск-менеджмента и улучшения корпоративного управления предполагается повышение роли и ответственности Совета директоров за мониторинг, оценку и управление рисками, связанными с выпуском и приобретением финансовой организацией производных финансовых инструментов.»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ачество и эффективность системы управления рисками и корпоративного управления будут основаны на обеспечении наличия эффективного порядка принятия решений при осуществлении деятельности, позволяющего органу финансовой организации, уполномоченному принимать подобные решения, владеть полным перечнем информации, как о положительных последствиях данного решения, так и о возможных рисках. Такой порядок принятия решений предполагает вовлеченность в процесс подготовки информации и обсуждения всех подразделений организации, ответственных за различные аспекты ее деятельности. При этом особое внимание будет уделено повышению ответственности и установлению требований к компетентности руководителей и работников подразделений риск-мендежмента, равно как и органов управления финансовых организаций.»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целях формирования адекватного уровня ликвидности финансовых институтов действующие стандарты оценки ликвидности будут оптимизированы, в частности, будут усовершенствованы количественные показатели и параметры для оценки достаточности ликвидности, в регулировании ликвидности будут также адаптированы международные стандарты поддержания ликвидности финансовой организации, в том числе на консолидированной основе, а также наличия минимального уровня ликвидности, необходимого в период стрессовых ситуаций (буфер ликвидных активов).»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 целях предоставления возможности использования рейтинговых оценок национальных рейтинговых агентств в регулировании деятельности субъектов финансового рынка будут выработаны подходы к регулированию и надзору за деятельностью рейтинговых агентств в Республике Казахстан, в том числе предусматривающие вопросы наделения Агентства соответствующими функциями и полномочиями. Предполагается, что регулирование и надзор за деятельностью национальных рейтинговых агентств будут предусматривать процедуры лицензирования, а также требования к деятельности рейтинговых агентст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азахстанская модель регулирования и надзора за деятельностью рейтинговых агентств Казахстана будет сформулирована после определения окончательной модели регулирования деятельности рейтинговых агентств в странах ЕС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317B-2B91-4AEB-B50B-157BB21BE9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оптимизации процедуры оценки кредитного риска и формирования адекватного уровня провизий также предполагается внедрени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контрцикличного подход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ри котором требования к формированию резервов под возможные потери в период экономического роста будут повышены, а в период спада – понижены. Также будет внедрено формирование резервов на случай наступления стрессовых ситуаций или шоков. Раннее признание ожидаемых потерь по кредитам, прежде чем начнется экономический спад, вносит свой вклад в создание буферов до тех пор, пока доходы остаются хорошими, снижая давление на финансовое состояние банков и обеспечивая предоставление кредитов в периоды реце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 рамках совершенствования риск-менеджмента и улучшения корпоративного управления предполагается повышение роли и ответственности Совета директоров за мониторинг, оценку и управление рисками, связанными с выпуском и приобретением финансовой организацией производных финансовых инструментов.»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ачество и эффективность системы управления рисками и корпоративного управления будут основаны на обеспечении наличия эффективного порядка принятия решений при осуществлении деятельности, позволяющего органу финансовой организации, уполномоченному принимать подобные решения, владеть полным перечнем информации, как о положительных последствиях данного решения, так и о возможных рисках. Такой порядок принятия решений предполагает вовлеченность в процесс подготовки информации и обсуждения всех подразделений организации, ответственных за различные аспекты ее деятельности. При этом особое внимание будет уделено повышению ответственности и установлению требований к компетентности руководителей и работников подразделений риск-мендежмента, равно как и органов управления финансовых организаций.»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целях формирования адекватного уровня ликвидности финансовых институтов действующие стандарты оценки ликвидности будут оптимизированы, в частности, будут усовершенствованы количественные показатели и параметры для оценки достаточности ликвидности, в регулировании ликвидности будут также адаптированы международные стандарты поддержания ликвидности финансовой организации, в том числе на консолидированной основе, а также наличия минимального уровня ликвидности, необходимого в период стрессовых ситуаций (буфер ликвидных активов).»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 целях предоставления возможности использования рейтинговых оценок национальных рейтинговых агентств в регулировании деятельности субъектов финансового рынка будут выработаны подходы к регулированию и надзору за деятельностью рейтинговых агентств в Республике Казахстан, в том числе предусматривающие вопросы наделения Агентства соответствующими функциями и полномочиями. Предполагается, что регулирование и надзор за деятельностью национальных рейтинговых агентств будут предусматривать процедуры лицензирования, а также требования к деятельности рейтинговых агентст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азахстанская модель регулирования и надзора за деятельностью рейтинговых агентств Казахстана будет сформулирована после определения окончательной модели регулирования деятельности рейтинговых агентств в странах ЕС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5390-8E49-45B3-8AEC-76FF79C080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оптимизации процедуры оценки кредитного риска и формирования адекватного уровня провизий также предполагается внедрени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контрцикличного подход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ри котором требования к формированию резервов под возможные потери в период экономического роста будут повышены, а в период спада – понижены. Также будет внедрено формирование резервов на случай наступления стрессовых ситуаций или шоков. Раннее признание ожидаемых потерь по кредитам, прежде чем начнется экономический спад, вносит свой вклад в создание буферов до тех пор, пока доходы остаются хорошими, снижая давление на финансовое состояние банков и обеспечивая предоставление кредитов в периоды реце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 рамках совершенствования риск-менеджмента и улучшения корпоративного управления предполагается повышение роли и ответственности Совета директоров за мониторинг, оценку и управление рисками, связанными с выпуском и приобретением финансовой организацией производных финансовых инструментов.»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ачество и эффективность системы управления рисками и корпоративного управления будут основаны на обеспечении наличия эффективного порядка принятия решений при осуществлении деятельности, позволяющего органу финансовой организации, уполномоченному принимать подобные решения, владеть полным перечнем информации, как о положительных последствиях данного решения, так и о возможных рисках. Такой порядок принятия решений предполагает вовлеченность в процесс подготовки информации и обсуждения всех подразделений организации, ответственных за различные аспекты ее деятельности. При этом особое внимание будет уделено повышению ответственности и установлению требований к компетентности руководителей и работников подразделений риск-мендежмента, равно как и органов управления финансовых организаций.»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целях формирования адекватного уровня ликвидности финансовых институтов действующие стандарты оценки ликвидности будут оптимизированы, в частности, будут усовершенствованы количественные показатели и параметры для оценки достаточности ликвидности, в регулировании ликвидности будут также адаптированы международные стандарты поддержания ликвидности финансовой организации, в том числе на консолидированной основе, а также наличия минимального уровня ликвидности, необходимого в период стрессовых ситуаций (буфер ликвидных активов).»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 целях предоставления возможности использования рейтинговых оценок национальных рейтинговых агентств в регулировании деятельности субъектов финансового рынка будут выработаны подходы к регулированию и надзору за деятельностью рейтинговых агентств в Республике Казахстан, в том числе предусматривающие вопросы наделения Агентства соответствующими функциями и полномочиями. Предполагается, что регулирование и надзор за деятельностью национальных рейтинговых агентств будут предусматривать процедуры лицензирования, а также требования к деятельности рейтинговых агентст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азахстанская модель регулирования и надзора за деятельностью рейтинговых агентств Казахстана будет сформулирована после определения окончательной модели регулирования деятельности рейтинговых агентств в странах ЕС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DF4A-AF8D-4777-AF8E-9271D572F6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оптимизации процедуры оценки кредитного риска и формирования адекватного уровня провизий также предполагается внедрени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контрцикличного подход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ри котором требования к формированию резервов под возможные потери в период экономического роста будут повышены, а в период спада – понижены. Также будет внедрено формирование резервов на случай наступления стрессовых ситуаций или шоков. Раннее признание ожидаемых потерь по кредитам, прежде чем начнется экономический спад, вносит свой вклад в создание буферов до тех пор, пока доходы остаются хорошими, снижая давление на финансовое состояние банков и обеспечивая предоставление кредитов в периоды реце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 рамках совершенствования риск-менеджмента и улучшения корпоративного управления предполагается повышение роли и ответственности Совета директоров за мониторинг, оценку и управление рисками, связанными с выпуском и приобретением финансовой организацией производных финансовых инструментов.»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ачество и эффективность системы управления рисками и корпоративного управления будут основаны на обеспечении наличия эффективного порядка принятия решений при осуществлении деятельности, позволяющего органу финансовой организации, уполномоченному принимать подобные решения, владеть полным перечнем информации, как о положительных последствиях данного решения, так и о возможных рисках. Такой порядок принятия решений предполагает вовлеченность в процесс подготовки информации и обсуждения всех подразделений организации, ответственных за различные аспекты ее деятельности. При этом особое внимание будет уделено повышению ответственности и установлению требований к компетентности руководителей и работников подразделений риск-мендежмента, равно как и органов управления финансовых организаций.»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целях формирования адекватного уровня ликвидности финансовых институтов действующие стандарты оценки ликвидности будут оптимизированы, в частности, будут усовершенствованы количественные показатели и параметры для оценки достаточности ликвидности, в регулировании ликвидности будут также адаптированы международные стандарты поддержания ликвидности финансовой организации, в том числе на консолидированной основе, а также наличия минимального уровня ликвидности, необходимого в период стрессовых ситуаций (буфер ликвидных активов).»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 целях предоставления возможности использования рейтинговых оценок национальных рейтинговых агентств в регулировании деятельности субъектов финансового рынка будут выработаны подходы к регулированию и надзору за деятельностью рейтинговых агентств в Республике Казахстан, в том числе предусматривающие вопросы наделения Агентства соответствующими функциями и полномочиями. Предполагается, что регулирование и надзор за деятельностью национальных рейтинговых агентств будут предусматривать процедуры лицензирования, а также требования к деятельности рейтинговых агентст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азахстанская модель регулирования и надзора за деятельностью рейтинговых агентств Казахстана будет сформулирована после определения окончательной модели регулирования деятельности рейтинговых агентств в странах ЕС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FB32-E69C-4A07-98F9-F7F07B3C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774E-1A07-4926-B599-CDD1F74E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1960-3D5C-475D-B712-F3C29610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EFEF-0BBA-48DA-95E2-29235AB1E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EE01-69B3-4261-9702-A15E162C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9C21-7171-494E-8731-18DC0D3B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43C6-8CCB-42C1-9516-03353634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32FB-2860-4A55-B593-6DED8FA4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A717-8831-4D0C-A206-9B06A114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0679-F66D-46BD-81EC-E36A8374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FC19-34D5-4364-A396-56FFAB59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1CCB-3409-4C29-A860-BFD5725D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6C65-1262-4757-BF6F-1FE2C7643B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mileycentral.com/?partner=ZSzeb001_ZB" TargetMode="External"/><Relationship Id="rId5" Type="http://schemas.openxmlformats.org/officeDocument/2006/relationships/hyperlink" Target="http://www.smileycentral.com/?partner=ZSzeb001_ZB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зор антикризисных регуляторных мер на фондовом рынке Республики Казахстан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617184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нтябрь 2009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3124080" cy="1077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4"/>
          <p:cNvPicPr/>
          <p:nvPr/>
        </p:nvPicPr>
        <p:blipFill>
          <a:blip r:embed="rId2"/>
          <a:stretch/>
        </p:blipFill>
        <p:spPr>
          <a:xfrm>
            <a:off x="2666880" y="0"/>
            <a:ext cx="5486400" cy="1068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5"/>
          <p:cNvPicPr/>
          <p:nvPr/>
        </p:nvPicPr>
        <p:blipFill>
          <a:blip r:embed="rId3"/>
          <a:stretch/>
        </p:blipFill>
        <p:spPr>
          <a:xfrm>
            <a:off x="8153280" y="0"/>
            <a:ext cx="990720" cy="10778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gradFill rotWithShape="0">
            <a:gsLst>
              <a:gs pos="0">
                <a:srgbClr val="7dbeff"/>
              </a:gs>
              <a:gs pos="100000">
                <a:srgbClr val="3a58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C9C9-8393-473F-B2BA-005450CC5B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B2B7-5E0C-4E19-AF8B-2A887C649C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282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Благодарю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5"/>
          <p:cNvPicPr/>
          <p:nvPr/>
        </p:nvPicPr>
        <p:blipFill>
          <a:blip r:embed="rId1"/>
          <a:stretch/>
        </p:blipFill>
        <p:spPr>
          <a:xfrm>
            <a:off x="8153280" y="0"/>
            <a:ext cx="990720" cy="1077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1"/>
          <p:cNvPicPr/>
          <p:nvPr/>
        </p:nvPicPr>
        <p:blipFill>
          <a:blip r:embed="rId2"/>
          <a:stretch/>
        </p:blipFill>
        <p:spPr>
          <a:xfrm>
            <a:off x="0" y="0"/>
            <a:ext cx="3124080" cy="1077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4"/>
          <p:cNvPicPr/>
          <p:nvPr/>
        </p:nvPicPr>
        <p:blipFill>
          <a:blip r:embed="rId3"/>
          <a:stretch/>
        </p:blipFill>
        <p:spPr>
          <a:xfrm>
            <a:off x="2666880" y="0"/>
            <a:ext cx="5486400" cy="10684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gradFill rotWithShape="0">
            <a:gsLst>
              <a:gs pos="0">
                <a:srgbClr val="7dbeff"/>
              </a:gs>
              <a:gs pos="100000">
                <a:srgbClr val="3a58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>
            <a:hlinkClick r:id="rId4"/>
          </p:cNvPr>
          <p:cNvSpPr/>
          <p:nvPr/>
        </p:nvSpPr>
        <p:spPr>
          <a:xfrm>
            <a:off x="4218120" y="2943360"/>
            <a:ext cx="70776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9">
            <a:hlinkClick r:id="rId5"/>
          </p:cNvPr>
          <p:cNvSpPr/>
          <p:nvPr/>
        </p:nvSpPr>
        <p:spPr>
          <a:xfrm>
            <a:off x="4218120" y="2943360"/>
            <a:ext cx="70776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CD2E-91F4-4601-92EB-976F52858C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D3F3-5339-41D6-B433-4BA6B75364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F5A6-1B69-4A41-AC68-FD221451FA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0"/>
          <p:cNvSpPr/>
          <p:nvPr/>
        </p:nvSpPr>
        <p:spPr>
          <a:xfrm>
            <a:off x="6095880" y="2971800"/>
            <a:ext cx="2590920" cy="1676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з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3"/>
          <p:cNvSpPr/>
          <p:nvPr/>
        </p:nvSpPr>
        <p:spPr>
          <a:xfrm>
            <a:off x="152280" y="1600200"/>
            <a:ext cx="5715000" cy="609480"/>
          </a:xfrm>
          <a:custGeom>
            <a:avLst/>
            <a:gdLst>
              <a:gd name="textAreaLeft" fmla="*/ 0 w 5715000"/>
              <a:gd name="textAreaRight" fmla="*/ 5715360 w 57150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т «левереджа» в банковском сект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6"/>
          <p:cNvSpPr/>
          <p:nvPr/>
        </p:nvSpPr>
        <p:spPr>
          <a:xfrm>
            <a:off x="152280" y="2590920"/>
            <a:ext cx="5715000" cy="533160"/>
          </a:xfrm>
          <a:custGeom>
            <a:avLst/>
            <a:gdLst>
              <a:gd name="textAreaLeft" fmla="*/ 0 w 5715000"/>
              <a:gd name="textAreaRight" fmla="*/ 5715360 w 571500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т цен на недвиж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1"/>
          <p:cNvSpPr/>
          <p:nvPr/>
        </p:nvSpPr>
        <p:spPr>
          <a:xfrm>
            <a:off x="152280" y="3505320"/>
            <a:ext cx="5791320" cy="685800"/>
          </a:xfrm>
          <a:custGeom>
            <a:avLst/>
            <a:gdLst>
              <a:gd name="textAreaLeft" fmla="*/ 0 w 5791320"/>
              <a:gd name="textAreaRight" fmla="*/ 5791680 w 57913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намичный рост кредитования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ижение предъявляемых треб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2"/>
          <p:cNvSpPr/>
          <p:nvPr/>
        </p:nvSpPr>
        <p:spPr>
          <a:xfrm>
            <a:off x="152280" y="4648320"/>
            <a:ext cx="5867640" cy="457200"/>
          </a:xfrm>
          <a:custGeom>
            <a:avLst/>
            <a:gdLst>
              <a:gd name="textAreaLeft" fmla="*/ 0 w 5867640"/>
              <a:gd name="textAreaRight" fmla="*/ 5868000 w 58676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жнение схем секьюрит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3"/>
          <p:cNvSpPr/>
          <p:nvPr/>
        </p:nvSpPr>
        <p:spPr>
          <a:xfrm>
            <a:off x="152280" y="5562720"/>
            <a:ext cx="5943600" cy="457200"/>
          </a:xfrm>
          <a:custGeom>
            <a:avLst/>
            <a:gdLst>
              <a:gd name="textAreaLeft" fmla="*/ 0 w 5943600"/>
              <a:gd name="textAreaRight" fmla="*/ 5943960 w 5943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дооценка риска ликви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4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0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9931-B45E-4C7D-B8E9-CC1BFE3272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4351-5FA4-4535-99CB-32A21B82C6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EC8F-2E0B-43EE-ABAA-43DA6EE849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2"/>
          <p:cNvSpPr/>
          <p:nvPr/>
        </p:nvSpPr>
        <p:spPr>
          <a:xfrm>
            <a:off x="152280" y="609480"/>
            <a:ext cx="8610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Индекс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65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229600" cy="4800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69" descr=""/>
          <p:cNvPicPr/>
          <p:nvPr/>
        </p:nvPicPr>
        <p:blipFill>
          <a:blip r:embed="rId2"/>
          <a:stretch/>
        </p:blipFill>
        <p:spPr>
          <a:xfrm>
            <a:off x="8010360" y="0"/>
            <a:ext cx="1133640" cy="10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2568-0711-498F-9652-0B3222BC0D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40FC-8487-4E7A-A246-41472AA623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1E29-5C94-44D1-8F93-425B2A054F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2"/>
          <p:cNvSpPr/>
          <p:nvPr/>
        </p:nvSpPr>
        <p:spPr>
          <a:xfrm>
            <a:off x="152280" y="838080"/>
            <a:ext cx="8610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Капитализация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KASE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по акциям и облигациям (в млрд.тенг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10"/>
          <p:cNvGraphicFramePr/>
          <p:nvPr/>
        </p:nvGraphicFramePr>
        <p:xfrm>
          <a:off x="380880" y="1600200"/>
          <a:ext cx="831528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3152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11" descr=""/>
          <p:cNvPicPr/>
          <p:nvPr/>
        </p:nvPicPr>
        <p:blipFill>
          <a:blip r:embed="rId3"/>
          <a:stretch/>
        </p:blipFill>
        <p:spPr>
          <a:xfrm>
            <a:off x="8010360" y="0"/>
            <a:ext cx="1133640" cy="10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C96A-BDCB-4613-A4BC-0D0E477875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ыявленные проблемы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0" y="2362320"/>
            <a:ext cx="2209680" cy="199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зис ликвидности: недостаточные ресурсы для фонд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2362320" y="2362320"/>
            <a:ext cx="2133360" cy="199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ительное снижение стоимости финансовых инстру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7010280" y="2362320"/>
            <a:ext cx="2133720" cy="197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ыполнение обязательств участниками ры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4724280" y="2362320"/>
            <a:ext cx="2133720" cy="2012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справедливой стоимости актив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4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8F3B-7F9D-4D22-87A6-CB5DB9C653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едпринятые меры (1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04920" y="1447920"/>
            <a:ext cx="2133360" cy="1612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зис ликвидности: недостаточные ресурсы для фонд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3657600" y="1447920"/>
            <a:ext cx="2057400" cy="158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снижение стоимости финансовых инстр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6629400" y="1447920"/>
            <a:ext cx="19810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ие справедливой стоимости акти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7"/>
          <p:cNvSpPr/>
          <p:nvPr/>
        </p:nvSpPr>
        <p:spPr>
          <a:xfrm>
            <a:off x="1371600" y="3048120"/>
            <a:ext cx="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8"/>
          <p:cNvSpPr/>
          <p:nvPr/>
        </p:nvSpPr>
        <p:spPr>
          <a:xfrm>
            <a:off x="4648320" y="3048120"/>
            <a:ext cx="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9"/>
          <p:cNvSpPr/>
          <p:nvPr/>
        </p:nvSpPr>
        <p:spPr>
          <a:xfrm>
            <a:off x="7620120" y="3048120"/>
            <a:ext cx="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"/>
          <p:cNvSpPr/>
          <p:nvPr/>
        </p:nvSpPr>
        <p:spPr>
          <a:xfrm>
            <a:off x="228600" y="3581280"/>
            <a:ext cx="30481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здана «буферная» категор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ширен перечень финансовых инструментов, входящих в состав ликвидных актив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ановлено требование к размеру активов клиента на счетах брокера в зависимости от суммы операции «репо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1"/>
          <p:cNvSpPr/>
          <p:nvPr/>
        </p:nvSpPr>
        <p:spPr>
          <a:xfrm>
            <a:off x="3429000" y="3581280"/>
            <a:ext cx="2362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ены случаи приостановления торгов на фондовой бирже и порядок их возобно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5562720" y="3581280"/>
            <a:ext cx="3352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28560" indent="-1713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ановлен единый порядок оценки финансовых инструментов, составляющих активы накопительного пенсионного и инвестиционного фон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3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C10A-CDA8-4F1E-B72B-64D6B7F32E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едпринятые меры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895480" y="1600200"/>
            <a:ext cx="320040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ыполнение обязательств участниками рын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914400" y="4114800"/>
            <a:ext cx="3657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ершенствование расчетов СК и К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рет «коротких продаж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репо»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 дн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ершенствование требований к программно-техническим средствам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3429000" y="35812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1"/>
          <p:cNvSpPr/>
          <p:nvPr/>
        </p:nvSpPr>
        <p:spPr>
          <a:xfrm>
            <a:off x="5638680" y="35812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4800600" y="4038480"/>
            <a:ext cx="35053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ветственность брокеров по сделкам «репо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ельный уровень маржи при заключении маржинальных сдело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ановление дополнительных требований к эмитентам при регулировании выпуска ценных бумаг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ершенствование процедуры реструктуризации обязательств эмитентов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3429000" y="3581280"/>
            <a:ext cx="2209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4572000" y="3048120"/>
            <a:ext cx="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5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DE31-CA37-4545-BEFF-71B3DE39E6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868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оритетные на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52280" y="990720"/>
            <a:ext cx="4114800" cy="730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ход от процикличного к контрцикличному подходу в регулировании финансовых организац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152280" y="1905120"/>
            <a:ext cx="4114800" cy="730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ышение ответственности должностных лиц и крупных участников, совершенствование корпоративного управл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152280" y="2819520"/>
            <a:ext cx="4114800" cy="730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ершенствование системы управления риск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152280" y="3733920"/>
            <a:ext cx="4114800" cy="517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ышение защиты прав потребителей финансовых 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52280" y="4648320"/>
            <a:ext cx="4114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ые финансовые инструмен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152280" y="5105520"/>
            <a:ext cx="4114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раведливая стоимость актив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152280" y="5562720"/>
            <a:ext cx="4114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йтинговые агент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4343400" y="990720"/>
            <a:ext cx="434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ствование пруденциального регул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подъем – ужесточение требования к капиталу, экономический спад – смягчение требования к капита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4343400" y="1828800"/>
            <a:ext cx="27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итен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ющи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керов и (или) диле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руг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1"/>
          <p:cNvSpPr/>
          <p:nvPr/>
        </p:nvSpPr>
        <p:spPr>
          <a:xfrm>
            <a:off x="6477120" y="1828800"/>
            <a:ext cx="304560" cy="838080"/>
          </a:xfrm>
          <a:custGeom>
            <a:avLst/>
            <a:gdLst>
              <a:gd name="textAreaLeft" fmla="*/ 0 w 304560"/>
              <a:gd name="textAreaRight" fmla="*/ 109800 w 3045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6553080" y="1981080"/>
            <a:ext cx="198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дуциарн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3"/>
          <p:cNvSpPr/>
          <p:nvPr/>
        </p:nvSpPr>
        <p:spPr>
          <a:xfrm>
            <a:off x="4343400" y="2743200"/>
            <a:ext cx="434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учшие международные стандар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точное покрытие рис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-your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сс-тестинг и анализ принятия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4"/>
          <p:cNvSpPr/>
          <p:nvPr/>
        </p:nvSpPr>
        <p:spPr>
          <a:xfrm>
            <a:off x="4343400" y="3657600"/>
            <a:ext cx="4648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омбудсм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прозрачности деятельности эмитентов и профессиональных участников рынка ценных бума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иление контроля за манипулированием и использование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айдерск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5"/>
          <p:cNvSpPr/>
          <p:nvPr/>
        </p:nvSpPr>
        <p:spPr>
          <a:xfrm>
            <a:off x="4343400" y="4648320"/>
            <a:ext cx="464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ламские финансовые инструм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6"/>
          <p:cNvSpPr/>
          <p:nvPr/>
        </p:nvSpPr>
        <p:spPr>
          <a:xfrm>
            <a:off x="4343400" y="5029200"/>
            <a:ext cx="464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опительные пенсионные фон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онные фон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7"/>
          <p:cNvSpPr/>
          <p:nvPr/>
        </p:nvSpPr>
        <p:spPr>
          <a:xfrm>
            <a:off x="4343400" y="5486400"/>
            <a:ext cx="380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ствование подходов к использованию рейтинговых оце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8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0764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29"/>
          <p:cNvSpPr/>
          <p:nvPr/>
        </p:nvSpPr>
        <p:spPr>
          <a:xfrm>
            <a:off x="152280" y="6095880"/>
            <a:ext cx="4114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народное сотруднич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4343400" y="6037200"/>
            <a:ext cx="495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568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работе международных интеграционных объединений 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х организ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86868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Наши ц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762120" y="1752480"/>
            <a:ext cx="78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ение финансовой стабильности финансового рынка и финансовых организаций и поддержание доверия к финансовой системе в це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ение надлежащего уровня защиты интересов потребителей финансовых ус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равноправных условий для деятельности финансовых организаций, направленных на поддержание добросовестной конкуренции на финансовом рын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8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uanyshbek</dc:creator>
  <dc:description/>
  <dc:language>en-US</dc:language>
  <cp:lastModifiedBy>User</cp:lastModifiedBy>
  <dcterms:modified xsi:type="dcterms:W3CDTF">2009-09-04T03:28:47Z</dcterms:modified>
  <cp:revision>10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