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120-F46A-46CE-9CE9-C926D5B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4AF-B2F7-4E9B-9061-DD292641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CD54B-148B-4704-8C45-CC78B157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C813-99B4-4924-9B5D-9B76409E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895E-F425-4D17-8C82-BF18220B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B8B0C-BAFD-48B1-ADD5-4837E0D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994BF-2185-4E4F-AAD1-3410337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72837-EC1A-4514-B7FF-4354623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1DF1-FB6A-4B59-867A-B1F553CE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A5BF9-BF3F-4B4D-AA80-818EB6C4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A209E-1E61-4E6D-B30B-5782243F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E43-931D-48C0-A636-07896137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2A5-A7C8-435F-95B3-9DF050BB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381-BE19-414D-97CC-9571955C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C331-D5E5-4064-B6FA-63275F15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732E-0EEE-408A-984D-8D864B2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1AD7-5C13-4D54-8FF0-617AA54C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2F6-31A6-4B0C-8521-902E49E1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C94-11A7-4EDA-A8A2-9583AA70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50A5-26E2-4347-B097-E64BE45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E26-6F7C-46DF-8355-5124CE5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1D6-5DC7-4529-B1F4-8FFCF5C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52E1-B9D3-4931-A92B-674981E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150-C482-4783-8CEA-DC593D50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9568-501F-449D-B107-4F8CCC59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287C-F862-4348-8993-63399EE8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CF46-B824-4CE4-A959-EBD884F4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E32B-4EC1-497D-9C43-74759A1F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D193-8A6F-484E-B3C5-CDBFD36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99B8-87A0-4D38-A822-E44072B1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B0E1-B572-4C60-8E56-698DF13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9C5-7891-40A8-A294-4812DD1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9C7D-0B8C-48F2-BB6C-842C46F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E940-0C8A-4641-8692-CBDED49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2F8B-E2BB-4724-9919-0C98195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3068-AD76-4C0C-AF5A-9F2C6CC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5E4F-74CD-4DBC-A44C-B05B78DA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3DC0-D3F2-483F-8EC6-8CD89DD1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4549-67C8-4823-A666-67814139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B685-FD08-4123-BA04-E9B16A1C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AA75-D550-436C-BEE9-95EC5945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B26B-A5C9-4692-83F6-21FA70D2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AFE-25E0-4823-8854-CFE4A88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63F5-1766-4B9F-9A48-6FEAC66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0A9D-F803-47F6-A323-886D0D9B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6E22-154C-4D7E-B582-37AA96F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F1F5A-BECE-40F8-A35F-3204C4F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04C2-8EBE-44C5-9FAC-5116C097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C12A-C12D-4ADA-8102-67A124EA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5A51-BC03-4979-B2FA-3F507A8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F4F5-1C9F-4BAF-AF46-C49005E6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8F6F-76BF-4FC7-AAF0-F1204B74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AEC9-F462-43B1-91C7-2C5098E8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C2F-078C-476C-B730-76BE6D17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0408-6DDD-4D98-BD5E-9EBC9C60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069DF-7784-4DE3-AC97-856BC701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EC61-5690-4FBF-B27E-65833D6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4711-0CBB-46AC-A53E-7A8F1BFB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C320-B865-4B7C-9651-60E99853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532A-BA3A-4706-AD9B-96EE188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33897-CEB2-4C18-B9AC-2414BE1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1D73-D834-4671-ADE6-9E52151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8A3D-5570-4DC8-938F-0072EE26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2422-714B-43A8-8959-10467C5E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B9E-A250-41A9-97ED-885CDF0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CE7D-03BF-448A-921C-4D2F19DC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04B3-6FC0-4FED-B5C6-17D8349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808E-C5B1-490F-A918-464B1782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D832-79AD-4EB0-8F81-C60A1C0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8CCD-2249-4B46-861F-6FB40C8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1FD6-20F1-4B39-AF1C-BEA38DE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31B84-A360-4A7A-BA9C-CB8557D6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57F1-D195-4EEC-9CCB-2C9F4C83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C2B5D-760C-49A0-B566-FB1CC5F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9DA3-E1E7-404E-8CEB-FEFB16E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186-B8FF-494B-9A28-8F7FCB3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FE257-1A59-4938-A087-C2E31FE9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2DF9-FECF-4041-BEF6-39FE856C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8B1D-8B50-495F-B524-EB44FEEE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371C8-799D-4565-9E24-917D3A4D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2AF6-F2AC-4B2A-A870-BD3A3A6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08F7F-301E-4CE3-B2E3-D3A7DDAC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29DB-ACB5-4C97-91BC-E630FE1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38520-6438-4D63-AA86-22C520A3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CC0E7-76E0-471A-8D93-3A5CAC26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5C0F-F243-4131-BCBC-A9F8569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C37-A7C6-4F37-A96B-30741762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91AE-2EEF-441F-8885-CB8D433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7BBB5-C319-42C9-B31C-E3FC206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BFF80-D80B-4E78-A684-D6D535D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2C239-6F4B-4E21-89C6-D7043FEB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545D9-2995-4FDF-ADB6-4EB662E7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08E0-9349-44BC-B7C6-8020BC94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2E803-9AE3-48D8-9BDE-ADFD314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111D2-20FA-464C-B9FD-DC56FA4D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2FFFD-44AD-4CCE-A034-F8C5C1D5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4FC1-8B5C-47BF-AD8E-4568E30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020-DCC6-4A9A-BFB8-9C27DA6C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4339-7682-4002-BFE9-3F24A331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7B6FB-E294-41E5-8586-5EF8BF6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0F1A2-3F92-4A51-8923-4E1FEE4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9A183-23BF-45CD-AD90-9907DC5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6C82-F14D-4D04-9E55-6F71761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CDC6-D315-4144-8795-7CA18BDE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82F2-85B0-4607-897A-69DE1D88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4EBCE-96E3-48A0-BA81-1944DA1E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42CD2-FBC3-483C-97F3-29D0491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F5F4-4C2A-4006-A18D-FE4681D3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2EB5-D695-4F1D-A49B-A38C7D1AD5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10C2-00EC-4DE8-9275-30B99AAB72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57C-B441-4BE3-AB01-79E7D09F82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5EF9-2070-4896-A1D3-CDC0E5D7C1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3A34-556B-4F27-B536-40E7F83F74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C4BB-8D90-44A3-9228-9418C9AFBB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9E82-3863-42AB-9613-B49417837A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3C2-B7F8-4728-A35C-7324FAD6C8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1A8-C3EF-44AE-9777-F47C97F013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7200" y="2017800"/>
            <a:ext cx="8010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Peer review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– проверка качества услуг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Управленческий механизм, помогающий выявлять проблемные аспекты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цесс который используется для обучения и других профессиональных аспектах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цесс который используется во всех типах организаций (обучающие, библиотеки, научные учреждения и программ и т.д.) 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Закон РК «Об аудиторской деятельности» от 5 мая 2006 г.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Создание  и учреждение  Комитета контроля качества в Палате аудиторов РК – ноябрь 2006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706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999800"/>
            <a:ext cx="86868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Изучение опыта профессиональных организаций (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AICPA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 США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ICAS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Великобритания, профорганизации России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азработка, обсуждение и утверждение нормативных и инструктивных материалов и положений Палаты Аудиторов РК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Проведение тренингов и обучающих семинаров для руководителей аудиторских фирм по вопросам контроля качества и изучения МСКК № 1 «Контроль качества в фирмах, выполняющих аудит и обзор исторической финансовой информации, и прочие соглашения о выражении уверенности и сопутствующие услуги» </a:t>
            </a:r>
            <a:r>
              <a:rPr b="0" lang="en-US" sz="2700" spc="-1" strike="noStrike">
                <a:solidFill>
                  <a:srgbClr val="4e3b30"/>
                </a:solidFill>
                <a:latin typeface="Book Antiqua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- (июль 2007)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Разработка опросных листов для контролеров в отношении аудиторских проектов, обсуждение с другими Комитетами Палаты аудиторов РК и представителями «Большой четверки». 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Проведение  тренинга для кандидатов в контролеры. (июль  2008)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857240"/>
            <a:ext cx="86868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ведение проверок контроля качества в аудиторских фирмах согласно заявок аудиторских фирм и графика проверок.  (август 2008, октябрь –ноябрь 2008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азработка рекомендаций по выявленным недостаткам для Комитета по методологии аудита в целях оказания методической помощи членам Палаты Аудиторов РК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2071800"/>
            <a:ext cx="868680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Руководства по проведению аудита для членов Палаты аудиторов РК (Комитет методологии ПА), включающего финансовую отчетность условной компании и аудиторский файл)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и внедрение компьютеризированных систем аудиторских файлов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Усовершенствование и более глубокая детализация вопросника  по аудиторских проектам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вопросников для проведения проверок качества услуг по обзору исторической финансовой информации и сопутствующих услуг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Выполнение проверок контроля качества согласно плана проведения проверок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Дальнейшее сотрудничество с </a:t>
            </a:r>
            <a:r>
              <a:rPr b="0" lang="en-US" sz="3000" spc="-1" strike="noStrike">
                <a:solidFill>
                  <a:srgbClr val="4e3b30"/>
                </a:solidFill>
                <a:latin typeface="Book Antiqua"/>
              </a:rPr>
              <a:t>ICAS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Великобритания в целях усовершенствования системы контроля качества в РК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03320" y="1494000"/>
            <a:ext cx="88945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6:40:38Z</dcterms:created>
  <dc:creator>raziya</dc:creator>
  <dc:description/>
  <dc:language>en-US</dc:language>
  <cp:lastModifiedBy>Omarova</cp:lastModifiedBy>
  <dcterms:modified xsi:type="dcterms:W3CDTF">2008-09-17T09:32:10Z</dcterms:modified>
  <cp:revision>17</cp:revision>
  <dc:subject/>
  <dc:title>Слайд 1</dc:title>
</cp:coreProperties>
</file>