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BC21-1414-419C-8627-E840ABBA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071-5944-4EAF-94B8-D752492C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FAF1A-2427-47F9-AB60-C7C99B98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60543-381B-4E7B-8489-B30E2409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E4CE1-7A65-4984-A70E-2A0A9BD5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1B7FD-10EF-425C-909D-590CC08C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74F69-9031-4718-8910-75247629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4B50A-6B95-4024-965F-D149C40F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10C22-9480-4FF6-845A-C6B3765F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1437D-3141-45E2-90F9-0EC8AD87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9220D-1B3A-4A41-A886-4EC2CBFD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F26-7D61-428C-B381-1704D5E4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198C-AF0D-46A0-9FA5-8C2AAD05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585F-11F6-440B-8C64-F9C8B719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0080-FED0-4368-9752-CA2B18C0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9CEE-3C6F-4D94-9BD3-1B072A2E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1C3F-608D-44A7-A8BA-46C1EDD0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A821-38E5-4928-9A77-8C1378D6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8390-F406-4CA0-AFD2-94603C98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580F-6C58-4351-94DE-7C2C1D65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5E0B-C690-42D3-B286-7FB8A30F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33C8-3E55-4C23-89AE-8140423C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80EB-6738-4C43-8AA2-92C5D4F4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58C3-3D73-4AF7-A3E9-25219ECB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D776-F082-4DDC-BDC2-DF78D055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855D-E86F-4BC7-A8F4-B0D50D36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0B962-984E-4E3D-8537-AF026C3A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69464-A2F8-497B-91EE-844656AA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F323B-1B61-43C9-B256-BB044D08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7B5E1-501F-4DE7-BD68-16020716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BB77C-BB2B-4660-85F7-0A84D262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3894-660E-42D6-BA2A-E86D421F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F7676-63E3-4380-9724-54CF5105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D3016-08D2-44B3-B04E-484C1052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CEB04-F8FE-46C6-A2E9-18FD3755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1C0F3-11C7-493A-A5A3-7AA25003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E5BDB-7873-4C48-A42F-7464EA07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AE66F-F3ED-456D-B490-6B9FCEB7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A3B80-D4F3-4903-8CD8-FC1A1B78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17906-7F66-49D7-8972-8D97F546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E6B7E-D0A0-48D9-8F54-C52BF1E5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32C4-A8F0-46AE-B268-24DB6BDF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B0C-3881-41F5-B3A9-E1DC5A4A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AC174-1BBC-490C-9771-D2E25A4C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EFE2E-2FD9-4173-91F0-6D585A0D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C6BB7-85D1-48AC-9DF8-13DA784A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5A1F4-ABA5-41B7-AF4A-EBA04398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D434E-B36A-4DB7-82C9-A63B8242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399D4-1EF6-4185-B9C3-32517413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C29D5-46C1-4997-BECA-1C8AAE13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297BF-43D1-4FF8-925C-200F49F6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16C32-9190-4513-838A-435D1D4F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75277-C878-4A2C-8113-F26BBE59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F24-31D4-4310-9C4D-3F99B6DB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A563B-FED8-49A8-84D4-E324CE44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D4E25-6EE0-4498-8DF7-5D11B677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49622-7293-475C-814D-1429EE5F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D6F8D-B4B3-4904-A3F5-BC7B440C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B8ADD-9C33-4543-A0F0-2C236079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28D6F-2317-4F21-8344-27BC4646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513D4-07B7-4027-BC8B-655F4CC8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2530E-4F0B-45D7-9024-94A40E2C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1932D-7655-424C-A891-1D82E08A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7E20B-7AA1-4A49-87AB-440F54B7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11A-A701-42B4-AF8E-BBE582AF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8CC21-0A3A-4ECA-BD12-BE3CDDE2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6CFB8-46F2-4213-83F2-A530AE43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79B57-DAC9-439B-AB35-9E019D9A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843F8-943E-4758-8555-6B2241F8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A4102-1FD8-4335-A24D-4A7BDCCE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26F21-C1A7-486E-BADA-A00777FA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14450-90FC-4E2B-BCE1-7518417E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66C5E-081D-4BAE-9297-3E6ACA72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BF9F0-585E-4CAA-A058-11FA7E57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1DDEE-EEA3-4807-8BFF-F86D6FBA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6974-70C2-4EAB-B9EC-79FAED72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8535A-46C5-4E8E-B680-E4E9D160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07024-1893-4599-A272-A51378C2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C7B31-DDF0-4D84-AC9A-AF6178A2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F1534-FE6E-4816-B13E-3E06B233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CA0BE-2432-4593-8528-27CEF0FC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431E8-D31E-43CD-9C0E-8002BD79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3CC7C-A44D-49FB-AFA6-F4359535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25316-7AF1-49E2-AAFD-1A37C835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E3735-0A3E-4C23-8F0B-55295E40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CA5F8-7636-4245-82F8-27CD9399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0225-CB1C-442C-8AC2-02712AC2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60FEF-78BC-4A8A-B78A-1EED49D3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C07BC-E204-423A-BA64-338EF24D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882D4-89CD-41D8-BD69-6DDAFF87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1330B-B497-4A1D-8B7C-8C349E61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0EF9C-605A-4E6F-AB42-EDDE88D7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5E5FA-0992-4671-BB59-2CBCBB90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422C4-8FD1-4050-B66F-C6A717D4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B3F5F-8D97-4CF5-999E-47F7E7FF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26405-3788-4976-8B62-F5FDC11A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70967-3693-4FD1-90B2-CFF7B226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26A6-5001-45D4-B367-FCA5BCA8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436E2-0292-40AE-9ACF-8BF76410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74886-B6CC-4293-9531-9621EB2D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6B3D9-4560-4538-B32C-70AEE03F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672EE-7A66-46D8-9942-2AABFAAF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82EEE-4C30-464C-ACB9-3132677E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264FD-ADA7-4F99-8B1B-AE3F99B4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78E88-2A89-481E-8835-9EADEACC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EC02D-D083-490E-BE0F-C90FD346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38B51-DBBA-476C-A834-93488768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59CC3-2C04-4E1F-8417-CE0FF4AE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0913-A1E7-4DAE-8E4B-B238E6A86F9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7038-0B90-4584-8BB1-59A2D1834F5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0DC9-018D-4612-91F3-C7454631E74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C681-F7AD-4283-A4E3-28A799A36ED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418B-866D-444A-BAC9-84AB741BC18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78DF-E0CC-4B02-A5E3-BC33F41DB7F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2437-EE24-4109-8261-B257C9E272E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BE45-2410-40BD-ACDD-B46BAB34E1F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187A-E092-4CB4-AFCC-02519547CAA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457200" y="2017800"/>
            <a:ext cx="801036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Book Antiqua"/>
              </a:rPr>
              <a:t>Peer review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 – проверка качества услуг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Управленческий механизм, помогающий выявлять проблемные аспекты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Процесс который используется для обучения и других профессиональных аспектах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Процесс который используется во всех типах организаций (обучающие, библиотеки, научные учреждения и программ и т.д.) 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Закон РК «Об аудиторской деятельности» от 5 мая 2006 г.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Создание  и учреждение  Комитета контроля качества в Палате аудиторов РК – ноябрь 2006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7067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999800"/>
            <a:ext cx="86868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Изучение опыта профессиональных организаций (</a:t>
            </a:r>
            <a:r>
              <a:rPr b="0" lang="en-US" sz="3200" spc="-1" strike="noStrike">
                <a:solidFill>
                  <a:srgbClr val="4e3b30"/>
                </a:solidFill>
                <a:latin typeface="Book Antiqua"/>
              </a:rPr>
              <a:t>AICPA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  США</a:t>
            </a:r>
            <a:r>
              <a:rPr b="0" lang="en-US" sz="3200" spc="-1" strike="noStrike">
                <a:solidFill>
                  <a:srgbClr val="4e3b30"/>
                </a:solidFill>
                <a:latin typeface="Book Antiqua"/>
              </a:rPr>
              <a:t>,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Book Antiqua"/>
              </a:rPr>
              <a:t>ICAS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Великобритания, профорганизации России)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Разработка, обсуждение и утверждение нормативных и инструктивных материалов и положений Палаты Аудиторов РК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2"/>
          <a:stretch/>
        </p:blipFill>
        <p:spPr>
          <a:xfrm>
            <a:off x="298440" y="396720"/>
            <a:ext cx="8699400" cy="16876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</a:rPr>
              <a:t>Проведение тренингов и обучающих семинаров для руководителей аудиторских фирм по вопросам контроля качества и изучения МСКК № 1 «Контроль качества в фирмах, выполняющих аудит и обзор исторической финансовой информации, и прочие соглашения о выражении уверенности и сопутствующие услуги» </a:t>
            </a:r>
            <a:r>
              <a:rPr b="0" lang="en-US" sz="2700" spc="-1" strike="noStrike">
                <a:solidFill>
                  <a:srgbClr val="4e3b30"/>
                </a:solidFill>
                <a:latin typeface="Book Antiqua"/>
              </a:rPr>
              <a:t> </a:t>
            </a:r>
            <a:r>
              <a:rPr b="0" lang="ru-RU" sz="2700" spc="-1" strike="noStrike">
                <a:solidFill>
                  <a:srgbClr val="4e3b30"/>
                </a:solidFill>
                <a:latin typeface="Times New Roman"/>
              </a:rPr>
              <a:t>- (июль 2007)</a:t>
            </a:r>
            <a:endParaRPr b="0" lang="en-US" sz="27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</a:rPr>
              <a:t>Разработка опросных листов для контролеров в отношении аудиторских проектов, обсуждение с другими Комитетами Палаты аудиторов РК и представителями «Большой четверки». </a:t>
            </a:r>
            <a:endParaRPr b="0" lang="en-US" sz="27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</a:rPr>
              <a:t>Проведение  тренинга для кандидатов в контролеры. (июль  2008)</a:t>
            </a:r>
            <a:endParaRPr b="0" lang="en-US" sz="27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2"/>
          <a:stretch/>
        </p:blipFill>
        <p:spPr>
          <a:xfrm>
            <a:off x="298440" y="396720"/>
            <a:ext cx="8699400" cy="16876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857240"/>
            <a:ext cx="86868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Проведение проверок контроля качества в аудиторских фирмах согласно заявок аудиторских фирм и графика проверок.  (август 2008, октябрь –ноябрь 2008)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Разработка рекомендаций по выявленным недостаткам для Комитета по методологии аудита в целях оказания методической помощи членам Палаты Аудиторов РК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2"/>
          <a:stretch/>
        </p:blipFill>
        <p:spPr>
          <a:xfrm>
            <a:off x="298440" y="396720"/>
            <a:ext cx="8699400" cy="16876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2071800"/>
            <a:ext cx="8686800" cy="40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Разработка Руководства по проведению аудита для членов Палаты аудиторов РК (Комитет методологии ПА), включающего финансовую отчетность условной компании и аудиторский файл)</a:t>
            </a: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Разработка и внедрение компьютеризированных систем аудиторских файлов.</a:t>
            </a: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2"/>
          <a:stretch/>
        </p:blipFill>
        <p:spPr>
          <a:xfrm>
            <a:off x="298440" y="396720"/>
            <a:ext cx="8699400" cy="16876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928520"/>
            <a:ext cx="8686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Усовершенствование и более глубокая детализация вопросника  по аудиторских проектам</a:t>
            </a: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Разработка вопросников для проведения проверок качества услуг по обзору исторической финансовой информации и сопутствующих услуг.</a:t>
            </a: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Выполнение проверок контроля качества согласно плана проведения проверок</a:t>
            </a: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Дальнейшее сотрудничество с </a:t>
            </a:r>
            <a:r>
              <a:rPr b="0" lang="en-US" sz="3000" spc="-1" strike="noStrike">
                <a:solidFill>
                  <a:srgbClr val="4e3b30"/>
                </a:solidFill>
                <a:latin typeface="Book Antiqua"/>
              </a:rPr>
              <a:t>ICAS </a:t>
            </a: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Великобритания в целях усовершенствования системы контроля качества в РК.</a:t>
            </a: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2"/>
          <a:stretch/>
        </p:blipFill>
        <p:spPr>
          <a:xfrm>
            <a:off x="103320" y="1494000"/>
            <a:ext cx="88945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6:40:38Z</dcterms:created>
  <dc:creator>raziya</dc:creator>
  <dc:description/>
  <dc:language>en-US</dc:language>
  <cp:lastModifiedBy>Omarova</cp:lastModifiedBy>
  <dcterms:modified xsi:type="dcterms:W3CDTF">2008-09-17T09:32:10Z</dcterms:modified>
  <cp:revision>17</cp:revision>
  <dc:subject/>
  <dc:title>Слайд 1</dc:title>
</cp:coreProperties>
</file>