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76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FE8A-E2CC-4AB0-A18B-BEB8ED124B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иостановление торгов осуществлено в соответствии с пунктом 1 статьи 12-2 внутреннего документа KASE "Правила биржевой торговли ценными бумагами", которая, в свою очередь, была включена в этот документ в целях обеспечения его соответствия с новой версией Правил осуществления деятельности организаторов торгов с ценными бумагами и иными финансовыми инструментами, утвержденных постановлением Правления Агентства Республики Казахстан по регулированию и надзору финансового рынка и финансовых организаций (АФН) от 29 октября 2008 года # 17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гласно Правилам биржевой торговли ценными бумагами (в версии, действующей с 25 января 2009 года) KASE приостанавливает торги акциями какого-либо наименования, находящимися в официальном списке KASE по первой категории, в случае снижения цены акций данного наименования на 30 и более процентов относительно цены последней исполненной сделки с акциями данного наименования, которая была заключена в ходе последней предшествующей результативной торговой сессии. Если иное не установлено решением АФН, приостановленные торги возобновляются с началом нового торгового дня по акция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зднее были внесены поправки, согласно которым торги могут быть продолжены в этот же день, если падение цены вызвано технической ошибкой трейдера или торговой системы, и если регулятор не возражает продолжить тор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DB0-6FA9-48BC-AD8F-BCD76456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24F-FC49-46DF-B597-DD1DE1A2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ACA-A670-4E0D-922C-0AAE9456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B83-E2F1-488A-9E8A-B927FD0A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A8B-8B45-47F7-A572-9215E029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89B9A-2051-4F94-8820-84F925A438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430E3-E7EF-46A7-976C-A4BBF8EF1D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20C38-05CB-4F2B-B0AF-FFBAC2E4B6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B261C-51B4-4D0A-B17A-4743A9FD13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8F105-456C-4E23-8732-592635F53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7BE-A62D-47BB-8C27-18E37027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AFC17-5873-44F3-AF83-9349198D2A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BBC17-1966-43F4-8D70-20DAA6AEC8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9285-E65B-4C4D-85E4-2C8C226CB2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52E37-EA3A-4E5D-AF8D-B09423EC79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46394-B490-4B18-BFD1-2B52A21A57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4D1B-38C8-4ADB-813C-7F28909034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126792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390096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48A95-8B22-42A5-9D74-5D10971F0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99C-1504-4660-A91B-BE3F8BEA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C39-8FF3-436B-9C67-6985EC7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8120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E91-B3AD-4D54-8524-045B3AEA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763-9986-46D5-9C95-2CC6515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0096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BE0-7D07-449A-BF10-774425C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0096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4BD-4CF1-4A77-AEA7-4699D6A4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B3E7-9A68-4004-A3A2-F5DE06B75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4721400" y="6523200"/>
            <a:ext cx="403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480" y="0"/>
            <a:ext cx="2460600" cy="2085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250560" y="583920"/>
            <a:ext cx="860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5"/>
          </p:nvPr>
        </p:nvSpPr>
        <p:spPr>
          <a:xfrm>
            <a:off x="7009920" y="6518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437-AB70-4A0F-8074-396DFC69DA7D}" type="slidenum"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6"/>
          </p:nvPr>
        </p:nvSpPr>
        <p:spPr>
          <a:xfrm>
            <a:off x="2484000" y="6524640"/>
            <a:ext cx="403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60360" cy="106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ase.kz/" TargetMode="External"/><Relationship Id="rId2" Type="http://schemas.openxmlformats.org/officeDocument/2006/relationships/hyperlink" Target="mailto:kase@kase.kz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1480" y="2558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Narrow"/>
              </a:rPr>
              <a:t>Как рынку реагировать на дефолты казахстанских эмитентов?</a:t>
            </a:r>
            <a:endParaRPr b="0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449520" y="4209840"/>
            <a:ext cx="51134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Бабенов Болат Базарт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Вице-презид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АО "Казахстанская фондовая бирж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Основные пробле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сновными проблемами с урегулированием ситуаций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вязанных с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фолтом эмитентов являются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в случае банкротства эмитента инвесторы смогут рассчитывать на  возмещение своих инвестиций только в третей и даже в четвертой очеред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удительная реструктуризации задолженности предусмотрена только для банковских организац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т четкого механизма разрешения споров между владельцами и эмитентами  облигаций в случае неисполнения последними своих обязательст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ществует вероятность рейдерских захватов наиболее привлекательных актив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сутствует законодательные нормы защиты от банкротств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E77-9E96-4CDE-99AF-3577C1D312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оздание "буферной категории"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6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несены изменения и дополнения  в постановление Правления Агентства от 26 мая 2008 года № 77 "О требованиях к эмитентам и их ценным бумагам, допускаемым (допущенным) к обращению на фондовой бирже, а также к отдельным категориям списка фондовой биржи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оответствии с которыми возможен перевод долговых ценных бумаг эмитента в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"буферную категорию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лучая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несоответствия ценных бумаг и их эмитентов требованиям </a:t>
            </a:r>
            <a:r>
              <a:rPr b="0" lang="en-US" sz="19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   указанного постановления</a:t>
            </a:r>
            <a:r>
              <a:rPr b="0" lang="en-US" sz="1900" spc="-1" strike="noStrike">
                <a:solidFill>
                  <a:srgbClr val="9933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993300"/>
                </a:solidFill>
                <a:latin typeface="Arial"/>
              </a:rPr>
              <a:t>дефолта эмитента по выплате вознаграждения по своим       обязательствам (за исключением вознаграждения за последний купонный период)</a:t>
            </a:r>
            <a:r>
              <a:rPr b="0" lang="en-US" sz="19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ксимальный срок нахождения ценных бумаг в категории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"буферная категор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фициального списка фондовой биржи составля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венадцать месяцев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080" y="3182760"/>
            <a:ext cx="825804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276-81AD-42B4-9FCE-9C75EA0250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оздание "буферной категории"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митенту необходимо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ведомить фондовую биржу о неисполнении обязательств </a:t>
            </a:r>
            <a:r>
              <a:rPr b="0" lang="kk-K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 долговым</a:t>
            </a:r>
            <a:r>
              <a:rPr b="0" lang="kk-K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ценным</a:t>
            </a:r>
            <a:r>
              <a:rPr b="0" lang="kk-KZ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бумагам, установленных проспектом выпуска ценных бумаг, не позднее чем за три рабочих дня до установленной проспектом выпуска ценных бумаг даты исполнения обязательст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позднее трех рабочих дней с даты принятия решения советом директоров эмитента о реструктуризации обязательств уведомить фондовую биржу о данном факт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течение десяти рабочих дней со дня получения письменного уведомления фондовой биржи либо возникновения оснований для перевода эмитента и его ценных бумаг в категорию "буферная категория" направить в адрес фондовой биржи план мероприятий, утвержденный советом директоров эмитента, по устранению оснований для перевода ценных бумаг эмитента в категорию "буферная категория"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E7C-F064-409E-AEB2-D51B56290D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нижение случаев дефол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еры по минимизации дефолтов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ведение законодательных норм четко регламентирующих процедуры в случаях дефолта эмитенто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ведение требования по включению в проспект эмиссии облигаций порядка действий держателей облигаций в случае несвоевременного исполнения или неисполнения обязательств по выплате вознаграждения или погашению облигаци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ведения ограничений (ковенант) в соответствии с практикой применяемой при выпуске еврооблигаци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жесточение ответственности за допущение фактов дефол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чественное развитие риск-менеджмен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лучение эмитентом и его ценными бумагами рейтинговой оценк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ставитель держателей облигаций не только для обеспеченных облигаци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 и для всех выпусков долговых ценных бума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здание института общего собрания облигационеро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 придание решениям такого собрания обязательной силы в установленных законом случаях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F6F-09CF-4C6A-9150-D601C0BEC3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Меры бирж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ие шаги би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истинг ценных бумаг – могут пострадать не только эмитен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инвес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сточение требований при допуске ценных бумаг эмит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сточение требований к финансовым консультант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0F7-E4D0-4B73-9D39-624BA7B87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Контак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 адр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se@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7 53 00, 272 98 98, 237 53 11, 272 06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6 64 02, 272 09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Казахстан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лматы, пр. Достык,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1/3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F5E-B9D0-41C9-895E-F106A0C0C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Дефолты на фондовом рынке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обальное изменение экономической конъюнктуры спровоцировало масштабную волну дефолтов как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рубежны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так и казахстанских эмитентов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илу влияния мирового финансового кризиса дефолту подвержены не только отдельные эмитен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и целые государств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фол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способность производить своевременные процентные и основные выплаты по долговым обязательствам или неспособность выполнять условия договора о выпуске облигационного займ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85C-9D14-4E43-B9FE-0D147A11D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Дефолты на фондовом рынке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66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ировая практика показывает, что дефолты на долговом рынк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мели место всегда и выступают в качестве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еханизма саморегулирования этого рын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Если речь идет не о массовых отказах от долгов, то два-три дефолта могут оказаться даже полезными как для заемщиков,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так</a:t>
            </a:r>
            <a:br>
              <a:rPr sz="1900"/>
            </a:b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и для инвесторов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ий момент дефолты осложняют ситуацию на рынке капитала, и без того подорванную падением котировок акций и пессимистичными перспективами корпоративных прибы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таком размере дефолтов, кризисе доверия рынков и низкой ликвидности компаниям становится очень сложно размещать новые выпуски облига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0A0-8D3C-4771-B2CF-5B1FFF3532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еурегулированные дефолты на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AS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1760" y="1201320"/>
            <a:ext cx="8642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О "Акмола Курлыс Материалдары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Альянс Банк 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Астана-финанс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БИЛД ИНВЕСТМЕНТС ГРУПП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БУРЛИНГАЗСТРОЙ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Досжан темир жолы (ДТЖ)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Казахская дистрибуционная компания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Казнефтехим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КОМБИСНАБ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Орнек ХХI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РОСА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РЭМИКС–Р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Трансстроймост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ЭЛЬДОС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GLOTUR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ІСКЕ СӘТ COMPANY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TuranAlem Finance B.V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О "Zhansaya-Producing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07C-483F-4BE9-97BF-AE3AD8408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омпании–дефолтник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268280"/>
          <a:ext cx="8607240" cy="4741920"/>
        </p:xfrm>
        <a:graphic>
          <a:graphicData uri="http://schemas.openxmlformats.org/drawingml/2006/table">
            <a:tbl>
              <a:tblPr/>
              <a:tblGrid>
                <a:gridCol w="681120"/>
                <a:gridCol w="1047600"/>
                <a:gridCol w="3325680"/>
                <a:gridCol w="1613160"/>
                <a:gridCol w="1939680"/>
              </a:tblGrid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~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объем дефолта, млрд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лн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Альянс Банк"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ой долг + 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6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Астана-Финанс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ой долг + 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,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7,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G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БИЛД ИНВЕСТМЕНТС ГРУПП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(N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ой долг + 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0,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TJ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Досжан Темир Жолы (ДТЖ)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6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L_B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uranAlem Finance B.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LOTUR"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ГЛОТУ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9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5,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ЭЛЬ-ДОС"</a:t>
                      </a: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**</a:t>
                      </a: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(N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6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V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hansaya-Producing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,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Z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Казнефтехим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2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,4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76120" y="6029280"/>
            <a:ext cx="458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 задолженность по купону погашена полностью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* задолженность погашена частично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L –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данный момент не является листинговой компанией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6920" y="6132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243-675F-41AE-8199-63C35030A5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омпании–дефолтники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268280"/>
          <a:ext cx="8642160" cy="4860720"/>
        </p:xfrm>
        <a:graphic>
          <a:graphicData uri="http://schemas.openxmlformats.org/drawingml/2006/table">
            <a:tbl>
              <a:tblPr/>
              <a:tblGrid>
                <a:gridCol w="684000"/>
                <a:gridCol w="1051200"/>
                <a:gridCol w="3340080"/>
                <a:gridCol w="1619280"/>
                <a:gridCol w="1947600"/>
              </a:tblGrid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~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объем дефолта, млрд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лн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Орне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X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G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БУРЛИНГАЗСТРОЙ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K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ОО "Акмола Курылыс Материалдар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РОС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MX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РЭМИКС-Р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M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КОМБИСНА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S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CKE CAT COMPAN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ZD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Казахская дистрибуционная компа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"</a:t>
                      </a:r>
                      <a:r>
                        <a:rPr b="0" lang="ru-RU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S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О "Трансстроймос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уп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7846920" y="6132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ценка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760" y="6200640"/>
            <a:ext cx="458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задолженность погашена частич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15E-A257-4BC4-AF4B-CBD9372DC9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Статистика дефолт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17520" y="1373040"/>
          <a:ext cx="8511840" cy="2730600"/>
        </p:xfrm>
        <a:graphic>
          <a:graphicData uri="http://schemas.openxmlformats.org/drawingml/2006/table">
            <a:tbl>
              <a:tblPr/>
              <a:tblGrid>
                <a:gridCol w="6388200"/>
                <a:gridCol w="2123640"/>
              </a:tblGrid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 листинговых компаний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SE (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ентября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 дефолтных листинговых комп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 них делистингов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 дефолтных инстру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сключены из списков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листингов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овокупный объем дефолта, млрд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 (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млн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,5 (142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 действующим листинговым комп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,4 (121,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апитализация рынка облигаций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ASE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, млн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SD (02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ентября 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 3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24000" y="4406760"/>
          <a:ext cx="8483400" cy="1927440"/>
        </p:xfrm>
        <a:graphic>
          <a:graphicData uri="http://schemas.openxmlformats.org/drawingml/2006/table">
            <a:tbl>
              <a:tblPr/>
              <a:tblGrid>
                <a:gridCol w="6367320"/>
                <a:gridCol w="2116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ип дефол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комп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только одного куп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двух куп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больше чем одного купона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предыдущий погашен с задерж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фолт по выплате основного д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082-8E11-4E3E-AEEC-EDF9F816A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Основные причины дефолтов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7400" y="1315800"/>
            <a:ext cx="8148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реди основных причин, вызвавших дефолты эмитентов, можно выделить следующие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лияние мирового финансового кризиса и как следстви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фицит ликвид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блемы с кредитование и рефинансирование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сутствие оборотных средст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возврат денежных средств сторонними организациями за отгруженную продукцию или оказанные услуг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жение потребительского спрос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шибки менеджмента и упущения акционер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ъюнктура на мировых рынк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раслевые риски (банковски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ительн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фтегазов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205-8A25-4C82-9A4E-ADB00995E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Возможные сценарии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50920" y="1268280"/>
            <a:ext cx="8640720" cy="5040000"/>
            <a:chOff x="250920" y="1268280"/>
            <a:chExt cx="8640720" cy="5040000"/>
          </a:xfrm>
        </p:grpSpPr>
        <p:cxnSp>
          <p:nvCxnSpPr>
            <p:cNvPr id="153" name="_s224262"/>
            <p:cNvCxnSpPr>
              <a:stCxn id="154" idx="3"/>
              <a:endCxn id="155" idx="2"/>
            </p:cNvCxnSpPr>
            <p:nvPr/>
          </p:nvCxnSpPr>
          <p:spPr>
            <a:xfrm flipV="1">
              <a:off x="5435280" y="1860480"/>
              <a:ext cx="864720" cy="415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224263"/>
            <p:cNvCxnSpPr>
              <a:stCxn id="157" idx="3"/>
              <a:endCxn id="155" idx="2"/>
            </p:cNvCxnSpPr>
            <p:nvPr/>
          </p:nvCxnSpPr>
          <p:spPr>
            <a:xfrm flipV="1">
              <a:off x="5435280" y="1860480"/>
              <a:ext cx="864720" cy="326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224264"/>
            <p:cNvCxnSpPr>
              <a:stCxn id="159" idx="3"/>
              <a:endCxn id="155" idx="2"/>
            </p:cNvCxnSpPr>
            <p:nvPr/>
          </p:nvCxnSpPr>
          <p:spPr>
            <a:xfrm flipV="1">
              <a:off x="5435280" y="1860840"/>
              <a:ext cx="864720" cy="237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224265"/>
            <p:cNvCxnSpPr>
              <a:stCxn id="161" idx="3"/>
              <a:endCxn id="155" idx="2"/>
            </p:cNvCxnSpPr>
            <p:nvPr/>
          </p:nvCxnSpPr>
          <p:spPr>
            <a:xfrm flipV="1">
              <a:off x="5435280" y="1860480"/>
              <a:ext cx="864720" cy="148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224266"/>
            <p:cNvCxnSpPr>
              <a:stCxn id="163" idx="3"/>
              <a:endCxn id="155" idx="2"/>
            </p:cNvCxnSpPr>
            <p:nvPr/>
          </p:nvCxnSpPr>
          <p:spPr>
            <a:xfrm flipV="1">
              <a:off x="5435280" y="1860480"/>
              <a:ext cx="864720" cy="59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224267"/>
            <p:cNvSpPr/>
            <p:nvPr/>
          </p:nvSpPr>
          <p:spPr>
            <a:xfrm>
              <a:off x="3707280" y="126828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Дефол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24268"/>
            <p:cNvSpPr/>
            <p:nvPr/>
          </p:nvSpPr>
          <p:spPr>
            <a:xfrm>
              <a:off x="250920" y="215748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гашение задолж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c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том начисленных штраф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224269"/>
            <p:cNvSpPr/>
            <p:nvPr/>
          </p:nvSpPr>
          <p:spPr>
            <a:xfrm>
              <a:off x="250920" y="304704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оговоренность с кредитора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 отсрочке платеж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24270"/>
            <p:cNvSpPr/>
            <p:nvPr/>
          </p:nvSpPr>
          <p:spPr>
            <a:xfrm>
              <a:off x="250920" y="393660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ведение реструктуриз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задолж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24271"/>
            <p:cNvSpPr/>
            <p:nvPr/>
          </p:nvSpPr>
          <p:spPr>
            <a:xfrm>
              <a:off x="250920" y="482580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Банкротств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процедура реабилитаци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24272"/>
            <p:cNvSpPr/>
            <p:nvPr/>
          </p:nvSpPr>
          <p:spPr>
            <a:xfrm>
              <a:off x="250920" y="5715360"/>
              <a:ext cx="5184360" cy="59292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Други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цена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ссык-Куль, 04–05 сентября 2009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D30-CE6E-4CB3-A002-616015C705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17:41Z</dcterms:created>
  <dc:creator>vt</dc:creator>
  <dc:description/>
  <dc:language>en-US</dc:language>
  <cp:lastModifiedBy>Viktor</cp:lastModifiedBy>
  <dcterms:modified xsi:type="dcterms:W3CDTF">2009-09-10T03:42:19Z</dcterms:modified>
  <cp:revision>216</cp:revision>
  <dc:subject/>
  <dc:title>Рынок иностранных валют</dc:title>
</cp:coreProperties>
</file>