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E4D5-07CE-4B5D-BAB7-5F35E2D54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50920" y="390096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8372-180D-4D0F-B069-7FE265B41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50920" y="390096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9280" y="390096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34C0-0CE7-4FCF-9787-E3A15B335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73040" y="126792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4800" y="126792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50920" y="390096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73040" y="390096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94800" y="390096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7DC1-8AC9-4C66-83C6-055C126C5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48677C-D223-4777-92C8-5FFB1C16415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50920" y="126792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7C98CC-DD88-4AA8-96DA-F8AC27F3ADB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37A97F-D59C-4D80-9D23-96317ADA17C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897AEC-1D54-4317-A57E-793DECBD588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A4D410-12D3-4B22-BF79-2D2028DC4C8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812000" cy="48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E2A8FA-471A-464D-AE05-17C1B19F1F2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50920" y="390096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0E4878-9092-4C15-B867-AC5C626A1E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50920" y="126792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4FEF-6B09-406D-A3E3-E3CC5A215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9280" y="390096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EE2496-ED05-4AB8-B111-D511D1E4BCE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50920" y="390096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31677B-EE39-42F9-A111-4E3B473C05B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50920" y="390096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4D7CC3-53DB-4FAB-9FB8-6BE7E2E0323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50920" y="390096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9280" y="390096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35543E-7CEB-4F14-9802-3019DC78F8B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73040" y="126792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4800" y="126792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50920" y="390096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73040" y="390096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94800" y="390096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1BAD69-1756-4BF2-9F37-96D4C24E67C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50920" y="126792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8B72-F7C5-43E7-A787-C4BE27F3D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812000" cy="48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50920" y="390096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9280" y="390096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50920" y="390096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50920" y="390096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50920" y="390096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9280" y="390096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3040" y="126792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4800" y="126792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50920" y="390096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3040" y="390096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4800" y="390096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50920" y="126792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57BB-86BC-4DAC-9AF4-3447593F1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812000" cy="48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50920" y="390096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9280" y="390096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50920" y="390096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50920" y="390096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50920" y="390096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9280" y="390096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73040" y="126792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94800" y="126792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50920" y="390096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73040" y="390096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94800" y="390096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306E-6030-400F-8850-6D7E18848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812000" cy="48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A1FC-3F1D-469B-A828-36F82ADC4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50920" y="390096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0FAC-5F65-4241-B8DB-001A187E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9280" y="390096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B363-369A-461C-9B7F-0AA8C4489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50920" y="390096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A02F-E3AA-4EBC-87D6-89C4AB2B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50920" y="126792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-36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484000" y="6524640"/>
            <a:ext cx="4032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Иссык-Куль, 04–05 сентября 2009 год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099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7A055-ECC7-43E3-9266-3863C1845FA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"/>
          <p:cNvPicPr/>
          <p:nvPr/>
        </p:nvPicPr>
        <p:blipFill>
          <a:blip r:embed="rId2"/>
          <a:stretch/>
        </p:blipFill>
        <p:spPr>
          <a:xfrm>
            <a:off x="7848720" y="0"/>
            <a:ext cx="1260360" cy="106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250560" y="583920"/>
            <a:ext cx="86058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Num" idx="4"/>
          </p:nvPr>
        </p:nvSpPr>
        <p:spPr>
          <a:xfrm>
            <a:off x="7009920" y="651816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29101-30EA-4194-AE71-61180011C80F}" type="slidenum">
              <a:rPr b="0" lang="ru-RU" sz="1400" spc="-1" strike="noStrike">
                <a:solidFill>
                  <a:srgbClr val="00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484000" y="6524640"/>
            <a:ext cx="4032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00"/>
                </a:solidFill>
                <a:latin typeface="Times New Roman"/>
              </a:rPr>
              <a:t>Иссык-Куль, 04–05 сентября 2009 год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2"/>
          <a:stretch/>
        </p:blipFill>
        <p:spPr>
          <a:xfrm>
            <a:off x="7848720" y="0"/>
            <a:ext cx="1260360" cy="106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5" descr="Untitled-2 copy"/>
          <p:cNvPicPr/>
          <p:nvPr/>
        </p:nvPicPr>
        <p:blipFill>
          <a:blip r:embed="rId2"/>
          <a:stretch/>
        </p:blipFill>
        <p:spPr>
          <a:xfrm>
            <a:off x="142920" y="149400"/>
            <a:ext cx="2460600" cy="20858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50920" y="126792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6"/>
          </p:nvPr>
        </p:nvSpPr>
        <p:spPr>
          <a:xfrm>
            <a:off x="4568400" y="6448320"/>
            <a:ext cx="4032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6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Times New Roman"/>
              </a:rPr>
              <a:t>Иссык-Куль, 04–05 сентября 2009 год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3" descr="Untitled-2 copy"/>
          <p:cNvPicPr/>
          <p:nvPr/>
        </p:nvPicPr>
        <p:blipFill>
          <a:blip r:embed="rId2"/>
          <a:stretch/>
        </p:blipFill>
        <p:spPr>
          <a:xfrm>
            <a:off x="142920" y="149400"/>
            <a:ext cx="2460600" cy="20858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250920" y="126792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7"/>
          </p:nvPr>
        </p:nvSpPr>
        <p:spPr>
          <a:xfrm>
            <a:off x="4532400" y="6524640"/>
            <a:ext cx="403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Times New Roman"/>
              </a:rPr>
              <a:t>Иссык-Куль, 04–05 сентября 2009 год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5"/>
          <p:cNvSpPr/>
          <p:nvPr/>
        </p:nvSpPr>
        <p:spPr>
          <a:xfrm>
            <a:off x="4568760" y="6448320"/>
            <a:ext cx="4032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Arial"/>
              </a:rPr>
              <a:t>Иссык-Куль, 04–05 сентября 2009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6400" y="21747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Arial Narrow"/>
              </a:rPr>
              <a:t>Обзор состояния биржевого</a:t>
            </a:r>
            <a:br>
              <a:rPr sz="4000"/>
            </a:br>
            <a:r>
              <a:rPr b="0" lang="ru-RU" sz="4000" spc="-1" strike="noStrike">
                <a:solidFill>
                  <a:srgbClr val="006600"/>
                </a:solidFill>
                <a:latin typeface="Arial Narrow"/>
              </a:rPr>
              <a:t>фондового рынка Казахстана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3195360" y="4002120"/>
            <a:ext cx="5113080" cy="169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Дзюбайло Русл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Начальник Отдела анализа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Департамента информации и анализ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АО "Казахстанская фондовая биржа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Нижний колонтитул 5"/>
          <p:cNvSpPr/>
          <p:nvPr/>
        </p:nvSpPr>
        <p:spPr>
          <a:xfrm>
            <a:off x="2484360" y="6524640"/>
            <a:ext cx="4032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ссык-Куль, 04–05 сентября 2009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Номер слайда 6"/>
          <p:cNvSpPr/>
          <p:nvPr/>
        </p:nvSpPr>
        <p:spPr>
          <a:xfrm>
            <a:off x="70102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0E61D-1B4A-49C6-9B69-033DD09604D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Закат рынка "прямого" репо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47960" y="1736640"/>
            <a:ext cx="4244760" cy="39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орот на рынке операций "прямого" репо снизился в июле 2009 года в 22 раза по сравнению с январем 2009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ительное снижение оборота мы связываем с низкой привлекательностью операций "прямого" репо после изменения Правил, а также с уходом участников на внебиржевой "скрытый" рынок операций ре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647640" y="1282680"/>
            <a:ext cx="3849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Динамика оборота рынка операций "прямого" репо 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2009 году, млрд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US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8"/>
          <p:cNvSpPr/>
          <p:nvPr/>
        </p:nvSpPr>
        <p:spPr>
          <a:xfrm>
            <a:off x="4518000" y="4970520"/>
            <a:ext cx="2486160" cy="821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0000"/>
                </a:solidFill>
                <a:latin typeface="Arial"/>
              </a:rPr>
              <a:t>Операции реп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0000"/>
                </a:solidFill>
                <a:latin typeface="Arial"/>
              </a:rPr>
              <a:t>с облигация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0000"/>
                </a:solidFill>
                <a:latin typeface="Arial"/>
              </a:rPr>
              <a:t>АО "ФНБ "Самрук-Казына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59" descr="Рисунок10"/>
          <p:cNvPicPr/>
          <p:nvPr/>
        </p:nvPicPr>
        <p:blipFill>
          <a:blip r:embed="rId1"/>
          <a:stretch/>
        </p:blipFill>
        <p:spPr>
          <a:xfrm>
            <a:off x="550800" y="2008080"/>
            <a:ext cx="3862440" cy="42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Нижний колонтитул 4"/>
          <p:cNvSpPr/>
          <p:nvPr/>
        </p:nvSpPr>
        <p:spPr>
          <a:xfrm>
            <a:off x="2484360" y="6524640"/>
            <a:ext cx="4032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ссык-Куль, 04–05 сентября 2009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Номер слайда 5"/>
          <p:cNvSpPr/>
          <p:nvPr/>
        </p:nvSpPr>
        <p:spPr>
          <a:xfrm>
            <a:off x="70102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E436E-6799-4BB7-99B7-3FF51FBBBC5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Рынок акций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542880" y="1209600"/>
            <a:ext cx="40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Динамика индекса акций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KASE </a:t>
            </a: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в 2009 году, пунк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14" descr="Рисунок11"/>
          <p:cNvPicPr/>
          <p:nvPr/>
        </p:nvPicPr>
        <p:blipFill>
          <a:blip r:embed="rId1"/>
          <a:stretch/>
        </p:blipFill>
        <p:spPr>
          <a:xfrm>
            <a:off x="130320" y="1201680"/>
            <a:ext cx="8883360" cy="49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Нижний колонтитул 4"/>
          <p:cNvSpPr/>
          <p:nvPr/>
        </p:nvSpPr>
        <p:spPr>
          <a:xfrm>
            <a:off x="2484360" y="6524640"/>
            <a:ext cx="4032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ссык-Куль, 04–05 сентября 2009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Номер слайда 5"/>
          <p:cNvSpPr/>
          <p:nvPr/>
        </p:nvSpPr>
        <p:spPr>
          <a:xfrm>
            <a:off x="70102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8F5FB-4BF3-44DB-B802-05AD9C13F0E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Мы выше Европы и США…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542880" y="1209600"/>
            <a:ext cx="615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Динамика индекса акций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KASE </a:t>
            </a: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 в сравнении с другими мировыми индексами,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1" descr="Рисунок12"/>
          <p:cNvPicPr/>
          <p:nvPr/>
        </p:nvPicPr>
        <p:blipFill>
          <a:blip r:embed="rId1"/>
          <a:stretch/>
        </p:blipFill>
        <p:spPr>
          <a:xfrm>
            <a:off x="150840" y="1403280"/>
            <a:ext cx="8840880" cy="50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Нижний колонтитул 4"/>
          <p:cNvSpPr/>
          <p:nvPr/>
        </p:nvSpPr>
        <p:spPr>
          <a:xfrm>
            <a:off x="2484360" y="6524640"/>
            <a:ext cx="4032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ссык-Куль, 04–05 сентября 2009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Номер слайда 5"/>
          <p:cNvSpPr/>
          <p:nvPr/>
        </p:nvSpPr>
        <p:spPr>
          <a:xfrm>
            <a:off x="70102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70C52-EC70-47BA-BF12-939414E71AE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…</a:t>
            </a: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но ниже России и Азии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542880" y="1209600"/>
            <a:ext cx="615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Динамика индекса акций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KASE </a:t>
            </a: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 в сравнении с другими мировыми индексами,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7" descr="Рисунок13"/>
          <p:cNvPicPr/>
          <p:nvPr/>
        </p:nvPicPr>
        <p:blipFill>
          <a:blip r:embed="rId1"/>
          <a:stretch/>
        </p:blipFill>
        <p:spPr>
          <a:xfrm>
            <a:off x="150840" y="1398600"/>
            <a:ext cx="8840880" cy="50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Нижний колонтитул 4"/>
          <p:cNvSpPr/>
          <p:nvPr/>
        </p:nvSpPr>
        <p:spPr>
          <a:xfrm>
            <a:off x="2484360" y="6524640"/>
            <a:ext cx="4032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ссык-Куль, 04–05 сентября 2009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Номер слайда 5"/>
          <p:cNvSpPr/>
          <p:nvPr/>
        </p:nvSpPr>
        <p:spPr>
          <a:xfrm>
            <a:off x="70102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4CC1D-07C3-4FEF-9E6F-9D3683A16F9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Источники роста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542880" y="1209600"/>
            <a:ext cx="658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Динамика индекса акций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KASE </a:t>
            </a: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в сравнении с наиболее ликвидными акциями, торгующимися на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KASE</a:t>
            </a: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,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10" descr="Рисунок14"/>
          <p:cNvPicPr/>
          <p:nvPr/>
        </p:nvPicPr>
        <p:blipFill>
          <a:blip r:embed="rId1"/>
          <a:stretch/>
        </p:blipFill>
        <p:spPr>
          <a:xfrm>
            <a:off x="214200" y="1496880"/>
            <a:ext cx="871560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Нижний колонтитул 4"/>
          <p:cNvSpPr/>
          <p:nvPr/>
        </p:nvSpPr>
        <p:spPr>
          <a:xfrm>
            <a:off x="2484360" y="6524640"/>
            <a:ext cx="4032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ссык-Куль, 04–05 сентября 2009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Номер слайда 5"/>
          <p:cNvSpPr/>
          <p:nvPr/>
        </p:nvSpPr>
        <p:spPr>
          <a:xfrm>
            <a:off x="70102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71E35-A07B-4B36-BC28-E55417EFA58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БВУ сдерживают рост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542880" y="1209600"/>
            <a:ext cx="658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Динамика индекса акций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KASE </a:t>
            </a: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в сравнении с наиболее ликвидными акциями, торгующимися на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KASE</a:t>
            </a: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,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6" descr="Рисунок15"/>
          <p:cNvPicPr/>
          <p:nvPr/>
        </p:nvPicPr>
        <p:blipFill>
          <a:blip r:embed="rId1"/>
          <a:stretch/>
        </p:blipFill>
        <p:spPr>
          <a:xfrm>
            <a:off x="200160" y="1479600"/>
            <a:ext cx="8742240" cy="49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Нижний колонтитул 4"/>
          <p:cNvSpPr/>
          <p:nvPr/>
        </p:nvSpPr>
        <p:spPr>
          <a:xfrm>
            <a:off x="2484360" y="6524640"/>
            <a:ext cx="4032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ссык-Куль, 04–05 сентября 2009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Номер слайда 5"/>
          <p:cNvSpPr/>
          <p:nvPr/>
        </p:nvSpPr>
        <p:spPr>
          <a:xfrm>
            <a:off x="70102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4173F-CA24-4074-B56A-584CB241911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Мы зависим от мирового рынка...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647640" y="1484280"/>
          <a:ext cx="7848720" cy="4481640"/>
        </p:xfrm>
        <a:graphic>
          <a:graphicData uri="http://schemas.openxmlformats.org/drawingml/2006/table">
            <a:tbl>
              <a:tblPr/>
              <a:tblGrid>
                <a:gridCol w="2616120"/>
                <a:gridCol w="2616480"/>
                <a:gridCol w="2616120"/>
              </a:tblGrid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 индек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ра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эфф. корреля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009900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S&amp;P 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СШ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,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TSE 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ликобрит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Dow Jones Ind. Ave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СШ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,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NIKKEI 2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Япо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,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CAC 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Фран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,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DA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Герм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,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KOSP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Коре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,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S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Шанха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,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TS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Тайва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,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ММВ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Росс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,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R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Росс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,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317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Нефть марки </a:t>
                      </a: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Br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,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317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Медь (</a:t>
                      </a: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Coppe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,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3" name="Text Box 1068"/>
          <p:cNvSpPr/>
          <p:nvPr/>
        </p:nvSpPr>
        <p:spPr>
          <a:xfrm>
            <a:off x="542880" y="1209600"/>
            <a:ext cx="615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Корреляция индекса акций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KASE </a:t>
            </a: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с другими мировыми индексами и основными сырьевыми товар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Нижний колонтитул 4"/>
          <p:cNvSpPr/>
          <p:nvPr/>
        </p:nvSpPr>
        <p:spPr>
          <a:xfrm>
            <a:off x="2484360" y="6524640"/>
            <a:ext cx="4032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ссык-Куль, 04–05 сентября 2009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Номер слайда 5"/>
          <p:cNvSpPr/>
          <p:nvPr/>
        </p:nvSpPr>
        <p:spPr>
          <a:xfrm>
            <a:off x="70102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4EE45-310B-440B-B53B-A05B6C0A60B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…</a:t>
            </a: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и цен на сырьевые товары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647640" y="1484280"/>
          <a:ext cx="7848720" cy="4481640"/>
        </p:xfrm>
        <a:graphic>
          <a:graphicData uri="http://schemas.openxmlformats.org/drawingml/2006/table">
            <a:tbl>
              <a:tblPr/>
              <a:tblGrid>
                <a:gridCol w="2616120"/>
                <a:gridCol w="2616480"/>
                <a:gridCol w="2616120"/>
              </a:tblGrid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 индек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ра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эфф. корреля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S&amp;P 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СШ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,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FTSE 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Великобрит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,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Dow Jones Ind. Ave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СШ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,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NIKKEI 2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Япо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,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CAC 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Фран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,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DA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Герм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,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KOSP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Коре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,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S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Шанха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,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TS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Тайва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,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ММВ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Росс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,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R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Росс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,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17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фть марки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317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дь (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ppe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8" name="Text Box 69"/>
          <p:cNvSpPr/>
          <p:nvPr/>
        </p:nvSpPr>
        <p:spPr>
          <a:xfrm>
            <a:off x="542880" y="1209600"/>
            <a:ext cx="615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Корреляция индекса акций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KASE </a:t>
            </a: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с другими мировыми индексами и основными сырьевыми товар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Нижний колонтитул 4"/>
          <p:cNvSpPr/>
          <p:nvPr/>
        </p:nvSpPr>
        <p:spPr>
          <a:xfrm>
            <a:off x="2484360" y="6524640"/>
            <a:ext cx="4032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ссык-Куль, 04–05 сентября 2009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Номер слайда 5"/>
          <p:cNvSpPr/>
          <p:nvPr/>
        </p:nvSpPr>
        <p:spPr>
          <a:xfrm>
            <a:off x="70102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7209B-6812-4D6C-8A7D-FC78CE05FA6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Мы движемся вместе с Россией…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647640" y="1484280"/>
          <a:ext cx="7848720" cy="4481640"/>
        </p:xfrm>
        <a:graphic>
          <a:graphicData uri="http://schemas.openxmlformats.org/drawingml/2006/table">
            <a:tbl>
              <a:tblPr/>
              <a:tblGrid>
                <a:gridCol w="2616120"/>
                <a:gridCol w="2616480"/>
                <a:gridCol w="2616120"/>
              </a:tblGrid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 индек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ра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эфф. корреля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S&amp;P 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СШ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,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FTSE 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Великобрит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,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Dow Jones Ind. Ave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СШ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,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NIKKEI 2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Япо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,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CAC 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Фран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,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DA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Герм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,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KOSP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Коре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,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S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Шанха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,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TS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Тайва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,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МВ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сс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сс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17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Нефть марки </a:t>
                      </a: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Br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,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317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Медь (</a:t>
                      </a: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Coppe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,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3" name="Text Box 131"/>
          <p:cNvSpPr/>
          <p:nvPr/>
        </p:nvSpPr>
        <p:spPr>
          <a:xfrm>
            <a:off x="542880" y="1209600"/>
            <a:ext cx="615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Корреляция индекса акций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KASE </a:t>
            </a: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с другими мировыми индексами и основными сырьевыми товар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Нижний колонтитул 4"/>
          <p:cNvSpPr/>
          <p:nvPr/>
        </p:nvSpPr>
        <p:spPr>
          <a:xfrm>
            <a:off x="2484360" y="6524640"/>
            <a:ext cx="4032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ссык-Куль, 04–05 сентября 2009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Номер слайда 5"/>
          <p:cNvSpPr/>
          <p:nvPr/>
        </p:nvSpPr>
        <p:spPr>
          <a:xfrm>
            <a:off x="70102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A75CC-E8A4-46D3-AECA-5020BF612B7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…</a:t>
            </a: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и Азией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647640" y="1484280"/>
          <a:ext cx="7848720" cy="4481640"/>
        </p:xfrm>
        <a:graphic>
          <a:graphicData uri="http://schemas.openxmlformats.org/drawingml/2006/table">
            <a:tbl>
              <a:tblPr/>
              <a:tblGrid>
                <a:gridCol w="2616120"/>
                <a:gridCol w="2616480"/>
                <a:gridCol w="2616120"/>
              </a:tblGrid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 индек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ра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эфф. корреля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S&amp;P 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СШ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,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FTSE 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Великобрит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,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Dow Jones Ind. Ave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СШ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,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KKEI 2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по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CAC 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Фран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,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DA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Герм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,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SP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е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S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Шанха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,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S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йва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ММВ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Росс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,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R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Росс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,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317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Нефть марки </a:t>
                      </a: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Br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,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317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Медь (</a:t>
                      </a: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Coppe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,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8" name="Text Box 73"/>
          <p:cNvSpPr/>
          <p:nvPr/>
        </p:nvSpPr>
        <p:spPr>
          <a:xfrm>
            <a:off x="542880" y="1209600"/>
            <a:ext cx="615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Корреляция индекса акций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KASE </a:t>
            </a: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с другими мировыми индексами и основными сырьевыми товар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Нижний колонтитул 5"/>
          <p:cNvSpPr/>
          <p:nvPr/>
        </p:nvSpPr>
        <p:spPr>
          <a:xfrm>
            <a:off x="2484360" y="6524640"/>
            <a:ext cx="4032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ссык-Куль, 04–05 сентября 2009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Номер слайда 6"/>
          <p:cNvSpPr/>
          <p:nvPr/>
        </p:nvSpPr>
        <p:spPr>
          <a:xfrm>
            <a:off x="70102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B6019-175E-411B-B516-A583670E09C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Денежный рынок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647640" y="1184400"/>
            <a:ext cx="3849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Динамика оборота рынка операций "автоматического" репо 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2009 году, млрд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US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4968720" y="1225440"/>
            <a:ext cx="374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Динамика индикатора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TONIA </a:t>
            </a: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в 2009 году, % годов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17" descr="Рисунок1"/>
          <p:cNvPicPr/>
          <p:nvPr/>
        </p:nvPicPr>
        <p:blipFill>
          <a:blip r:embed="rId1"/>
          <a:stretch/>
        </p:blipFill>
        <p:spPr>
          <a:xfrm>
            <a:off x="430200" y="1679400"/>
            <a:ext cx="8283600" cy="45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Нижний колонтитул 5"/>
          <p:cNvSpPr/>
          <p:nvPr/>
        </p:nvSpPr>
        <p:spPr>
          <a:xfrm>
            <a:off x="2484360" y="6524640"/>
            <a:ext cx="4032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ссык-Куль, 04–05 сентября 2009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Номер слайда 6"/>
          <p:cNvSpPr/>
          <p:nvPr/>
        </p:nvSpPr>
        <p:spPr>
          <a:xfrm>
            <a:off x="70102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20326-6999-4965-BCCD-ABF5F997689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32"/>
          <p:cNvSpPr/>
          <p:nvPr/>
        </p:nvSpPr>
        <p:spPr>
          <a:xfrm>
            <a:off x="4632480" y="2457360"/>
            <a:ext cx="424476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возможность построения различных схем на рынке акци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рименением операций "прямого" ре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ход с рынка части инвесто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нижение цен на рынке акций более чем в два р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Объемы на рынке акций падают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647640" y="1241280"/>
            <a:ext cx="388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Динамика объема торгов на рынке акций в 2009 году, млн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US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4680000" y="1736640"/>
            <a:ext cx="42447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Объем торгов на рынке акций снижается по следующим причина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47" descr="Рисунок16"/>
          <p:cNvPicPr/>
          <p:nvPr/>
        </p:nvPicPr>
        <p:blipFill>
          <a:blip r:embed="rId1"/>
          <a:stretch/>
        </p:blipFill>
        <p:spPr>
          <a:xfrm>
            <a:off x="490680" y="1660680"/>
            <a:ext cx="4211640" cy="47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Нижний колонтитул 5"/>
          <p:cNvSpPr/>
          <p:nvPr/>
        </p:nvSpPr>
        <p:spPr>
          <a:xfrm>
            <a:off x="2484360" y="6524640"/>
            <a:ext cx="4032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ссык-Куль, 04–05 сентября 2009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Номер слайда 6"/>
          <p:cNvSpPr/>
          <p:nvPr/>
        </p:nvSpPr>
        <p:spPr>
          <a:xfrm>
            <a:off x="70102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F45EC-9038-4672-8E07-9944EB6F831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А кто в лидерах?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9" name="Text Box 12"/>
          <p:cNvSpPr/>
          <p:nvPr/>
        </p:nvSpPr>
        <p:spPr>
          <a:xfrm>
            <a:off x="650880" y="1209600"/>
            <a:ext cx="3813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Десятка лидеров биржевого рынка акций по объему торг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в 2009 году (01 января – 25 август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3"/>
          <p:cNvSpPr/>
          <p:nvPr/>
        </p:nvSpPr>
        <p:spPr>
          <a:xfrm>
            <a:off x="4898880" y="1197000"/>
            <a:ext cx="3813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Десятка лидеров биржевого рынка акций по объему торг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в 2008 год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4"/>
          <p:cNvSpPr/>
          <p:nvPr/>
        </p:nvSpPr>
        <p:spPr>
          <a:xfrm>
            <a:off x="647640" y="5907240"/>
            <a:ext cx="7661160" cy="580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Более 45 % объема торгов акциями на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KASE </a:t>
            </a: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приходилось на сделки нерегулярного характера с акциями компаний второго эшел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16" descr="Рисунок17"/>
          <p:cNvPicPr/>
          <p:nvPr/>
        </p:nvPicPr>
        <p:blipFill>
          <a:blip r:embed="rId1"/>
          <a:stretch/>
        </p:blipFill>
        <p:spPr>
          <a:xfrm>
            <a:off x="339840" y="1612800"/>
            <a:ext cx="8462880" cy="43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Нижний колонтитул 5"/>
          <p:cNvSpPr/>
          <p:nvPr/>
        </p:nvSpPr>
        <p:spPr>
          <a:xfrm>
            <a:off x="2484360" y="6524640"/>
            <a:ext cx="4032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ссык-Куль, 04–05 сентября 2009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Номер слайда 6"/>
          <p:cNvSpPr/>
          <p:nvPr/>
        </p:nvSpPr>
        <p:spPr>
          <a:xfrm>
            <a:off x="70102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C404A-AF29-4221-A9DB-565F20757B6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Рынок корпоративных облигаций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268200" y="1467000"/>
            <a:ext cx="423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Динамика объема торгов на рынке облигаций в 2009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году, млн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US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4632480" y="1444680"/>
            <a:ext cx="392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Динамика индекса облигаций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KASE</a:t>
            </a: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_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BY</a:t>
            </a: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 в 2009 году,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% </a:t>
            </a: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годов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25" descr="Рисунок18"/>
          <p:cNvPicPr/>
          <p:nvPr/>
        </p:nvPicPr>
        <p:blipFill>
          <a:blip r:embed="rId1"/>
          <a:stretch/>
        </p:blipFill>
        <p:spPr>
          <a:xfrm>
            <a:off x="461880" y="1889280"/>
            <a:ext cx="8218440" cy="45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5"/>
          <p:cNvSpPr/>
          <p:nvPr/>
        </p:nvSpPr>
        <p:spPr>
          <a:xfrm>
            <a:off x="4441680" y="6073920"/>
            <a:ext cx="4032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www.kase.k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63640" y="2803680"/>
            <a:ext cx="77724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00"/>
                </a:solidFill>
                <a:latin typeface="Arial Narrow"/>
              </a:rPr>
              <a:t>Спасибо за внимание!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Нижний колонтитул 4"/>
          <p:cNvSpPr/>
          <p:nvPr/>
        </p:nvSpPr>
        <p:spPr>
          <a:xfrm>
            <a:off x="2484360" y="6524640"/>
            <a:ext cx="4032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ссык-Куль, 04–05 сентября 2009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Номер слайда 5"/>
          <p:cNvSpPr/>
          <p:nvPr/>
        </p:nvSpPr>
        <p:spPr>
          <a:xfrm>
            <a:off x="70102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31BF6-9F0B-42DF-818B-D668CA07036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Как менялись ставки…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1057320" y="1209600"/>
            <a:ext cx="40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Кривая доходности денежного рынка,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8" descr="Рисунок2"/>
          <p:cNvPicPr/>
          <p:nvPr/>
        </p:nvPicPr>
        <p:blipFill>
          <a:blip r:embed="rId1"/>
          <a:stretch/>
        </p:blipFill>
        <p:spPr>
          <a:xfrm>
            <a:off x="762120" y="1600200"/>
            <a:ext cx="7581960" cy="47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Нижний колонтитул 4"/>
          <p:cNvSpPr/>
          <p:nvPr/>
        </p:nvSpPr>
        <p:spPr>
          <a:xfrm>
            <a:off x="2484360" y="6524640"/>
            <a:ext cx="4032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ссык-Куль, 04–05 сентября 2009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Номер слайда 5"/>
          <p:cNvSpPr/>
          <p:nvPr/>
        </p:nvSpPr>
        <p:spPr>
          <a:xfrm>
            <a:off x="70102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6ABBF-68FD-4BDF-82CE-16B0A025FE6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Как менялись ставки…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1057320" y="1209600"/>
            <a:ext cx="40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Кривая доходности денежного рынка,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2" descr="Рисунок4"/>
          <p:cNvPicPr/>
          <p:nvPr/>
        </p:nvPicPr>
        <p:blipFill>
          <a:blip r:embed="rId1"/>
          <a:stretch/>
        </p:blipFill>
        <p:spPr>
          <a:xfrm>
            <a:off x="773280" y="1595520"/>
            <a:ext cx="759600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Нижний колонтитул 4"/>
          <p:cNvSpPr/>
          <p:nvPr/>
        </p:nvSpPr>
        <p:spPr>
          <a:xfrm>
            <a:off x="2484360" y="6524640"/>
            <a:ext cx="4032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ссык-Куль, 04–05 сентября 2009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Номер слайда 5"/>
          <p:cNvSpPr/>
          <p:nvPr/>
        </p:nvSpPr>
        <p:spPr>
          <a:xfrm>
            <a:off x="70102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32C17-93BE-42EA-95A3-8EE200F2BAF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Как менялись ставки…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1057320" y="1209600"/>
            <a:ext cx="40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Кривая доходности денежного рынка,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0" descr="Рисунок5"/>
          <p:cNvPicPr/>
          <p:nvPr/>
        </p:nvPicPr>
        <p:blipFill>
          <a:blip r:embed="rId1"/>
          <a:stretch/>
        </p:blipFill>
        <p:spPr>
          <a:xfrm>
            <a:off x="789120" y="1584360"/>
            <a:ext cx="7565760" cy="47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Нижний колонтитул 4"/>
          <p:cNvSpPr/>
          <p:nvPr/>
        </p:nvSpPr>
        <p:spPr>
          <a:xfrm>
            <a:off x="2484360" y="6524640"/>
            <a:ext cx="4032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ссык-Куль, 04–05 сентября 2009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Номер слайда 5"/>
          <p:cNvSpPr/>
          <p:nvPr/>
        </p:nvSpPr>
        <p:spPr>
          <a:xfrm>
            <a:off x="70102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966C5-B1AF-40EE-9786-0467C1088C3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Как менялись ставки…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1057320" y="1209600"/>
            <a:ext cx="40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Кривая доходности денежного рынка,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1" descr="Рисунок6"/>
          <p:cNvPicPr/>
          <p:nvPr/>
        </p:nvPicPr>
        <p:blipFill>
          <a:blip r:embed="rId1"/>
          <a:stretch/>
        </p:blipFill>
        <p:spPr>
          <a:xfrm>
            <a:off x="790560" y="1593720"/>
            <a:ext cx="7562880" cy="47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Нижний колонтитул 4"/>
          <p:cNvSpPr/>
          <p:nvPr/>
        </p:nvSpPr>
        <p:spPr>
          <a:xfrm>
            <a:off x="2484360" y="6524640"/>
            <a:ext cx="4032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ссык-Куль, 04–05 сентября 2009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Номер слайда 5"/>
          <p:cNvSpPr/>
          <p:nvPr/>
        </p:nvSpPr>
        <p:spPr>
          <a:xfrm>
            <a:off x="70102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C062E-8B37-47AF-B9C4-98424297C2B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Дефолты позади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542880" y="1209600"/>
            <a:ext cx="40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Динамика объема дефолтов на рынке операций реп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6" descr="Рисунок7"/>
          <p:cNvPicPr/>
          <p:nvPr/>
        </p:nvPicPr>
        <p:blipFill>
          <a:blip r:embed="rId1"/>
          <a:stretch/>
        </p:blipFill>
        <p:spPr>
          <a:xfrm>
            <a:off x="219240" y="1380960"/>
            <a:ext cx="8705520" cy="48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Нижний колонтитул 4"/>
          <p:cNvSpPr/>
          <p:nvPr/>
        </p:nvSpPr>
        <p:spPr>
          <a:xfrm>
            <a:off x="2484360" y="6524640"/>
            <a:ext cx="4032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ссык-Куль, 04–05 сентября 2009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Номер слайда 5"/>
          <p:cNvSpPr/>
          <p:nvPr/>
        </p:nvSpPr>
        <p:spPr>
          <a:xfrm>
            <a:off x="70102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BE310-7227-473C-8A0D-E553DE1A173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Дефолты позади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542880" y="1209600"/>
            <a:ext cx="40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Динамика объема дефолтов на рынке операций реп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9" descr="Рисунок8"/>
          <p:cNvPicPr/>
          <p:nvPr/>
        </p:nvPicPr>
        <p:blipFill>
          <a:blip r:embed="rId1"/>
          <a:stretch/>
        </p:blipFill>
        <p:spPr>
          <a:xfrm>
            <a:off x="220680" y="1393920"/>
            <a:ext cx="8701200" cy="48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Нижний колонтитул 4"/>
          <p:cNvSpPr/>
          <p:nvPr/>
        </p:nvSpPr>
        <p:spPr>
          <a:xfrm>
            <a:off x="2484360" y="6524640"/>
            <a:ext cx="4032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ссык-Куль, 04–05 сентября 2009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Номер слайда 5"/>
          <p:cNvSpPr/>
          <p:nvPr/>
        </p:nvSpPr>
        <p:spPr>
          <a:xfrm>
            <a:off x="70102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E2ED5-0E71-4D8F-AE49-F25E8B1D5C5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Дефолты позади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542880" y="1209600"/>
            <a:ext cx="40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Динамика объема дефолтов на рынке операций реп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7" descr="Рисунок9"/>
          <p:cNvPicPr/>
          <p:nvPr/>
        </p:nvPicPr>
        <p:blipFill>
          <a:blip r:embed="rId1"/>
          <a:stretch/>
        </p:blipFill>
        <p:spPr>
          <a:xfrm>
            <a:off x="212760" y="1393920"/>
            <a:ext cx="8718480" cy="48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2T10:17:41Z</dcterms:created>
  <dc:creator>vt</dc:creator>
  <dc:description/>
  <dc:language>en-US</dc:language>
  <cp:lastModifiedBy>User</cp:lastModifiedBy>
  <dcterms:modified xsi:type="dcterms:W3CDTF">2009-09-03T17:21:19Z</dcterms:modified>
  <cp:revision>212</cp:revision>
  <dc:subject/>
  <dc:title>Рынок иностранных валют</dc:title>
</cp:coreProperties>
</file>