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945-2257-40A2-80FD-77280AE4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3916-FF46-43A7-B224-7CBE83E3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751-2BB6-4A0B-89DB-B5DFC444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FAC-A2B5-4E42-91B8-EF380EC8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051B1-7066-40A7-87C8-0FA1FF949E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84BC6-9F18-4EAF-8B95-6C1FAD2D05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A388C-796C-43EE-9415-B71FEA43A0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80F8A-6223-49A0-B2A3-E215FB0851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6A12E-6A19-4CC4-BA13-5366E59654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5F1E1-463D-4DED-83E3-A5D84AAEA4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36E3A-F8DB-44EF-A24A-4B1873B156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A60-D6C6-4280-8F83-91CADE47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4112F-C91E-410A-ADC6-6EAA7C9D44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CC571-7C0D-4B69-A54B-4C1EC90DC6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C3F8B-6DE2-40AB-A263-243455761C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70BB9-AB92-4AC3-8582-EB1DF32765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88F2F-BE82-4840-BF6B-58A684C29E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280-6314-4EE3-B3BB-CA4CE7C5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484-2E69-47C6-A6E6-29A58442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349-D141-43DC-AA07-160B2870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1F7-2C1E-4F5B-AD21-C6348F66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5ED-CA39-4AA8-8530-4D146FA7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4DF-E490-4293-B992-828B4F69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076-323F-4C8B-A322-B46BF0A0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8400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CBFF-7C2D-4392-8F8E-81A9569794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7848720" y="0"/>
            <a:ext cx="1260360" cy="106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50560" y="583920"/>
            <a:ext cx="8605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7009920" y="65181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709D-1C0F-406E-94E3-615C067BF9CF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8400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tretch/>
        </p:blipFill>
        <p:spPr>
          <a:xfrm>
            <a:off x="7848720" y="0"/>
            <a:ext cx="1260360" cy="106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5" descr="Untitled-2 copy"/>
          <p:cNvPicPr/>
          <p:nvPr/>
        </p:nvPicPr>
        <p:blipFill>
          <a:blip r:embed="rId2"/>
          <a:stretch/>
        </p:blipFill>
        <p:spPr>
          <a:xfrm>
            <a:off x="142920" y="149400"/>
            <a:ext cx="2460600" cy="2085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6"/>
          </p:nvPr>
        </p:nvSpPr>
        <p:spPr>
          <a:xfrm>
            <a:off x="4568400" y="6448320"/>
            <a:ext cx="403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3" descr="Untitled-2 copy"/>
          <p:cNvPicPr/>
          <p:nvPr/>
        </p:nvPicPr>
        <p:blipFill>
          <a:blip r:embed="rId2"/>
          <a:stretch/>
        </p:blipFill>
        <p:spPr>
          <a:xfrm>
            <a:off x="142920" y="149400"/>
            <a:ext cx="2460600" cy="20858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4532400" y="6524640"/>
            <a:ext cx="403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4568760" y="644832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6400" y="2174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 Narrow"/>
              </a:rPr>
              <a:t>Обзор состояния биржевого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 Narrow"/>
              </a:rPr>
              <a:t>фондового рынка Казахстан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195360" y="4002120"/>
            <a:ext cx="51130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зюбайло Рус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Начальник Отдела анализ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Департамента информации и анали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О "Казахстанская фондовая бирж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ижний колонтитул 5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77B0-8C5D-40F9-89C9-0D51B57DCB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Закат рынка "прямого" репо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7960" y="1736640"/>
            <a:ext cx="424476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от на рынке операций "прямого" репо снизился в июле 2009 года в 22 раза по сравнению с январем 2009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снижение оборота мы связываем с низкой привлекательностью операций "прямого" репо после изменения Правил, а также с уходом участников на внебиржевой "скрытый" рынок операций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47640" y="1282680"/>
            <a:ext cx="38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оборота рынка операций "прямого" репо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2009 году, млрд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518000" y="4970520"/>
            <a:ext cx="2486160" cy="821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Операции ре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с облигац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АО "ФНБ "Самрук-Казына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9" descr="Рисунок10"/>
          <p:cNvPicPr/>
          <p:nvPr/>
        </p:nvPicPr>
        <p:blipFill>
          <a:blip r:embed="rId1"/>
          <a:stretch/>
        </p:blipFill>
        <p:spPr>
          <a:xfrm>
            <a:off x="550800" y="2008080"/>
            <a:ext cx="38624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F1C7-B903-4478-9E25-A79C513BA3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Рынок акций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542880" y="1209600"/>
            <a:ext cx="40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 2009 году, пун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4" descr="Рисунок11"/>
          <p:cNvPicPr/>
          <p:nvPr/>
        </p:nvPicPr>
        <p:blipFill>
          <a:blip r:embed="rId1"/>
          <a:stretch/>
        </p:blipFill>
        <p:spPr>
          <a:xfrm>
            <a:off x="130320" y="1201680"/>
            <a:ext cx="88833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500A-B4AC-4F9A-B304-8C568153D9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Мы выше Европы и США…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542880" y="1209600"/>
            <a:ext cx="615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в сравнении с другими мировыми индексами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Рисунок12"/>
          <p:cNvPicPr/>
          <p:nvPr/>
        </p:nvPicPr>
        <p:blipFill>
          <a:blip r:embed="rId1"/>
          <a:stretch/>
        </p:blipFill>
        <p:spPr>
          <a:xfrm>
            <a:off x="150840" y="1403280"/>
            <a:ext cx="884088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18FF-664B-40B1-A67A-CC1ECCA9A8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но ниже России и Азии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42880" y="1209600"/>
            <a:ext cx="615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в сравнении с другими мировыми индексами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" descr="Рисунок13"/>
          <p:cNvPicPr/>
          <p:nvPr/>
        </p:nvPicPr>
        <p:blipFill>
          <a:blip r:embed="rId1"/>
          <a:stretch/>
        </p:blipFill>
        <p:spPr>
          <a:xfrm>
            <a:off x="150840" y="1398600"/>
            <a:ext cx="88408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4EED-2C48-47EB-BC76-BA17C6CC23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сточники рос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42880" y="1209600"/>
            <a:ext cx="658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 сравнении с наиболее ликвидными акциями, торгующимися на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" descr="Рисунок14"/>
          <p:cNvPicPr/>
          <p:nvPr/>
        </p:nvPicPr>
        <p:blipFill>
          <a:blip r:embed="rId1"/>
          <a:stretch/>
        </p:blipFill>
        <p:spPr>
          <a:xfrm>
            <a:off x="214200" y="1496880"/>
            <a:ext cx="87156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461A-AE49-4EA1-BA4A-65F7CA7D66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БВУ сдерживают рост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42880" y="1209600"/>
            <a:ext cx="658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 сравнении с наиболее ликвидными акциями, торгующимися на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Рисунок15"/>
          <p:cNvPicPr/>
          <p:nvPr/>
        </p:nvPicPr>
        <p:blipFill>
          <a:blip r:embed="rId1"/>
          <a:stretch/>
        </p:blipFill>
        <p:spPr>
          <a:xfrm>
            <a:off x="200160" y="1479600"/>
            <a:ext cx="874224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D83D-34F8-4EBA-9058-8DBCBD9E80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Мы зависим от мирового рынка...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7640" y="1484280"/>
          <a:ext cx="7848720" cy="4481640"/>
        </p:xfrm>
        <a:graphic>
          <a:graphicData uri="http://schemas.openxmlformats.org/drawingml/2006/table">
            <a:tbl>
              <a:tblPr/>
              <a:tblGrid>
                <a:gridCol w="2616120"/>
                <a:gridCol w="2616480"/>
                <a:gridCol w="26161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индек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эфф. корре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&amp;P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SE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ow Jones Ind. Av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IKKEI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AC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Фра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KOS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р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Шанх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T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Тайв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ММВ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ефть марки </a:t>
                      </a: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B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Медь (</a:t>
                      </a: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pp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1068"/>
          <p:cNvSpPr/>
          <p:nvPr/>
        </p:nvSpPr>
        <p:spPr>
          <a:xfrm>
            <a:off x="542880" y="1209600"/>
            <a:ext cx="615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Корреляция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 другими мировыми индексами и основными сырьевыми това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E6AB-3CA8-4DC4-ACF6-5F46E61C5B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 цен на сырьевые товар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47640" y="1484280"/>
          <a:ext cx="7848720" cy="4481640"/>
        </p:xfrm>
        <a:graphic>
          <a:graphicData uri="http://schemas.openxmlformats.org/drawingml/2006/table">
            <a:tbl>
              <a:tblPr/>
              <a:tblGrid>
                <a:gridCol w="2616120"/>
                <a:gridCol w="2616480"/>
                <a:gridCol w="26161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индек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эфф. корре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&amp;P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FTSE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ow Jones Ind. Av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IKKEI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AC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Фра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KOS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р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Шанх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T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Тайв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ММВ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 марки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ext Box 69"/>
          <p:cNvSpPr/>
          <p:nvPr/>
        </p:nvSpPr>
        <p:spPr>
          <a:xfrm>
            <a:off x="542880" y="1209600"/>
            <a:ext cx="615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Корреляция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 другими мировыми индексами и основными сырьевыми това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BA65-6AB7-428D-8872-926F7B6401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Мы движемся вместе с Россией…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47640" y="1484280"/>
          <a:ext cx="7848720" cy="4481640"/>
        </p:xfrm>
        <a:graphic>
          <a:graphicData uri="http://schemas.openxmlformats.org/drawingml/2006/table">
            <a:tbl>
              <a:tblPr/>
              <a:tblGrid>
                <a:gridCol w="2616120"/>
                <a:gridCol w="2616480"/>
                <a:gridCol w="26161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индек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эфф. корре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&amp;P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FTSE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ow Jones Ind. Av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IKKEI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AC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Фра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KOS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р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Шанх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T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Тайв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В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ефть марки </a:t>
                      </a: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B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Медь (</a:t>
                      </a: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pp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131"/>
          <p:cNvSpPr/>
          <p:nvPr/>
        </p:nvSpPr>
        <p:spPr>
          <a:xfrm>
            <a:off x="542880" y="1209600"/>
            <a:ext cx="615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Корреляция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 другими мировыми индексами и основными сырьевыми това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B404-1D66-434F-A286-97C7B239AB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 Азией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47640" y="1484280"/>
          <a:ext cx="7848720" cy="4481640"/>
        </p:xfrm>
        <a:graphic>
          <a:graphicData uri="http://schemas.openxmlformats.org/drawingml/2006/table">
            <a:tbl>
              <a:tblPr/>
              <a:tblGrid>
                <a:gridCol w="2616120"/>
                <a:gridCol w="2616480"/>
                <a:gridCol w="26161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индек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эфф. корре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&amp;P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FTSE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ow Jones Ind. Av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KKEI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AC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Фра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Шанх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в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ММВ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ефть марки </a:t>
                      </a: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B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Медь (</a:t>
                      </a: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pp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Text Box 73"/>
          <p:cNvSpPr/>
          <p:nvPr/>
        </p:nvSpPr>
        <p:spPr>
          <a:xfrm>
            <a:off x="542880" y="1209600"/>
            <a:ext cx="615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Корреляция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 другими мировыми индексами и основными сырьевыми това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ижний колонтитул 5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65CB-614A-46CD-A0E2-9F69112ABF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Денежный рынок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647640" y="1184400"/>
            <a:ext cx="38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оборота рынка операций "автоматического" репо 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2009 году, млрд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968720" y="1225440"/>
            <a:ext cx="37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индикатора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NIA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 2009 году, % годов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7" descr="Рисунок1"/>
          <p:cNvPicPr/>
          <p:nvPr/>
        </p:nvPicPr>
        <p:blipFill>
          <a:blip r:embed="rId1"/>
          <a:stretch/>
        </p:blipFill>
        <p:spPr>
          <a:xfrm>
            <a:off x="430200" y="1679400"/>
            <a:ext cx="82836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ижний колонтитул 5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5AAA-C320-40A8-9718-9BACB4BB5F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2"/>
          <p:cNvSpPr/>
          <p:nvPr/>
        </p:nvSpPr>
        <p:spPr>
          <a:xfrm>
            <a:off x="4632480" y="2457360"/>
            <a:ext cx="42447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озможность построения различных схем на рынке акц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именением операций "прямого"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ход с рынка части инвес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цен на рынке акций более чем в два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Объемы на рынке акций падают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47640" y="1241280"/>
            <a:ext cx="388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объема торгов на рынке акций в 2009 году, млн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4680000" y="1736640"/>
            <a:ext cx="4244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Объем торгов на рынке акций снижается по следующим причин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7" descr="Рисунок16"/>
          <p:cNvPicPr/>
          <p:nvPr/>
        </p:nvPicPr>
        <p:blipFill>
          <a:blip r:embed="rId1"/>
          <a:stretch/>
        </p:blipFill>
        <p:spPr>
          <a:xfrm>
            <a:off x="490680" y="1660680"/>
            <a:ext cx="421164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ижний колонтитул 5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D355-ECCC-4F1E-9E32-EED4ECC943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А кто в лидерах?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650880" y="1209600"/>
            <a:ext cx="381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есятка лидеров биржевого рынка акций по объему торг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 2009 году (01 января – 25 авгус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4898880" y="1197000"/>
            <a:ext cx="381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есятка лидеров биржевого рынка акций по объему торг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 2008 г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647640" y="5907240"/>
            <a:ext cx="766116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Более 45 % объема торгов акциями на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KASE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приходилось на сделки нерегулярного характера с акциями компаний второго эшел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Рисунок17"/>
          <p:cNvPicPr/>
          <p:nvPr/>
        </p:nvPicPr>
        <p:blipFill>
          <a:blip r:embed="rId1"/>
          <a:stretch/>
        </p:blipFill>
        <p:spPr>
          <a:xfrm>
            <a:off x="339840" y="1612800"/>
            <a:ext cx="846288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ижний колонтитул 5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5B99-A2A2-4175-9923-8D589F7981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Рынок корпоративных облигаций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68200" y="1467000"/>
            <a:ext cx="42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объема торгов на рынке облигаций в 2009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году, млн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32480" y="1444680"/>
            <a:ext cx="39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индекса облигаций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KASE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_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Y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в 2009 году,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%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годов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5" descr="Рисунок18"/>
          <p:cNvPicPr/>
          <p:nvPr/>
        </p:nvPicPr>
        <p:blipFill>
          <a:blip r:embed="rId1"/>
          <a:stretch/>
        </p:blipFill>
        <p:spPr>
          <a:xfrm>
            <a:off x="461880" y="1889280"/>
            <a:ext cx="82184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4441680" y="607392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ww.kase.k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63640" y="28036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033E-5672-4347-A409-4B59917118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ак менялись ставки…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057320" y="1209600"/>
            <a:ext cx="40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Кривая доходности денежного рынка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Рисунок2"/>
          <p:cNvPicPr/>
          <p:nvPr/>
        </p:nvPicPr>
        <p:blipFill>
          <a:blip r:embed="rId1"/>
          <a:stretch/>
        </p:blipFill>
        <p:spPr>
          <a:xfrm>
            <a:off x="762120" y="1600200"/>
            <a:ext cx="758196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2AF4-4F29-4EEF-86C6-887CE9C15E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ак менялись ставки…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57320" y="1209600"/>
            <a:ext cx="40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Кривая доходности денежного рынка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Рисунок4"/>
          <p:cNvPicPr/>
          <p:nvPr/>
        </p:nvPicPr>
        <p:blipFill>
          <a:blip r:embed="rId1"/>
          <a:stretch/>
        </p:blipFill>
        <p:spPr>
          <a:xfrm>
            <a:off x="773280" y="1595520"/>
            <a:ext cx="7596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7501-061E-415C-850F-F151A0AEAB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ак менялись ставки…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057320" y="1209600"/>
            <a:ext cx="40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Кривая доходности денежного рынка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Рисунок5"/>
          <p:cNvPicPr/>
          <p:nvPr/>
        </p:nvPicPr>
        <p:blipFill>
          <a:blip r:embed="rId1"/>
          <a:stretch/>
        </p:blipFill>
        <p:spPr>
          <a:xfrm>
            <a:off x="789120" y="1584360"/>
            <a:ext cx="756576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C312-2CF7-48F2-A273-D98501799C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ак менялись ставки…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057320" y="1209600"/>
            <a:ext cx="40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Кривая доходности денежного рынка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1" descr="Рисунок6"/>
          <p:cNvPicPr/>
          <p:nvPr/>
        </p:nvPicPr>
        <p:blipFill>
          <a:blip r:embed="rId1"/>
          <a:stretch/>
        </p:blipFill>
        <p:spPr>
          <a:xfrm>
            <a:off x="790560" y="1593720"/>
            <a:ext cx="756288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1F20-4877-47FF-B358-818FB19224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Дефолты позади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42880" y="1209600"/>
            <a:ext cx="40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объема дефолтов на рынке операций ре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Рисунок7"/>
          <p:cNvPicPr/>
          <p:nvPr/>
        </p:nvPicPr>
        <p:blipFill>
          <a:blip r:embed="rId1"/>
          <a:stretch/>
        </p:blipFill>
        <p:spPr>
          <a:xfrm>
            <a:off x="219240" y="1380960"/>
            <a:ext cx="870552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6D0A-833D-4375-9848-57298F6233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Дефолты позади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42880" y="1209600"/>
            <a:ext cx="40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объема дефолтов на рынке операций ре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Рисунок8"/>
          <p:cNvPicPr/>
          <p:nvPr/>
        </p:nvPicPr>
        <p:blipFill>
          <a:blip r:embed="rId1"/>
          <a:stretch/>
        </p:blipFill>
        <p:spPr>
          <a:xfrm>
            <a:off x="220680" y="1393920"/>
            <a:ext cx="870120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4FFB-3137-4BB5-853F-3B25C64DC7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Дефолты позади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542880" y="1209600"/>
            <a:ext cx="40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объема дефолтов на рынке операций ре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Рисунок9"/>
          <p:cNvPicPr/>
          <p:nvPr/>
        </p:nvPicPr>
        <p:blipFill>
          <a:blip r:embed="rId1"/>
          <a:stretch/>
        </p:blipFill>
        <p:spPr>
          <a:xfrm>
            <a:off x="212760" y="1393920"/>
            <a:ext cx="87184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0:17:41Z</dcterms:created>
  <dc:creator>vt</dc:creator>
  <dc:description/>
  <dc:language>en-US</dc:language>
  <cp:lastModifiedBy>User</cp:lastModifiedBy>
  <dcterms:modified xsi:type="dcterms:W3CDTF">2009-09-03T17:21:19Z</dcterms:modified>
  <cp:revision>212</cp:revision>
  <dc:subject/>
  <dc:title>Рынок иностранных валют</dc:title>
</cp:coreProperties>
</file>