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13003213" cy="97520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262320" y="196920"/>
            <a:ext cx="5977080" cy="171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1300464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702320" y="123840"/>
            <a:ext cx="3744720" cy="107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2320" y="2212920"/>
            <a:ext cx="13004640" cy="7581960"/>
          </a:xfrm>
          <a:prstGeom prst="rect">
            <a:avLst/>
          </a:prstGeom>
          <a:solidFill>
            <a:srgbClr val="466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4486320" y="9198000"/>
            <a:ext cx="336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nicorn IFC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(Юникорн АйЭфСи), 2009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1389240" y="3652920"/>
            <a:ext cx="102978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yriad Pro"/>
              </a:rPr>
              <a:t>Влияние мирового фондового рынка на экономику Казахстана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-12600" y="2184480"/>
            <a:ext cx="1300464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3960" y="179388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667a"/>
                </a:solidFill>
                <a:latin typeface="Myriad Pro"/>
              </a:rPr>
              <a:t>Устойчивая  взаимосвязь м/у глобальными рынками и экономикой Казахстана обнаруживается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380880" y="5884920"/>
            <a:ext cx="119541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Увеличение уязвимости казахстанской экономики к внешним шокам вследствие «перекосов» в сторону финансового сектора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Сильная зависимость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банковского сектора от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мирового уровня ликвидности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Высокая корреляция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индекса </a:t>
            </a: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KASE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с индексом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S&amp;P Ener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526000" y="4229280"/>
            <a:ext cx="752976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53960" y="179388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667a"/>
                </a:solidFill>
                <a:latin typeface="Myriad Pro"/>
              </a:rPr>
              <a:t>Краткий анализ текущей ситуации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309600" y="314784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46667a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8320" y="4805280"/>
            <a:ext cx="119541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Текущий рост акций на мировых фондовых рынках связан с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80000"/>
              <a:buFont typeface="Myria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Эффектом «чистого баланса» крупных частных корпораций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80000"/>
              <a:buFont typeface="Myria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Скоординированными действиями монетарных властей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6172200"/>
            <a:ext cx="119541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Текущий тренд роста фондовых рынков является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yriad Pro"/>
              </a:rPr>
              <a:t>не фундаментальным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53960" y="179388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667a"/>
                </a:solidFill>
                <a:latin typeface="Myriad Pro"/>
              </a:rPr>
              <a:t>Краткосрочные перспективы для экономики Казахстана (2-3 года)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309600" y="314784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46667a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98320" y="3868560"/>
            <a:ext cx="119541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Государственный сектор – основно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Myriad Pro"/>
              </a:rPr>
              <a:t>инвестор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в экономику Казахстана (инфраструктура, реальный сектор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Нефтяной сектор – основно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Myriad Pro"/>
              </a:rPr>
              <a:t>поставщик ликвидности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в экономику Казахстана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525600" y="4948200"/>
            <a:ext cx="124790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667a"/>
                </a:solidFill>
                <a:latin typeface="Myriad Pro"/>
              </a:rPr>
              <a:t>Характеристики роста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6461280"/>
            <a:ext cx="119541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Рост экономики Казахстана не будет опережать рост экономик таких стран, как РФ, Китай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Рост экономики Казахстана будет качественным - инвестиции в инфраструктуру, способствующие становлению реального сектора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53960" y="179388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667a"/>
                </a:solidFill>
                <a:latin typeface="Myriad Pro"/>
              </a:rPr>
              <a:t>Риски для экономики Казахстана в краткосрочный период (2-3 года)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309600" y="314784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46667a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598320" y="4587840"/>
            <a:ext cx="119541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Рынок </a:t>
            </a: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Energy&amp;Metals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: причин для фундаментального роста не обнаруживается, ввиду неопределенности на рынке ипотеки в США и будущего потребительского спроса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Глобальный кризис ликвидности до сих пор не разрешился: особенности выплат ипотечных обязательств США, продолжающееся списание проблемных активов, существенный риск инфляции в связи с антикризисной монетарной политикой в долларовой зоне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Дальнейшее снижение потребительского спроса в США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-12600" y="2184480"/>
            <a:ext cx="1300464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541600" y="2819520"/>
            <a:ext cx="8424720" cy="59450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453960" y="179388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667a"/>
                </a:solidFill>
                <a:latin typeface="Myriad Pro"/>
              </a:rPr>
              <a:t>Ежемесячные погашения по ипотечным займам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2325600" y="2789280"/>
            <a:ext cx="81374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6934320" y="3724200"/>
            <a:ext cx="316836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yriad Pro"/>
              </a:rPr>
              <a:t>Ипотечные займы с плавающей %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yriad Pro"/>
              </a:rPr>
              <a:t>Субстандартные ипотечные займы с фикс. %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yriad Pro"/>
              </a:rPr>
              <a:t>Альтернативные стандартные ипот. займы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yriad Pro"/>
              </a:rPr>
              <a:t>Стандартные ипотечные займы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yriad Pro"/>
              </a:rPr>
              <a:t>Агентские ипотечные обязательства 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yriad Pro"/>
              </a:rPr>
              <a:t>(</a:t>
            </a:r>
            <a:r>
              <a:rPr b="1" lang="en-US" sz="1100" spc="-1" strike="noStrike">
                <a:solidFill>
                  <a:srgbClr val="000000"/>
                </a:solidFill>
                <a:latin typeface="Myriad Pro"/>
              </a:rPr>
              <a:t>FannieMae/Freddie Mac)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2614680" y="8477280"/>
            <a:ext cx="32414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yriad Pro"/>
              </a:rPr>
              <a:t>Источник: </a:t>
            </a:r>
            <a:r>
              <a:rPr b="1" lang="en-US" sz="1600" spc="-1" strike="noStrike">
                <a:solidFill>
                  <a:srgbClr val="000000"/>
                </a:solidFill>
                <a:latin typeface="Myriad Pro"/>
              </a:rPr>
              <a:t>Credit Suiss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3117960" y="4371840"/>
            <a:ext cx="1081080" cy="3241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5494320" y="4371840"/>
            <a:ext cx="1081080" cy="3241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254320" y="5308560"/>
            <a:ext cx="934920" cy="72072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213600" y="3147840"/>
            <a:ext cx="576000" cy="115272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070680" y="2789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yriad Pro"/>
              </a:rPr>
              <a:t>Зона риска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6084720"/>
            <a:ext cx="25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yriad Pro"/>
              </a:rPr>
              <a:t>Текущий кризис </a:t>
            </a:r>
            <a:r>
              <a:rPr b="0" lang="en-US" sz="1600" spc="-1" strike="noStrike">
                <a:solidFill>
                  <a:srgbClr val="000000"/>
                </a:solidFill>
                <a:latin typeface="Myriad Pro"/>
              </a:rPr>
              <a:t>subprim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37960" y="127620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667a"/>
                </a:solidFill>
                <a:latin typeface="Myriad Pro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309600" y="3147840"/>
            <a:ext cx="12479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46667a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98320" y="4587840"/>
            <a:ext cx="119541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Текущая ситуация в финансовом секторе, скорее всего, не позволит банкам кредитовать экономику Казахстана на адекватном уровне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До 2012 года интенсивного роста мировой экономики не ожидается (благоприятное время для гос. инвестиций в инфраструктуру страны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На фондовом рынке Казахстана будут преобладать различные виды гос. ценных бумаг (ГЦБ) в сравнении с корпоративным сегментом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6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Предполагаемые виды ГЦБ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yriad Pro"/>
              </a:rPr>
              <a:t>Негарантированные ГЦБ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yriad Pro"/>
              </a:rPr>
              <a:t>Муниципальные ГЦБ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yriad Pro"/>
              </a:rPr>
              <a:t>Инфраструктурные ГЦБ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yriad Pro"/>
              </a:rPr>
              <a:t>Агентские ГЦБ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-12600" y="2184480"/>
            <a:ext cx="1300464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Администратор</cp:lastModifiedBy>
  <dcterms:modified xsi:type="dcterms:W3CDTF">2009-09-05T02:58:39Z</dcterms:modified>
  <cp:revision>137</cp:revision>
  <dc:subject/>
  <dc:title>Слайд 1</dc:title>
</cp:coreProperties>
</file>