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DF85-C44B-44DE-B161-87613A1068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79CD-9A42-48F9-9E91-889C6F3443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1C1-2000-454B-A086-1B409C76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E82-287B-442D-98FF-B9DE8F1C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2E2-7DC2-4B50-9AB6-1603196D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AA3-C931-485E-83ED-29EF3F97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DF8-555D-4775-B421-85C74CDD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DE77-4974-4FFF-B7C1-7A1AF088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06A8-275F-4A28-8914-ADA3F9BE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8DA-109D-4BDA-9324-B9B9D5D6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09B-8991-443D-B4F9-D796EC0D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68B-D05C-4467-8DD8-62189127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A06-6786-412E-9DAC-EB94499A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BB5-1033-40AD-88C3-5B226D3D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759636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"/>
          <p:cNvPicPr/>
          <p:nvPr/>
        </p:nvPicPr>
        <p:blipFill>
          <a:blip r:embed="rId2"/>
          <a:stretch/>
        </p:blipFill>
        <p:spPr>
          <a:xfrm>
            <a:off x="7848720" y="0"/>
            <a:ext cx="1260360" cy="10605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484000" y="6575040"/>
            <a:ext cx="4032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517F-1BEE-4D29-8E07-291A71750D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Untitled-2 copy"/>
          <p:cNvPicPr/>
          <p:nvPr/>
        </p:nvPicPr>
        <p:blipFill>
          <a:blip r:embed="rId2"/>
          <a:stretch/>
        </p:blipFill>
        <p:spPr>
          <a:xfrm>
            <a:off x="6516720" y="115920"/>
            <a:ext cx="2460600" cy="2085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493200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imes New Roman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1"/>
          <p:cNvSpPr/>
          <p:nvPr/>
        </p:nvSpPr>
        <p:spPr>
          <a:xfrm>
            <a:off x="5106960" y="6477120"/>
            <a:ext cx="38419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50920" y="1843200"/>
            <a:ext cx="5767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 Narrow"/>
              </a:rPr>
              <a:t>Планы технологического развития биржевой групп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195640" y="4508640"/>
            <a:ext cx="66243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дим Касс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директор Департамент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ограммного обесп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АО "Казахстанская фондовая бирж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ubtitle 2"/>
          <p:cNvSpPr/>
          <p:nvPr/>
        </p:nvSpPr>
        <p:spPr>
          <a:xfrm>
            <a:off x="262080" y="3324240"/>
            <a:ext cx="6400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Arial Narrow"/>
              </a:rPr>
              <a:t>АО "Казахстанская фондовая биржа",</a:t>
            </a:r>
            <a:br>
              <a:rPr sz="2100"/>
            </a:br>
            <a:r>
              <a:rPr b="0" lang="ru-RU" sz="2100" spc="-1" strike="noStrike">
                <a:solidFill>
                  <a:srgbClr val="006600"/>
                </a:solidFill>
                <a:latin typeface="Arial Narrow"/>
              </a:rPr>
              <a:t>ТОО "eTrade.kz ", ТОО "Ирбис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2484360" y="6575400"/>
            <a:ext cx="4032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F327-62FB-409E-8172-9F7750D7A8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1332000" y="2492280"/>
            <a:ext cx="64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50000, Казахстан, г. Алматы, пр. Достык, 291/3а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фо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7 53 00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96 64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96 64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: kase@kase.kz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kase.k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онта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5"/>
          <p:cNvSpPr/>
          <p:nvPr/>
        </p:nvSpPr>
        <p:spPr>
          <a:xfrm>
            <a:off x="1888560" y="3286080"/>
            <a:ext cx="540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Спасиб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57120" y="62150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www.kase.k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2484360" y="6575400"/>
            <a:ext cx="4032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3B5A-D7AB-4833-AA9C-082AB02101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1628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витие казахстанского фондового рын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вышение надежности и масштабируемости информационных систем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пуляризация Интернет–трейдинг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еспечение "игроков" своевременной и полной информацией о торга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еспечение "игроков" современными удобными программными продуктам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будущем развитие биржевой группы в едином стиле, использование схожих технологий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Цели биржевой груп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6033240"/>
            <a:ext cx="360" cy="120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2484360" y="6575400"/>
            <a:ext cx="4032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5D36-D499-4D33-8091-7CF059D04A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Направления развития бирж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43080" y="12855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ие отказоустойчивости и безопасности информационных сист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штабируемость торговой системы (Т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ствование расчетных механизм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+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лным обеспечением, далее – Т+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ументирование Т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юзы доступа к Торговой системе (ТС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ключение перегрузок ТС при большом количестве Интернет–пользова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доступность ТС, возможность переключения между шлюз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1.png"/>
          <p:cNvPicPr/>
          <p:nvPr/>
        </p:nvPicPr>
        <p:blipFill>
          <a:blip r:embed="rId1"/>
          <a:stretch/>
        </p:blipFill>
        <p:spPr>
          <a:xfrm>
            <a:off x="285840" y="4119480"/>
            <a:ext cx="4403520" cy="235764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104" name="Picture 4" descr="2.png"/>
          <p:cNvPicPr/>
          <p:nvPr/>
        </p:nvPicPr>
        <p:blipFill>
          <a:blip r:embed="rId2"/>
          <a:stretch/>
        </p:blipFill>
        <p:spPr>
          <a:xfrm>
            <a:off x="4786200" y="4129200"/>
            <a:ext cx="4214880" cy="236844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sp>
        <p:nvSpPr>
          <p:cNvPr id="105" name="TextBox 7"/>
          <p:cNvSpPr/>
          <p:nvPr/>
        </p:nvSpPr>
        <p:spPr>
          <a:xfrm>
            <a:off x="3708360" y="418320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</a:rPr>
              <a:t>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7956720" y="4168800"/>
            <a:ext cx="100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</a:rPr>
              <a:t>20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2484360" y="6575400"/>
            <a:ext cx="4032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D2A3-331F-4D0A-95AB-A3C609F9D4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0600" y="1628640"/>
            <a:ext cx="822960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слуги Интернет–трейдинг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слуги центра сертификаци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дуль обмена информацией с ТС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фис брокер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77868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 Narrow"/>
              </a:rPr>
              <a:t>Направления развития ТОО "</a:t>
            </a: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eTrade.kz</a:t>
            </a:r>
            <a:r>
              <a:rPr b="0" lang="ru-RU" sz="3800" spc="-1" strike="noStrike">
                <a:solidFill>
                  <a:srgbClr val="ffffff"/>
                </a:solidFill>
                <a:latin typeface="Arial Narrow"/>
              </a:rPr>
              <a:t>"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Logotype #ok"/>
          <p:cNvPicPr/>
          <p:nvPr/>
        </p:nvPicPr>
        <p:blipFill>
          <a:blip r:embed="rId1"/>
          <a:stretch/>
        </p:blipFill>
        <p:spPr>
          <a:xfrm>
            <a:off x="468360" y="5734080"/>
            <a:ext cx="199080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2484360" y="6575400"/>
            <a:ext cx="4032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6C54-0C39-4309-A46F-AF8644282C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0240" y="1213920"/>
            <a:ext cx="742932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овый "тонкий" интернет–термина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интерфейс пользова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легченная загрузка через Интерн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аптация для непрофессиональных участников ры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через новые шлюзы ТС, возможность переключения между шлюз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Услуги Интернет–трейд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.png"/>
          <p:cNvPicPr/>
          <p:nvPr/>
        </p:nvPicPr>
        <p:blipFill>
          <a:blip r:embed="rId1"/>
          <a:stretch/>
        </p:blipFill>
        <p:spPr>
          <a:xfrm>
            <a:off x="2286000" y="4214880"/>
            <a:ext cx="40006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2484360" y="6575400"/>
            <a:ext cx="4032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5AF6-3E47-4A99-A028-7B41517508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146240"/>
            <a:ext cx="810576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озможность использовать протоколы Г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1280" indent="-167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ыковка центра сертификации ТОО 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rade.k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ехнической платформой АО "Казахстанский центр межбанковский расчетов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ЦМ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1280" indent="-167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аботка системы центра сертификации под технологию использования ключевой информации пользователя "Тумар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удет рассмотрена возможность работы без токенов по желанию клиентов броке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3.png"/>
          <p:cNvPicPr/>
          <p:nvPr/>
        </p:nvPicPr>
        <p:blipFill>
          <a:blip r:embed="rId1"/>
          <a:stretch/>
        </p:blipFill>
        <p:spPr>
          <a:xfrm>
            <a:off x="2786040" y="4071960"/>
            <a:ext cx="5286240" cy="2160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Услуги центра сертифик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2484360" y="6575400"/>
            <a:ext cx="4032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35AD-AED8-4518-A0BF-BD3FAC5430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0240" y="1213920"/>
            <a:ext cx="5653080" cy="32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иблиотека доступа к ТС (новый модуль обмен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70240" indent="-147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добство использован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70240" indent="-147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дежность соединен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70240" indent="-147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т необходимости в терминале ТС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70240" indent="-147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хнология "выталкивания" данных 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ial Information eXchang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 – проток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70240" indent="-147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ировой стандарт обмена финансовой   информаци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70240" indent="-147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зволяет подключать к ТС платформы,  например аналогичные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QUIK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70240" indent="-147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70240" indent="-147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4.png"/>
          <p:cNvPicPr/>
          <p:nvPr/>
        </p:nvPicPr>
        <p:blipFill>
          <a:blip r:embed="rId1"/>
          <a:stretch/>
        </p:blipFill>
        <p:spPr>
          <a:xfrm>
            <a:off x="5786280" y="1071720"/>
            <a:ext cx="2928960" cy="29764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0" y="-1116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Системы обмена информацией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с торговой систе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2"/>
          <a:stretch/>
        </p:blipFill>
        <p:spPr>
          <a:xfrm>
            <a:off x="5214960" y="4786200"/>
            <a:ext cx="372888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2484360" y="6575400"/>
            <a:ext cx="4032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71F3-8CC5-4FC0-8BDC-B60EBBC4A6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126828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е и эффективное управление счетами клиентов, приказами, ордерами, сдел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очные данные в режиме реального врем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eTransfer, АРМ "Депонент" и 1C Бухгалтери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ображение пользовательских позиций в режиме реального врем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ение расчета прибылей/убытков по выбранному методу (Среднего, ФИФО, ЛИФ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щная система отчетности на баз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rystal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бный, гибкий интерфей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формонезависимая серверна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5.png"/>
          <p:cNvPicPr/>
          <p:nvPr/>
        </p:nvPicPr>
        <p:blipFill>
          <a:blip r:embed="rId1"/>
          <a:stretch/>
        </p:blipFill>
        <p:spPr>
          <a:xfrm>
            <a:off x="5214960" y="4000680"/>
            <a:ext cx="3419280" cy="2298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Офис брок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6033240"/>
            <a:ext cx="360" cy="120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I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новый формат обслуживания клиентов Ирбис, который позволяет в максимально короткие сроки поставлять информацию до конечных пользователей. Новая платформа помож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удущем решить такие наболевшие вопросы как "человеческий" фактор, автоматизация проверки поставок данных, объединение разрозненных баз данных в одну удобную среду с возможностью экспорта в офисные прилож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2484360" y="6575400"/>
            <a:ext cx="4032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FDED-C1EF-4B62-981B-CFC9D3847C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Технологии ТОО "Ирбис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1928880" y="3357720"/>
            <a:ext cx="55339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0:42:50Z</dcterms:created>
  <dc:creator>User</dc:creator>
  <dc:description/>
  <dc:language>en-US</dc:language>
  <cp:lastModifiedBy>User</cp:lastModifiedBy>
  <dcterms:modified xsi:type="dcterms:W3CDTF">2009-09-03T17:21:15Z</dcterms:modified>
  <cp:revision>112</cp:revision>
  <dc:subject/>
  <dc:title>Планы технологического развития биржевой группы </dc:title>
</cp:coreProperties>
</file>