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EC23-25B0-4F51-A022-10B355F006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9277-1667-44A8-BF52-D93D7041C9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0138-E6B9-4ACE-BF56-99BDB62EB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7231-695C-4007-AA09-ED8CA0DA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5588-C56C-415E-92EE-01884BFE0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7997-86A7-44CB-B55A-9FE4AC13A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7409-391A-43FE-AB42-E5D21E96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A52E-B545-47A8-BB9E-E7524771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22DE-0527-4E16-B7E0-B8CF6E16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35BD-616A-4A4F-8FAE-9F22FFFA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D329-167D-4376-B53B-DB572A9B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6DC6-44A2-4728-8C96-1128A423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2032-352D-44AA-AA00-073F0666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DB03-233C-4C47-BD17-7B696277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759636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9" descr=""/>
          <p:cNvPicPr/>
          <p:nvPr/>
        </p:nvPicPr>
        <p:blipFill>
          <a:blip r:embed="rId2"/>
          <a:stretch/>
        </p:blipFill>
        <p:spPr>
          <a:xfrm>
            <a:off x="7848720" y="0"/>
            <a:ext cx="1260360" cy="10605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484000" y="6575040"/>
            <a:ext cx="4032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E65F-B238-497F-AAEE-7D3DD8BA4B9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Untitled-2 copy"/>
          <p:cNvPicPr/>
          <p:nvPr/>
        </p:nvPicPr>
        <p:blipFill>
          <a:blip r:embed="rId2"/>
          <a:stretch/>
        </p:blipFill>
        <p:spPr>
          <a:xfrm>
            <a:off x="6516720" y="115920"/>
            <a:ext cx="2460600" cy="2085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4"/>
          </p:nvPr>
        </p:nvSpPr>
        <p:spPr>
          <a:xfrm>
            <a:off x="493200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Times New Roman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1"/>
          <p:cNvSpPr/>
          <p:nvPr/>
        </p:nvSpPr>
        <p:spPr>
          <a:xfrm>
            <a:off x="5106960" y="6477120"/>
            <a:ext cx="38419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250920" y="1843200"/>
            <a:ext cx="5767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 Narrow"/>
              </a:rPr>
              <a:t>Планы технологического развития биржевой групп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2195640" y="4508640"/>
            <a:ext cx="662436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дим Касс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директор Департамент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рограммного обеспе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АО "Казахстанская фондовая биржа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ubtitle 2"/>
          <p:cNvSpPr/>
          <p:nvPr/>
        </p:nvSpPr>
        <p:spPr>
          <a:xfrm>
            <a:off x="262080" y="3324240"/>
            <a:ext cx="64008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00"/>
                </a:solidFill>
                <a:latin typeface="Arial Narrow"/>
              </a:rPr>
              <a:t>АО "Казахстанская фондовая биржа",</a:t>
            </a:r>
            <a:br>
              <a:rPr sz="2100"/>
            </a:br>
            <a:r>
              <a:rPr b="0" lang="ru-RU" sz="2100" spc="-1" strike="noStrike">
                <a:solidFill>
                  <a:srgbClr val="006600"/>
                </a:solidFill>
                <a:latin typeface="Arial Narrow"/>
              </a:rPr>
              <a:t>ТОО "eTrade.kz ", ТОО "Ирбис"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2484360" y="6575400"/>
            <a:ext cx="4032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F42D-0FF0-45B5-8B11-F813D985595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5"/>
          <p:cNvSpPr/>
          <p:nvPr/>
        </p:nvSpPr>
        <p:spPr>
          <a:xfrm>
            <a:off x="1332000" y="2492280"/>
            <a:ext cx="648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50000, Казахстан, г. Алматы, пр. Достык, 291/3а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ефо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37 53 00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96 64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к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96 64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: kase@kase.kz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kase.k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Контак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5"/>
          <p:cNvSpPr/>
          <p:nvPr/>
        </p:nvSpPr>
        <p:spPr>
          <a:xfrm>
            <a:off x="1888560" y="3286080"/>
            <a:ext cx="540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00"/>
                </a:solidFill>
                <a:latin typeface="Arial Narrow"/>
              </a:rPr>
              <a:t>Спасибо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6600"/>
                </a:solidFill>
                <a:latin typeface="Arial Narrow"/>
              </a:rPr>
              <a:t>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357120" y="62150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www.kase.k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2484360" y="6575400"/>
            <a:ext cx="4032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03A3-B5BE-4053-BC54-95C4DD6660D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95280" y="162864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звитие казахстанского фондового рын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вышение надежности и масштабируемости информационных систем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пуляризация Интернет–трейдинг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еспечение "игроков" своевременной и полной информацией о торга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еспечение "игроков" современными удобными программными продуктами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будущем развитие биржевой группы в едином стиле, использование схожих технологий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Цели биржевой групп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6033240"/>
            <a:ext cx="360" cy="120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2484360" y="6575400"/>
            <a:ext cx="4032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CD2D-09E6-4753-AD00-85FB17085D0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Направления развития бирж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43080" y="12855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ышение отказоустойчивости и безопасности информационных сист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штабируемость торговой системы (Т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ршенствование расчетных механизмов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+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лным обеспечением, далее – Т+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ументирование Т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люзы доступа к Торговой системе (ТС)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ключение перегрузок ТС при большом количестве Интернет–пользовател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ая доступность ТС, возможность переключения между шлюза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3" descr="1.png"/>
          <p:cNvPicPr/>
          <p:nvPr/>
        </p:nvPicPr>
        <p:blipFill>
          <a:blip r:embed="rId1"/>
          <a:stretch/>
        </p:blipFill>
        <p:spPr>
          <a:xfrm>
            <a:off x="285840" y="4119480"/>
            <a:ext cx="4403520" cy="235764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pic>
        <p:nvPicPr>
          <p:cNvPr id="104" name="Picture 4" descr="2.png"/>
          <p:cNvPicPr/>
          <p:nvPr/>
        </p:nvPicPr>
        <p:blipFill>
          <a:blip r:embed="rId2"/>
          <a:stretch/>
        </p:blipFill>
        <p:spPr>
          <a:xfrm>
            <a:off x="4786200" y="4129200"/>
            <a:ext cx="4214880" cy="236844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sp>
        <p:nvSpPr>
          <p:cNvPr id="105" name="TextBox 7"/>
          <p:cNvSpPr/>
          <p:nvPr/>
        </p:nvSpPr>
        <p:spPr>
          <a:xfrm>
            <a:off x="3708360" y="4183200"/>
            <a:ext cx="1000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00"/>
                </a:solidFill>
                <a:latin typeface="Arial"/>
              </a:rPr>
              <a:t>200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7956720" y="4168800"/>
            <a:ext cx="1008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00"/>
                </a:solidFill>
                <a:latin typeface="Arial"/>
              </a:rPr>
              <a:t>20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4"/>
          <p:cNvSpPr/>
          <p:nvPr/>
        </p:nvSpPr>
        <p:spPr>
          <a:xfrm>
            <a:off x="2484360" y="6575400"/>
            <a:ext cx="4032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BF4F-AD73-4417-87BC-590134D4C60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0600" y="1628640"/>
            <a:ext cx="8229600" cy="21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слуги Интернет–трейдинг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слуги центра сертификации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одуль обмена информацией с ТС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фис брокер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0" y="0"/>
            <a:ext cx="77868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 Narrow"/>
              </a:rPr>
              <a:t>Направления развития ТОО "</a:t>
            </a:r>
            <a:r>
              <a:rPr b="0" lang="en-US" sz="3800" spc="-1" strike="noStrike">
                <a:solidFill>
                  <a:srgbClr val="ffffff"/>
                </a:solidFill>
                <a:latin typeface="Arial Narrow"/>
              </a:rPr>
              <a:t>eTrade.kz</a:t>
            </a:r>
            <a:r>
              <a:rPr b="0" lang="ru-RU" sz="3800" spc="-1" strike="noStrike">
                <a:solidFill>
                  <a:srgbClr val="ffffff"/>
                </a:solidFill>
                <a:latin typeface="Arial Narrow"/>
              </a:rPr>
              <a:t>"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Logotype #ok"/>
          <p:cNvPicPr/>
          <p:nvPr/>
        </p:nvPicPr>
        <p:blipFill>
          <a:blip r:embed="rId1"/>
          <a:stretch/>
        </p:blipFill>
        <p:spPr>
          <a:xfrm>
            <a:off x="468360" y="5734080"/>
            <a:ext cx="199080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2484360" y="6575400"/>
            <a:ext cx="4032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0B3D-4085-48FE-A96F-41D16F27BB6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0240" y="1213920"/>
            <a:ext cx="742932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овый "тонкий" интернет–термина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ый интерфейс пользовате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легченная загрузка через Интерн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аптация для непрофессиональных участников рын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через новые шлюзы ТС, возможность переключения между шлюз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Услуги Интернет–трейдин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2.png"/>
          <p:cNvPicPr/>
          <p:nvPr/>
        </p:nvPicPr>
        <p:blipFill>
          <a:blip r:embed="rId1"/>
          <a:stretch/>
        </p:blipFill>
        <p:spPr>
          <a:xfrm>
            <a:off x="2286000" y="4214880"/>
            <a:ext cx="40006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2484360" y="6575400"/>
            <a:ext cx="4032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FDEF-AB34-4693-BCD8-66875410DED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95280" y="1146240"/>
            <a:ext cx="8105760" cy="25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озможность использовать протоколы ГОС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11280" indent="-167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ыковка центра сертификации ТОО 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rade.k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технической платформой АО "Казахстанский центр межбанковский расчетов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ЦМ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11280" indent="-167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работка системы центра сертификации под технологию использования ключевой информации пользователя "Тумар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Будет рассмотрена возможность работы без токенов по желанию клиентов брокер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3.png"/>
          <p:cNvPicPr/>
          <p:nvPr/>
        </p:nvPicPr>
        <p:blipFill>
          <a:blip r:embed="rId1"/>
          <a:stretch/>
        </p:blipFill>
        <p:spPr>
          <a:xfrm>
            <a:off x="2786040" y="4071960"/>
            <a:ext cx="5286240" cy="21607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8"/>
          <p:cNvSpPr/>
          <p:nvPr/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Услуги центра сертифик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2484360" y="6575400"/>
            <a:ext cx="4032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FE2A-DA98-4AF8-8F3E-FF5DF4B97D7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0240" y="1213920"/>
            <a:ext cx="5653080" cy="32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Библиотека доступа к ТС (новый модуль обмена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70240" indent="-147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добство использовани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70240" indent="-147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адежность соединени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70240" indent="-147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ет необходимости в терминале ТС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70240" indent="-147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технология "выталкивания" данных (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X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ancial Information eXchange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) – протоко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70240" indent="-147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ировой стандарт обмена финансовой   информацие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70240" indent="-147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озволяет подключать к ТС платформы,  например аналогичные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QUIK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70240" indent="-147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70240" indent="-147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4.png"/>
          <p:cNvPicPr/>
          <p:nvPr/>
        </p:nvPicPr>
        <p:blipFill>
          <a:blip r:embed="rId1"/>
          <a:stretch/>
        </p:blipFill>
        <p:spPr>
          <a:xfrm>
            <a:off x="5786280" y="1071720"/>
            <a:ext cx="2928960" cy="29764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9"/>
          <p:cNvSpPr/>
          <p:nvPr/>
        </p:nvSpPr>
        <p:spPr>
          <a:xfrm>
            <a:off x="0" y="-1116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4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Системы обмена информацией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с торговой систем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"/>
          <p:cNvPicPr/>
          <p:nvPr/>
        </p:nvPicPr>
        <p:blipFill>
          <a:blip r:embed="rId2"/>
          <a:stretch/>
        </p:blipFill>
        <p:spPr>
          <a:xfrm>
            <a:off x="5214960" y="4786200"/>
            <a:ext cx="372888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2484360" y="6575400"/>
            <a:ext cx="4032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29F9-C8A3-49FE-81CB-FC3291F646C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56760" y="126828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тое и эффективное управление счетами клиентов, приказами, ордерами, сделк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ыночные данные в режиме реального време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ация с eTransfer, АРМ "Депонент" и 1C Бухгалтери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ображение пользовательских позиций в режиме реального време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ление расчета прибылей/убытков по выбранному методу (Среднего, ФИФО, ЛИФО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щная система отчетности на баз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rystal Repo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обный, гибкий интерфей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формонезависимая серверна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4" descr="5.png"/>
          <p:cNvPicPr/>
          <p:nvPr/>
        </p:nvPicPr>
        <p:blipFill>
          <a:blip r:embed="rId1"/>
          <a:stretch/>
        </p:blipFill>
        <p:spPr>
          <a:xfrm>
            <a:off x="5214960" y="4000680"/>
            <a:ext cx="3419280" cy="22986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8"/>
          <p:cNvSpPr/>
          <p:nvPr/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Офис брок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-6033240"/>
            <a:ext cx="360" cy="120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-3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стема 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I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новый формат обслуживания клиентов Ирбис, который позволяет в максимально короткие сроки поставлять информацию до конечных пользователей. Новая платформа поможе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удущем решить такие наболевшие вопросы как "человеческий" фактор, автоматизация проверки поставок данных, объединение разрозненных баз данных в одну удобную среду с возможностью экспорта в офисные прилож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ooter Placeholder 3"/>
          <p:cNvSpPr/>
          <p:nvPr/>
        </p:nvSpPr>
        <p:spPr>
          <a:xfrm>
            <a:off x="2484360" y="6575400"/>
            <a:ext cx="4032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898F-8E70-4A1E-A839-203B3218FDB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Технологии ТОО "Ирбис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"/>
          <p:cNvPicPr/>
          <p:nvPr/>
        </p:nvPicPr>
        <p:blipFill>
          <a:blip r:embed="rId1"/>
          <a:stretch/>
        </p:blipFill>
        <p:spPr>
          <a:xfrm>
            <a:off x="1928880" y="3357720"/>
            <a:ext cx="553392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0:42:50Z</dcterms:created>
  <dc:creator>User</dc:creator>
  <dc:description/>
  <dc:language>en-US</dc:language>
  <cp:lastModifiedBy>User</cp:lastModifiedBy>
  <dcterms:modified xsi:type="dcterms:W3CDTF">2009-09-03T17:21:15Z</dcterms:modified>
  <cp:revision>112</cp:revision>
  <dc:subject/>
  <dc:title>Планы технологического развития биржевой группы </dc:title>
</cp:coreProperties>
</file>