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32.wmf" ContentType="image/x-wmf"/>
  <Override PartName="/ppt/media/image24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6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17.jpeg" ContentType="image/jpeg"/>
  <Override PartName="/ppt/media/image45.wmf" ContentType="image/x-wmf"/>
  <Override PartName="/ppt/media/image3.png" ContentType="image/png"/>
  <Override PartName="/ppt/media/image33.wmf" ContentType="image/x-wmf"/>
  <Override PartName="/ppt/media/image31.jpeg" ContentType="image/jpeg"/>
  <Override PartName="/ppt/media/image47.wmf" ContentType="image/x-wmf"/>
  <Override PartName="/ppt/media/image4.png" ContentType="image/png"/>
  <Override PartName="/ppt/media/image27.png" ContentType="image/png"/>
  <Override PartName="/ppt/media/image35.wmf" ContentType="image/x-wmf"/>
  <Override PartName="/ppt/media/image37.wmf" ContentType="image/x-wmf"/>
  <Override PartName="/ppt/media/image38.wmf" ContentType="image/x-wmf"/>
  <Override PartName="/ppt/media/image39.wmf" ContentType="image/x-wmf"/>
  <Override PartName="/ppt/media/image43.png" ContentType="image/png"/>
  <Override PartName="/ppt/media/image44.png" ContentType="image/png"/>
  <Override PartName="/ppt/media/image34.wmf" ContentType="image/x-wmf"/>
  <Override PartName="/ppt/media/image46.wmf" ContentType="image/x-wmf"/>
  <Override PartName="/ppt/media/image36.wmf" ContentType="image/x-wmf"/>
  <Override PartName="/ppt/media/image48.wmf" ContentType="image/x-wmf"/>
  <Override PartName="/ppt/media/image30.png" ContentType="image/png"/>
  <Override PartName="/ppt/media/image13.wmf" ContentType="image/x-wmf"/>
  <Override PartName="/ppt/media/image5.png" ContentType="image/png"/>
  <Override PartName="/ppt/media/image11.png" ContentType="image/png"/>
  <Override PartName="/ppt/media/image12.png" ContentType="image/png"/>
  <Override PartName="/ppt/media/image40.wmf" ContentType="image/x-wmf"/>
  <Override PartName="/ppt/media/image7.png" ContentType="image/png"/>
  <Override PartName="/ppt/media/image22.jpeg" ContentType="image/jpeg"/>
  <Override PartName="/ppt/media/image42.wmf" ContentType="image/x-wmf"/>
  <Override PartName="/ppt/media/image9.png" ContentType="image/png"/>
  <Override PartName="/ppt/media/image41.wmf" ContentType="image/x-wmf"/>
  <Override PartName="/ppt/media/image8.png" ContentType="image/png"/>
  <Override PartName="/ppt/media/image14.jpeg" ContentType="image/jpeg"/>
  <Override PartName="/ppt/media/image1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907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12"/>
          </p:nvPr>
        </p:nvSpPr>
        <p:spPr>
          <a:xfrm>
            <a:off x="3971880" y="0"/>
            <a:ext cx="3036960" cy="466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991800" y="693360"/>
            <a:ext cx="5038920" cy="348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Click to move the slide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13"/>
          </p:nvPr>
        </p:nvSpPr>
        <p:spPr>
          <a:xfrm>
            <a:off x="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14"/>
          </p:nvPr>
        </p:nvSpPr>
        <p:spPr>
          <a:xfrm>
            <a:off x="3971880" y="8827560"/>
            <a:ext cx="3036960" cy="46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0AA5-8A5C-4E3F-BFA9-97683FAA1B8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971880" y="8827920"/>
            <a:ext cx="303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5418-1937-43FB-B69A-9706ECDF00C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992160" y="693720"/>
            <a:ext cx="5038920" cy="348948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992160" y="693720"/>
            <a:ext cx="5038920" cy="348948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Номер слайда 3"/>
          <p:cNvSpPr/>
          <p:nvPr/>
        </p:nvSpPr>
        <p:spPr>
          <a:xfrm>
            <a:off x="3971880" y="8827920"/>
            <a:ext cx="303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90FF-9F8E-4605-9F2E-B3A470E570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971880" y="8827920"/>
            <a:ext cx="303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971FF583-3015-45B6-8108-912C3721FB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987480" y="723960"/>
            <a:ext cx="5035320" cy="348624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1055160" y="4467240"/>
            <a:ext cx="493884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971880" y="8827920"/>
            <a:ext cx="303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E4A7E9-BC92-44E8-BB5C-5C6FA0C3EA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987480" y="723960"/>
            <a:ext cx="5035320" cy="348624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1057320" y="4463640"/>
            <a:ext cx="493560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992160" y="693720"/>
            <a:ext cx="5038920" cy="348948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971880" y="8827920"/>
            <a:ext cx="303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E80B523-5420-4350-8B54-1B1F3D0534D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971880" y="8827920"/>
            <a:ext cx="303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68B78185-FE0F-4660-9CB4-6B18660730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992160" y="727200"/>
            <a:ext cx="5027760" cy="34812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1057320" y="4467240"/>
            <a:ext cx="49356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992160" y="693720"/>
            <a:ext cx="5038920" cy="348948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Номер слайда 3"/>
          <p:cNvSpPr/>
          <p:nvPr/>
        </p:nvSpPr>
        <p:spPr>
          <a:xfrm>
            <a:off x="3971880" y="8827920"/>
            <a:ext cx="303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75D3-783C-468E-BDC9-F2A7F775775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992160" y="693720"/>
            <a:ext cx="5038920" cy="348948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Номер слайда 3"/>
          <p:cNvSpPr/>
          <p:nvPr/>
        </p:nvSpPr>
        <p:spPr>
          <a:xfrm>
            <a:off x="3971880" y="8827920"/>
            <a:ext cx="303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F5E8-70C3-4A30-B2CA-1D641EBE39D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992160" y="693720"/>
            <a:ext cx="5038920" cy="348948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Номер слайда 3"/>
          <p:cNvSpPr/>
          <p:nvPr/>
        </p:nvSpPr>
        <p:spPr>
          <a:xfrm>
            <a:off x="3971880" y="8827920"/>
            <a:ext cx="303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8CC3-EE42-41BE-874E-5BC19ED0BA5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992160" y="693720"/>
            <a:ext cx="5038920" cy="348948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Номер слайда 3"/>
          <p:cNvSpPr/>
          <p:nvPr/>
        </p:nvSpPr>
        <p:spPr>
          <a:xfrm>
            <a:off x="3971880" y="8827920"/>
            <a:ext cx="303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BFA6-E678-4983-9029-2A4A9EACA7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992160" y="693720"/>
            <a:ext cx="5038920" cy="348948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Номер слайда 3"/>
          <p:cNvSpPr/>
          <p:nvPr/>
        </p:nvSpPr>
        <p:spPr>
          <a:xfrm>
            <a:off x="3971880" y="8827920"/>
            <a:ext cx="303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F0EC-7619-437D-8C2F-FFF057963F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C1AFD-547F-44AD-9547-E82DC723B2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000" y="389124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646FF-055F-4427-B938-7CF3C72E8DC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9D1532-41E2-46CD-B033-90DAA1F2E77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1AF09D-A477-4714-8482-767832EC4C5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95000" y="317160"/>
            <a:ext cx="8915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C1D08E-87C1-495F-827B-1067909C944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54F1A7-823A-4B5D-9C93-40A30357674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0634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0528ED-BE97-4AA3-AA2F-946E9B11BE5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F7908C-7A8C-4489-8660-369F3B4362A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95000" y="389124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6C9637-1DA7-4358-8F8E-628CDDD1B62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0634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293143-B154-4CED-9752-AF22B7A2543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0964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52428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9500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0964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52428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6564F2-B2A7-4994-8A11-C89E2FCDFDF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4EBAB-4EBC-413D-ACC9-3AEC819347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34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43F22-8093-4703-A93B-3508971B326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D9AA0-6404-4300-B441-F3AC90E16D5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A205A-C8B3-4923-B6DA-A0D86DB2E96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2B2A9-6070-4B54-8972-7CD226BACA0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98A6D-4770-4672-B006-099E9F36E1D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95000" y="317160"/>
            <a:ext cx="8915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B9267-BF4F-4349-8A78-35BCBA09DAE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9CE31-3450-467A-9DD1-924A8AE8516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634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B74B0-CD47-49EC-B0B2-967D0C59A75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03D34-4F2E-4731-BE4E-E0BFABC6E50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95000" y="389124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C8720-467B-4C5A-8487-2F75ABFB773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634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B54CD-FABA-4B4E-8D0C-60FA78650D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964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428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00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0964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428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F14C7-9479-4639-ADC8-B40DC59A1B4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50964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52428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9500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50964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52428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31E5E-C566-4E75-A116-1609DF40008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91B6CE-79CA-41B3-9AE7-43728B8E604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7C4204-1078-4184-80A5-23A2C3410E0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A8EE1B-3F72-435B-B390-67A2D30522F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F298FB-263A-484C-9DB1-69C3CB0A912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54882C-499E-47B7-836C-7554E62825B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95000" y="317160"/>
            <a:ext cx="8915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E3FB4C-1956-415B-9721-AC5273D6279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3CBFA2-EB64-429B-B6AB-D9F20630067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0634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C00929-03BF-429C-82B1-D0D7785F103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977920-E0E8-4790-B6D6-F13DA16948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95000" y="389124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1CB42A-E8FA-49F0-A1A2-56658D6A545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50634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731C03-29A6-43F6-85D8-BE0CA3219F2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50964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52428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9500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50964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52428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EEFDBD-D0E6-4EB8-82D4-7478FC83389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87B8D0-94C9-4330-BF38-05049637425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F61459-7CE4-493A-B41A-6B7F02E869B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5E9C0B-1FBA-407A-A0C9-DA7BC1DF3C4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79FD1F-8527-4D3F-AFC7-00FE4825689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1D5E93-C1D1-4A7C-92B2-BFCFD50E883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95000" y="317160"/>
            <a:ext cx="8915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9915F4-4515-4141-9641-E36129D4D5C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B02C4A-CA9C-483C-AE52-6489CD10CA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634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371349-C1A0-403A-971F-615AB85567A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3E7A2E-80F2-4736-BA70-04C8608B7D3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95000" y="389124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2D29F3-BBF2-4CB3-B74C-282E219B840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50634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3A1F2B-9E3F-47D0-A7DF-DDBC414985F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0964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52428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9500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0964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52428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28AF5A-601E-4CD7-8A18-03B049281D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95000" y="317160"/>
            <a:ext cx="8915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29EA0-186D-4C9B-95E7-47C7289585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634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000" y="389124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634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964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2428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00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0964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2428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B198C-E075-4560-B6A0-CC2B2CC37C8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CBB7C-F0F4-4C80-859D-B86DF832E1E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DAB75-D209-46EF-8C3B-BA31987D950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9707C-4F8E-4912-B485-90669BCF514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4B423-DA25-418D-ABB5-AD8C8CC204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1B0B7-67D7-41A9-83FA-3C0B8B3017C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95000" y="317160"/>
            <a:ext cx="8915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545D3-9FB9-4885-8B83-1634856D4B3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1663F-E75E-4BE2-96F9-4F18A53E5EF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634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DFE53-3DCB-489C-940A-0030E57F53F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68A06-7E86-428B-86F6-35521B22789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5000" y="389124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B56DC-28E1-4CAA-A883-B41BB6A19BB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0634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8631B-ACBC-4A3E-AABB-2FFB1A4CF52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0964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52428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500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50964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52428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DB8F4-AA38-423A-9960-398153C7F58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E454-2ED8-470F-8BAF-9E1054F3D10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0635-68E1-47D5-9F65-D395E0AF84E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6ACD-DA16-40F8-B888-BC3370C061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9EC8C-6E5C-42E3-B200-097224AAE8C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492E-BBA4-4FEC-B2F8-827AA2C6B1C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0149-FD92-4A77-94C3-FF5CD6F024B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95000" y="317160"/>
            <a:ext cx="8915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1B98-7191-48DE-A5B3-DA5215A2852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84A3-61AF-4929-8D8F-63A1FB7D162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0634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6165-0CC5-4C89-B73F-2C1D5DBFCA2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8A1C-C9C4-4B05-8951-94651E55566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5000" y="389124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8EA3-8123-4501-B6BC-57625CC3B8A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0634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690E-612F-45EB-B116-EC8667D3BD9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964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2428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9500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50964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52428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D74A-6967-4B5B-89EE-A9A6E510958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F79AB-7C5E-42CA-967F-9CBB4B34A9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818AF-FB4F-4A0D-BAC7-34E4FD2BAF4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88907-3906-46CD-A6BE-44B7E702390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BDA24B-8BA5-4D68-BD9E-CBF5DB12A4E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26E65B-6949-4C8F-8ABE-E6CDFFC6544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6C465A-9AA8-457C-81C7-15296E68ADC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95000" y="317160"/>
            <a:ext cx="8915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EDDD8F-E4F5-4F36-BDCD-4A6018C423C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D912A-2E19-4A4D-BA9A-EC72D5C7867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0634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3ADA3-E533-4A7C-8CA4-1035457506A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5D896-AB08-40B2-95FE-44B9B80C252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5000" y="389124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D430E-79E6-49F8-9807-26B0856F769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634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02066-50DC-4491-9062-68E44DE500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000" y="317160"/>
            <a:ext cx="8915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67FD8-8F27-4174-AD77-D3199149A18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0964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52428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9500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50964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52428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E5C9D-9EC9-4E0F-A438-3CAB72639F3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889807-BA55-4EFC-9B35-6A6219C5BEC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4FF3B-D62E-49C2-9116-10DE5FC13B1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64F48-49A7-4D79-9225-89E4484384C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B396F-0EE5-4780-8505-FC5D0B35D12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4F5FE-FDE3-4470-B66C-535A879E0F4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95000" y="317160"/>
            <a:ext cx="8915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B1ED2-5F7C-49AF-949C-2EAFC4A2508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95B06-052E-447E-A179-AE04AD5A2BE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634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9E329-64DA-4F15-AE61-832CA375694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9D314E-9EFF-46EA-BCFF-645870ECF3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0E3AB-CCE1-4BB6-B526-688255C7D0C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95000" y="389124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68B92-75B3-49E1-95F1-5870A2BBFC6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50634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25229-055C-4139-8306-C818C9F6475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50964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52428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9500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50964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52428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40C35-F54D-47E7-929E-7CE166DA3BE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0D55-E739-49AC-96B6-F3CFAE45AB8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3A08-EF03-4468-8412-28C0FEB0B44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034A-EEED-4814-81E2-C584681A733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31EB-DA3D-40FB-BC57-D7AEDB9E68D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F490-1559-43D9-9C29-E2CC9C8F5BB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95000" y="317160"/>
            <a:ext cx="8915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7F21-0B63-4AA0-B13A-0516051A2D6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B11B-DD5A-402A-9AC3-353427603D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34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A3827-F7BD-43FB-96B4-8F948692D0A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0634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0F5F-5E82-48D0-B50B-B5CBC584F24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6955-5A08-4669-A32C-6263359FCB9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5000" y="389124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0DF0-5133-461B-89EF-176285AB8B2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50634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6724-C258-4FD5-8B16-EA84EB8129E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50964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52428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9500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50964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52428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9D53-F061-4EFD-B35F-B691AA67AE1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AD4640-15F8-42C3-92BB-578AC5F3A8D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CFAD5C-3427-4CA3-9091-8F1B25BB9C9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6BEA9F-060F-4DC9-81B8-5B98CCC4527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2431EE-297C-43F6-8E7E-AF3A1A15B97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9F0052-CA67-4DD0-899C-A0536AD5DF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1651B-D9DE-41FE-9910-E24533A647A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95000" y="317160"/>
            <a:ext cx="8915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7122B0-9231-48F2-A0B3-E2E204D5CAE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9A9C47-DE11-4C59-A725-3A78C358772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634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DB95B3-13C4-417E-A772-0B76EF7F06D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D4586B-0B03-4931-AD7F-7F56610C1EC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95000" y="389124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9E04E5-E906-4CB2-9B6C-A7F3C5F3879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50634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99A436-F80A-45B1-A32C-4B939E49075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0964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52428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9500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50964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52428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051A53-2481-4037-AF5E-C098B455C40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CA8D8F-8C14-4678-B155-06FCC55E5F2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A140B5-116D-422E-86E6-BEC35AF6346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395853-2A37-4093-8F99-CB2DADADC0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495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495360" y="533520"/>
            <a:ext cx="8915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2" name="Picture 12" descr="logo"/>
          <p:cNvPicPr/>
          <p:nvPr/>
        </p:nvPicPr>
        <p:blipFill>
          <a:blip r:embed="rId2"/>
          <a:stretch/>
        </p:blipFill>
        <p:spPr>
          <a:xfrm>
            <a:off x="474840" y="6264360"/>
            <a:ext cx="1506240" cy="436320"/>
          </a:xfrm>
          <a:prstGeom prst="rect">
            <a:avLst/>
          </a:prstGeom>
          <a:ln w="0">
            <a:noFill/>
          </a:ln>
        </p:spPr>
      </p:pic>
      <p:sp>
        <p:nvSpPr>
          <p:cNvPr id="3" name="Line 13"/>
          <p:cNvSpPr/>
          <p:nvPr/>
        </p:nvSpPr>
        <p:spPr>
          <a:xfrm>
            <a:off x="495360" y="12952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960" rIns="102960" tIns="-51480" bIns="-51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marL="385920" indent="-385920"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1" marL="836640" indent="-322200">
              <a:spcBef>
                <a:spcPts val="675"/>
              </a:spcBef>
              <a:buClr>
                <a:srgbClr val="0a281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2" marL="1289160" indent="-257400">
              <a:spcBef>
                <a:spcPts val="675"/>
              </a:spcBef>
              <a:buClr>
                <a:srgbClr val="0a2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3" marL="1805040" indent="-257400">
              <a:spcBef>
                <a:spcPts val="675"/>
              </a:spcBef>
              <a:buClr>
                <a:srgbClr val="0a28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4" marL="2320920" indent="-257040">
              <a:spcBef>
                <a:spcPts val="675"/>
              </a:spcBef>
              <a:buClr>
                <a:srgbClr val="0a281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5" marL="2320920" indent="-2570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6" marL="2320920" indent="-2570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1CB1-16E8-4AC4-96C9-4EE7643647D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10"/>
          <p:cNvSpPr/>
          <p:nvPr/>
        </p:nvSpPr>
        <p:spPr>
          <a:xfrm>
            <a:off x="495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386" name="Rectangle 11"/>
          <p:cNvSpPr/>
          <p:nvPr/>
        </p:nvSpPr>
        <p:spPr>
          <a:xfrm>
            <a:off x="495360" y="533520"/>
            <a:ext cx="8915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387" name="Picture 12" descr="logo"/>
          <p:cNvPicPr/>
          <p:nvPr/>
        </p:nvPicPr>
        <p:blipFill>
          <a:blip r:embed="rId2"/>
          <a:stretch/>
        </p:blipFill>
        <p:spPr>
          <a:xfrm>
            <a:off x="474840" y="6264360"/>
            <a:ext cx="1506240" cy="436320"/>
          </a:xfrm>
          <a:prstGeom prst="rect">
            <a:avLst/>
          </a:prstGeom>
          <a:ln w="0">
            <a:noFill/>
          </a:ln>
        </p:spPr>
      </p:pic>
      <p:sp>
        <p:nvSpPr>
          <p:cNvPr id="388" name="Line 13"/>
          <p:cNvSpPr/>
          <p:nvPr/>
        </p:nvSpPr>
        <p:spPr>
          <a:xfrm>
            <a:off x="495360" y="12952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960" rIns="102960" tIns="-51480" bIns="-51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marL="385920" indent="-385920"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1" marL="836640" indent="-322200">
              <a:spcBef>
                <a:spcPts val="675"/>
              </a:spcBef>
              <a:buClr>
                <a:srgbClr val="0a281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2" marL="1289160" indent="-257400">
              <a:spcBef>
                <a:spcPts val="675"/>
              </a:spcBef>
              <a:buClr>
                <a:srgbClr val="0a2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3" marL="1805040" indent="-257400">
              <a:spcBef>
                <a:spcPts val="675"/>
              </a:spcBef>
              <a:buClr>
                <a:srgbClr val="0a28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4" marL="2320920" indent="-257040">
              <a:spcBef>
                <a:spcPts val="675"/>
              </a:spcBef>
              <a:buClr>
                <a:srgbClr val="0a281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5" marL="2320920" indent="-2570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6" marL="2320920" indent="-2570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9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627D-3C9C-4378-80C5-3FEB02215F32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10"/>
          <p:cNvSpPr/>
          <p:nvPr/>
        </p:nvSpPr>
        <p:spPr>
          <a:xfrm>
            <a:off x="495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429" name="Rectangle 11"/>
          <p:cNvSpPr/>
          <p:nvPr/>
        </p:nvSpPr>
        <p:spPr>
          <a:xfrm>
            <a:off x="495360" y="533520"/>
            <a:ext cx="8915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430" name="Picture 12" descr="logo"/>
          <p:cNvPicPr/>
          <p:nvPr/>
        </p:nvPicPr>
        <p:blipFill>
          <a:blip r:embed="rId2"/>
          <a:stretch/>
        </p:blipFill>
        <p:spPr>
          <a:xfrm>
            <a:off x="474840" y="6264360"/>
            <a:ext cx="1506240" cy="436320"/>
          </a:xfrm>
          <a:prstGeom prst="rect">
            <a:avLst/>
          </a:prstGeom>
          <a:ln w="0">
            <a:noFill/>
          </a:ln>
        </p:spPr>
      </p:pic>
      <p:sp>
        <p:nvSpPr>
          <p:cNvPr id="431" name="Line 13"/>
          <p:cNvSpPr/>
          <p:nvPr/>
        </p:nvSpPr>
        <p:spPr>
          <a:xfrm>
            <a:off x="495360" y="12952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960" rIns="102960" tIns="-51480" bIns="-51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marL="385920" indent="-385920"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1" marL="836640" indent="-322200">
              <a:spcBef>
                <a:spcPts val="675"/>
              </a:spcBef>
              <a:buClr>
                <a:srgbClr val="0a281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2" marL="1289160" indent="-257400">
              <a:spcBef>
                <a:spcPts val="675"/>
              </a:spcBef>
              <a:buClr>
                <a:srgbClr val="0a2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3" marL="1805040" indent="-257400">
              <a:spcBef>
                <a:spcPts val="675"/>
              </a:spcBef>
              <a:buClr>
                <a:srgbClr val="0a28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4" marL="2320920" indent="-257040">
              <a:spcBef>
                <a:spcPts val="675"/>
              </a:spcBef>
              <a:buClr>
                <a:srgbClr val="0a281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5" marL="2320920" indent="-2570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6" marL="2320920" indent="-2570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sldNum" idx="10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7547-32C8-48DA-8C66-A130E70D0DEE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10"/>
          <p:cNvSpPr/>
          <p:nvPr/>
        </p:nvSpPr>
        <p:spPr>
          <a:xfrm>
            <a:off x="495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472" name="Rectangle 11"/>
          <p:cNvSpPr/>
          <p:nvPr/>
        </p:nvSpPr>
        <p:spPr>
          <a:xfrm>
            <a:off x="495360" y="533520"/>
            <a:ext cx="8915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473" name="Picture 12" descr="logo"/>
          <p:cNvPicPr/>
          <p:nvPr/>
        </p:nvPicPr>
        <p:blipFill>
          <a:blip r:embed="rId2"/>
          <a:stretch/>
        </p:blipFill>
        <p:spPr>
          <a:xfrm>
            <a:off x="474840" y="6264360"/>
            <a:ext cx="1506240" cy="436320"/>
          </a:xfrm>
          <a:prstGeom prst="rect">
            <a:avLst/>
          </a:prstGeom>
          <a:ln w="0">
            <a:noFill/>
          </a:ln>
        </p:spPr>
      </p:pic>
      <p:sp>
        <p:nvSpPr>
          <p:cNvPr id="474" name="Line 13"/>
          <p:cNvSpPr/>
          <p:nvPr/>
        </p:nvSpPr>
        <p:spPr>
          <a:xfrm>
            <a:off x="495360" y="12952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960" rIns="102960" tIns="-51480" bIns="-51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marL="385920" indent="-385920"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1" marL="836640" indent="-322200">
              <a:spcBef>
                <a:spcPts val="675"/>
              </a:spcBef>
              <a:buClr>
                <a:srgbClr val="0a281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2" marL="1289160" indent="-257400">
              <a:spcBef>
                <a:spcPts val="675"/>
              </a:spcBef>
              <a:buClr>
                <a:srgbClr val="0a2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3" marL="1805040" indent="-257400">
              <a:spcBef>
                <a:spcPts val="675"/>
              </a:spcBef>
              <a:buClr>
                <a:srgbClr val="0a28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4" marL="2320920" indent="-257040">
              <a:spcBef>
                <a:spcPts val="675"/>
              </a:spcBef>
              <a:buClr>
                <a:srgbClr val="0a281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5" marL="2320920" indent="-2570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6" marL="2320920" indent="-2570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sldNum" idx="11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6630-D447-4B1A-A15D-13A04BFB23E0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logo"/>
          <p:cNvPicPr/>
          <p:nvPr/>
        </p:nvPicPr>
        <p:blipFill>
          <a:blip r:embed="rId2"/>
          <a:stretch/>
        </p:blipFill>
        <p:spPr>
          <a:xfrm>
            <a:off x="760320" y="2517840"/>
            <a:ext cx="2146320" cy="6220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193680" y="6491160"/>
            <a:ext cx="3276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825480" y="3200400"/>
            <a:ext cx="8255160" cy="0"/>
          </a:xfrm>
          <a:prstGeom prst="line">
            <a:avLst/>
          </a:prstGeom>
          <a:ln w="9360">
            <a:solidFill>
              <a:srgbClr val="0a2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960" rIns="102960" tIns="-51480" bIns="-51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marL="385920" indent="-385920"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1" marL="836640" indent="-322200">
              <a:spcBef>
                <a:spcPts val="675"/>
              </a:spcBef>
              <a:buClr>
                <a:srgbClr val="0a281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2" marL="1289160" indent="-257400">
              <a:spcBef>
                <a:spcPts val="675"/>
              </a:spcBef>
              <a:buClr>
                <a:srgbClr val="0a2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3" marL="1805040" indent="-257400">
              <a:spcBef>
                <a:spcPts val="675"/>
              </a:spcBef>
              <a:buClr>
                <a:srgbClr val="0a28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4" marL="2320920" indent="-257040">
              <a:spcBef>
                <a:spcPts val="675"/>
              </a:spcBef>
              <a:buClr>
                <a:srgbClr val="0a281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5" marL="2320920" indent="-2570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6" marL="2320920" indent="-2570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0"/>
          <p:cNvSpPr/>
          <p:nvPr/>
        </p:nvSpPr>
        <p:spPr>
          <a:xfrm>
            <a:off x="495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495360" y="533520"/>
            <a:ext cx="8915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86" name="Picture 12" descr="logo"/>
          <p:cNvPicPr/>
          <p:nvPr/>
        </p:nvPicPr>
        <p:blipFill>
          <a:blip r:embed="rId2"/>
          <a:stretch/>
        </p:blipFill>
        <p:spPr>
          <a:xfrm>
            <a:off x="474840" y="6264360"/>
            <a:ext cx="1506240" cy="436320"/>
          </a:xfrm>
          <a:prstGeom prst="rect">
            <a:avLst/>
          </a:prstGeom>
          <a:ln w="0">
            <a:noFill/>
          </a:ln>
        </p:spPr>
      </p:pic>
      <p:sp>
        <p:nvSpPr>
          <p:cNvPr id="87" name="Line 13"/>
          <p:cNvSpPr/>
          <p:nvPr/>
        </p:nvSpPr>
        <p:spPr>
          <a:xfrm>
            <a:off x="495360" y="12952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960" rIns="102960" tIns="-51480" bIns="-51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marL="385920" indent="-385920"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1" marL="836640" indent="-322200">
              <a:spcBef>
                <a:spcPts val="675"/>
              </a:spcBef>
              <a:buClr>
                <a:srgbClr val="0a281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2" marL="1289160" indent="-257400">
              <a:spcBef>
                <a:spcPts val="675"/>
              </a:spcBef>
              <a:buClr>
                <a:srgbClr val="0a2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3" marL="1805040" indent="-257400">
              <a:spcBef>
                <a:spcPts val="675"/>
              </a:spcBef>
              <a:buClr>
                <a:srgbClr val="0a28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4" marL="2320920" indent="-257040">
              <a:spcBef>
                <a:spcPts val="675"/>
              </a:spcBef>
              <a:buClr>
                <a:srgbClr val="0a281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5" marL="2320920" indent="-2570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6" marL="2320920" indent="-2570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AEB0-E4D9-4290-B270-08C83686287F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0"/>
          <p:cNvSpPr/>
          <p:nvPr/>
        </p:nvSpPr>
        <p:spPr>
          <a:xfrm>
            <a:off x="495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95360" y="533520"/>
            <a:ext cx="8915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129" name="Picture 12" descr="logo"/>
          <p:cNvPicPr/>
          <p:nvPr/>
        </p:nvPicPr>
        <p:blipFill>
          <a:blip r:embed="rId2"/>
          <a:stretch/>
        </p:blipFill>
        <p:spPr>
          <a:xfrm>
            <a:off x="474840" y="6264360"/>
            <a:ext cx="1506240" cy="436320"/>
          </a:xfrm>
          <a:prstGeom prst="rect">
            <a:avLst/>
          </a:prstGeom>
          <a:ln w="0">
            <a:noFill/>
          </a:ln>
        </p:spPr>
      </p:pic>
      <p:sp>
        <p:nvSpPr>
          <p:cNvPr id="130" name="Line 13"/>
          <p:cNvSpPr/>
          <p:nvPr/>
        </p:nvSpPr>
        <p:spPr>
          <a:xfrm>
            <a:off x="495360" y="12952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960" rIns="102960" tIns="-51480" bIns="-51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marL="385920" indent="-385920"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1" marL="836640" indent="-322200">
              <a:spcBef>
                <a:spcPts val="675"/>
              </a:spcBef>
              <a:buClr>
                <a:srgbClr val="0a281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2" marL="1289160" indent="-257400">
              <a:spcBef>
                <a:spcPts val="675"/>
              </a:spcBef>
              <a:buClr>
                <a:srgbClr val="0a2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3" marL="1805040" indent="-257400">
              <a:spcBef>
                <a:spcPts val="675"/>
              </a:spcBef>
              <a:buClr>
                <a:srgbClr val="0a28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4" marL="2320920" indent="-257040">
              <a:spcBef>
                <a:spcPts val="675"/>
              </a:spcBef>
              <a:buClr>
                <a:srgbClr val="0a281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5" marL="2320920" indent="-2570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6" marL="2320920" indent="-2570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B9DD-3931-49C9-8CBA-6663B1EF513D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0"/>
          <p:cNvSpPr/>
          <p:nvPr/>
        </p:nvSpPr>
        <p:spPr>
          <a:xfrm>
            <a:off x="495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495360" y="533520"/>
            <a:ext cx="8915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172" name="Picture 12" descr="logo"/>
          <p:cNvPicPr/>
          <p:nvPr/>
        </p:nvPicPr>
        <p:blipFill>
          <a:blip r:embed="rId2"/>
          <a:stretch/>
        </p:blipFill>
        <p:spPr>
          <a:xfrm>
            <a:off x="474840" y="6264360"/>
            <a:ext cx="1506240" cy="436320"/>
          </a:xfrm>
          <a:prstGeom prst="rect">
            <a:avLst/>
          </a:prstGeom>
          <a:ln w="0">
            <a:noFill/>
          </a:ln>
        </p:spPr>
      </p:pic>
      <p:sp>
        <p:nvSpPr>
          <p:cNvPr id="173" name="Line 13"/>
          <p:cNvSpPr/>
          <p:nvPr/>
        </p:nvSpPr>
        <p:spPr>
          <a:xfrm>
            <a:off x="495360" y="12952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960" rIns="102960" tIns="-51480" bIns="-51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marL="385920" indent="-385920"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1" marL="836640" indent="-322200">
              <a:spcBef>
                <a:spcPts val="675"/>
              </a:spcBef>
              <a:buClr>
                <a:srgbClr val="0a281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2" marL="1289160" indent="-257400">
              <a:spcBef>
                <a:spcPts val="675"/>
              </a:spcBef>
              <a:buClr>
                <a:srgbClr val="0a2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3" marL="1805040" indent="-257400">
              <a:spcBef>
                <a:spcPts val="675"/>
              </a:spcBef>
              <a:buClr>
                <a:srgbClr val="0a28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4" marL="2320920" indent="-257040">
              <a:spcBef>
                <a:spcPts val="675"/>
              </a:spcBef>
              <a:buClr>
                <a:srgbClr val="0a281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5" marL="2320920" indent="-2570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6" marL="2320920" indent="-2570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4"/>
          </p:nvPr>
        </p:nvSpPr>
        <p:spPr>
          <a:xfrm>
            <a:off x="7098840" y="61718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51BB-1B25-4872-9751-74D092046E2C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0"/>
          <p:cNvSpPr/>
          <p:nvPr/>
        </p:nvSpPr>
        <p:spPr>
          <a:xfrm>
            <a:off x="495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495360" y="533520"/>
            <a:ext cx="8915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215" name="Picture 12" descr="logo"/>
          <p:cNvPicPr/>
          <p:nvPr/>
        </p:nvPicPr>
        <p:blipFill>
          <a:blip r:embed="rId2"/>
          <a:stretch/>
        </p:blipFill>
        <p:spPr>
          <a:xfrm>
            <a:off x="474840" y="6264360"/>
            <a:ext cx="1506240" cy="436320"/>
          </a:xfrm>
          <a:prstGeom prst="rect">
            <a:avLst/>
          </a:prstGeom>
          <a:ln w="0">
            <a:noFill/>
          </a:ln>
        </p:spPr>
      </p:pic>
      <p:sp>
        <p:nvSpPr>
          <p:cNvPr id="216" name="Line 13"/>
          <p:cNvSpPr/>
          <p:nvPr/>
        </p:nvSpPr>
        <p:spPr>
          <a:xfrm>
            <a:off x="495360" y="12952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960" rIns="102960" tIns="-51480" bIns="-51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marL="385920" indent="-385920"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1" marL="836640" indent="-322200">
              <a:spcBef>
                <a:spcPts val="675"/>
              </a:spcBef>
              <a:buClr>
                <a:srgbClr val="0a281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2" marL="1289160" indent="-257400">
              <a:spcBef>
                <a:spcPts val="675"/>
              </a:spcBef>
              <a:buClr>
                <a:srgbClr val="0a2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3" marL="1805040" indent="-257400">
              <a:spcBef>
                <a:spcPts val="675"/>
              </a:spcBef>
              <a:buClr>
                <a:srgbClr val="0a28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4" marL="2320920" indent="-257040">
              <a:spcBef>
                <a:spcPts val="675"/>
              </a:spcBef>
              <a:buClr>
                <a:srgbClr val="0a281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5" marL="2320920" indent="-2570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6" marL="2320920" indent="-2570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5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160F-69A4-4E26-9911-9DEB1D7C4596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0"/>
          <p:cNvSpPr/>
          <p:nvPr/>
        </p:nvSpPr>
        <p:spPr>
          <a:xfrm>
            <a:off x="495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495360" y="533520"/>
            <a:ext cx="8915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258" name="Picture 12" descr="logo"/>
          <p:cNvPicPr/>
          <p:nvPr/>
        </p:nvPicPr>
        <p:blipFill>
          <a:blip r:embed="rId2"/>
          <a:stretch/>
        </p:blipFill>
        <p:spPr>
          <a:xfrm>
            <a:off x="474840" y="6264360"/>
            <a:ext cx="1506240" cy="436320"/>
          </a:xfrm>
          <a:prstGeom prst="rect">
            <a:avLst/>
          </a:prstGeom>
          <a:ln w="0">
            <a:noFill/>
          </a:ln>
        </p:spPr>
      </p:pic>
      <p:sp>
        <p:nvSpPr>
          <p:cNvPr id="259" name="Line 13"/>
          <p:cNvSpPr/>
          <p:nvPr/>
        </p:nvSpPr>
        <p:spPr>
          <a:xfrm>
            <a:off x="495360" y="12952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960" rIns="102960" tIns="-51480" bIns="-51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marL="385920" indent="-385920"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1" marL="836640" indent="-322200">
              <a:spcBef>
                <a:spcPts val="675"/>
              </a:spcBef>
              <a:buClr>
                <a:srgbClr val="0a281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2" marL="1289160" indent="-257400">
              <a:spcBef>
                <a:spcPts val="675"/>
              </a:spcBef>
              <a:buClr>
                <a:srgbClr val="0a2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3" marL="1805040" indent="-257400">
              <a:spcBef>
                <a:spcPts val="675"/>
              </a:spcBef>
              <a:buClr>
                <a:srgbClr val="0a28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4" marL="2320920" indent="-257040">
              <a:spcBef>
                <a:spcPts val="675"/>
              </a:spcBef>
              <a:buClr>
                <a:srgbClr val="0a281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5" marL="2320920" indent="-2570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6" marL="2320920" indent="-2570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Num" idx="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44F8-2198-4518-B970-37BF0BF03D02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0"/>
          <p:cNvSpPr/>
          <p:nvPr/>
        </p:nvSpPr>
        <p:spPr>
          <a:xfrm>
            <a:off x="495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495360" y="533520"/>
            <a:ext cx="8915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301" name="Picture 12" descr="logo"/>
          <p:cNvPicPr/>
          <p:nvPr/>
        </p:nvPicPr>
        <p:blipFill>
          <a:blip r:embed="rId2"/>
          <a:stretch/>
        </p:blipFill>
        <p:spPr>
          <a:xfrm>
            <a:off x="474840" y="6264360"/>
            <a:ext cx="1506240" cy="436320"/>
          </a:xfrm>
          <a:prstGeom prst="rect">
            <a:avLst/>
          </a:prstGeom>
          <a:ln w="0">
            <a:noFill/>
          </a:ln>
        </p:spPr>
      </p:pic>
      <p:sp>
        <p:nvSpPr>
          <p:cNvPr id="302" name="Line 13"/>
          <p:cNvSpPr/>
          <p:nvPr/>
        </p:nvSpPr>
        <p:spPr>
          <a:xfrm>
            <a:off x="495360" y="12952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960" rIns="102960" tIns="-51480" bIns="-51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marL="385920" indent="-385920"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1" marL="836640" indent="-322200">
              <a:spcBef>
                <a:spcPts val="675"/>
              </a:spcBef>
              <a:buClr>
                <a:srgbClr val="0a281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2" marL="1289160" indent="-257400">
              <a:spcBef>
                <a:spcPts val="675"/>
              </a:spcBef>
              <a:buClr>
                <a:srgbClr val="0a2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3" marL="1805040" indent="-257400">
              <a:spcBef>
                <a:spcPts val="675"/>
              </a:spcBef>
              <a:buClr>
                <a:srgbClr val="0a28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4" marL="2320920" indent="-257040">
              <a:spcBef>
                <a:spcPts val="675"/>
              </a:spcBef>
              <a:buClr>
                <a:srgbClr val="0a281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5" marL="2320920" indent="-2570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6" marL="2320920" indent="-2570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Num" idx="7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43CB-E4F7-4F41-A7BF-CBDF07F063ED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0"/>
          <p:cNvSpPr/>
          <p:nvPr/>
        </p:nvSpPr>
        <p:spPr>
          <a:xfrm>
            <a:off x="495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343" name="Rectangle 11"/>
          <p:cNvSpPr/>
          <p:nvPr/>
        </p:nvSpPr>
        <p:spPr>
          <a:xfrm>
            <a:off x="495360" y="533520"/>
            <a:ext cx="8915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344" name="Picture 12" descr="logo"/>
          <p:cNvPicPr/>
          <p:nvPr/>
        </p:nvPicPr>
        <p:blipFill>
          <a:blip r:embed="rId2"/>
          <a:stretch/>
        </p:blipFill>
        <p:spPr>
          <a:xfrm>
            <a:off x="474840" y="6264360"/>
            <a:ext cx="1506240" cy="436320"/>
          </a:xfrm>
          <a:prstGeom prst="rect">
            <a:avLst/>
          </a:prstGeom>
          <a:ln w="0">
            <a:noFill/>
          </a:ln>
        </p:spPr>
      </p:pic>
      <p:sp>
        <p:nvSpPr>
          <p:cNvPr id="345" name="Line 13"/>
          <p:cNvSpPr/>
          <p:nvPr/>
        </p:nvSpPr>
        <p:spPr>
          <a:xfrm>
            <a:off x="495360" y="12952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960" rIns="102960" tIns="-51480" bIns="-51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marL="385920" indent="-385920"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1" marL="836640" indent="-322200">
              <a:spcBef>
                <a:spcPts val="675"/>
              </a:spcBef>
              <a:buClr>
                <a:srgbClr val="0a281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2" marL="1289160" indent="-257400">
              <a:spcBef>
                <a:spcPts val="675"/>
              </a:spcBef>
              <a:buClr>
                <a:srgbClr val="0a2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3" marL="1805040" indent="-257400">
              <a:spcBef>
                <a:spcPts val="675"/>
              </a:spcBef>
              <a:buClr>
                <a:srgbClr val="0a28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4" marL="2320920" indent="-257040">
              <a:spcBef>
                <a:spcPts val="675"/>
              </a:spcBef>
              <a:buClr>
                <a:srgbClr val="0a281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5" marL="2320920" indent="-2570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6" marL="2320920" indent="-2570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Num" idx="8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CA5A-897B-40BB-960E-1AD733532927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yuk@visocap.com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46.wmf"/><Relationship Id="rId5" Type="http://schemas.openxmlformats.org/officeDocument/2006/relationships/image" Target="../media/image47.wmf"/><Relationship Id="rId6" Type="http://schemas.openxmlformats.org/officeDocument/2006/relationships/image" Target="../media/image48.wmf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wmf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png"/><Relationship Id="rId11" Type="http://schemas.openxmlformats.org/officeDocument/2006/relationships/image" Target="../media/image17.jpe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jpeg"/><Relationship Id="rId17" Type="http://schemas.openxmlformats.org/officeDocument/2006/relationships/image" Target="../media/image23.png"/><Relationship Id="rId18" Type="http://schemas.openxmlformats.org/officeDocument/2006/relationships/image" Target="../media/image24.jpeg"/><Relationship Id="rId19" Type="http://schemas.openxmlformats.org/officeDocument/2006/relationships/image" Target="../media/image25.png"/><Relationship Id="rId20" Type="http://schemas.openxmlformats.org/officeDocument/2006/relationships/image" Target="../media/image26.png"/><Relationship Id="rId21" Type="http://schemas.openxmlformats.org/officeDocument/2006/relationships/image" Target="../media/image27.png"/><Relationship Id="rId22" Type="http://schemas.openxmlformats.org/officeDocument/2006/relationships/image" Target="../media/image28.jpeg"/><Relationship Id="rId23" Type="http://schemas.openxmlformats.org/officeDocument/2006/relationships/image" Target="../media/image29.png"/><Relationship Id="rId24" Type="http://schemas.openxmlformats.org/officeDocument/2006/relationships/hyperlink" Target="http://www.kazakhstankagazy.com/en" TargetMode="External"/><Relationship Id="rId25" Type="http://schemas.openxmlformats.org/officeDocument/2006/relationships/image" Target="../media/image30.png"/><Relationship Id="rId26" Type="http://schemas.openxmlformats.org/officeDocument/2006/relationships/image" Target="../media/image31.jpeg"/><Relationship Id="rId27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43120" y="3350160"/>
            <a:ext cx="761508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a281e"/>
                </a:solidFill>
                <a:latin typeface="Arial"/>
              </a:rPr>
              <a:t>Риски: управлять или избегать?</a:t>
            </a:r>
            <a:endParaRPr b="0" lang="en-US" sz="1600" spc="-1" strike="noStrike">
              <a:solidFill>
                <a:srgbClr val="000000"/>
              </a:solidFill>
              <a:latin typeface="Dax-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a281e"/>
                </a:solidFill>
                <a:latin typeface="Arial"/>
              </a:rPr>
              <a:t>Негативный опыт рынка недвижимости </a:t>
            </a:r>
            <a:endParaRPr b="0" lang="en-US" sz="1200" spc="-1" strike="noStrike">
              <a:solidFill>
                <a:srgbClr val="000000"/>
              </a:solidFill>
              <a:latin typeface="Dax-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ax-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ax-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Dax-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a281e"/>
                </a:solidFill>
                <a:latin typeface="Arial"/>
              </a:rPr>
              <a:t>Юрий Храмцов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yuk@visocap.co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, +7 727 356 0793 )</a:t>
            </a:r>
            <a:endParaRPr b="0" lang="en-US" sz="1100" spc="-1" strike="noStrike">
              <a:solidFill>
                <a:srgbClr val="000000"/>
              </a:solidFill>
              <a:latin typeface="Dax-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838080" y="5029200"/>
            <a:ext cx="214632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a281e"/>
                </a:solidFill>
                <a:latin typeface="Arial"/>
              </a:rPr>
              <a:t>4 сентября,</a:t>
            </a:r>
            <a:r>
              <a:rPr b="0" lang="en-US" sz="1100" spc="-1" strike="noStrike">
                <a:solidFill>
                  <a:srgbClr val="0a281e"/>
                </a:solidFill>
                <a:latin typeface="Arial"/>
              </a:rPr>
              <a:t> 2009</a:t>
            </a:r>
            <a:endParaRPr b="0" lang="en-US" sz="11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7390800" y="2716920"/>
            <a:ext cx="17589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a281e"/>
                </a:solidFill>
                <a:latin typeface="Arial"/>
              </a:rPr>
              <a:t>Economics</a:t>
            </a:r>
            <a:endParaRPr b="0" lang="en-US" sz="25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24" name="Rectangle 4"/>
          <p:cNvSpPr/>
          <p:nvPr/>
        </p:nvSpPr>
        <p:spPr>
          <a:xfrm>
            <a:off x="2095560" y="114300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281e"/>
                </a:solidFill>
                <a:latin typeface="Arial"/>
              </a:rPr>
              <a:t>III Ежегодная конференция</a:t>
            </a:r>
            <a:endParaRPr b="0" lang="en-US" sz="24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281e"/>
                </a:solidFill>
                <a:latin typeface="Arial"/>
              </a:rPr>
              <a:t>Казахстанской фондовой биржи</a:t>
            </a:r>
            <a:endParaRPr b="0" lang="en-US" sz="24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281e"/>
                </a:solidFill>
                <a:latin typeface="Arial"/>
              </a:rPr>
              <a:t>по финансовому рынку</a:t>
            </a:r>
            <a:endParaRPr b="0" lang="en-US" sz="2400" spc="-1" strike="noStrike">
              <a:solidFill>
                <a:srgbClr val="000000"/>
              </a:solidFill>
              <a:latin typeface="Dax-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0" name=""/>
          <p:cNvGraphicFramePr/>
          <p:nvPr/>
        </p:nvGraphicFramePr>
        <p:xfrm>
          <a:off x="5046840" y="1336680"/>
          <a:ext cx="4402080" cy="3616200"/>
        </p:xfrm>
        <a:graphic>
          <a:graphicData uri="http://schemas.openxmlformats.org/drawingml/2006/table">
            <a:tbl>
              <a:tblPr/>
              <a:tblGrid>
                <a:gridCol w="4402080"/>
              </a:tblGrid>
              <a:tr h="285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работающие кредиты</a:t>
                      </a: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</a:t>
                      </a: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а</a:t>
                      </a: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(% </a:t>
                      </a: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портфеля</a:t>
                      </a: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00"/>
                    </a:solidFill>
                  </a:tcPr>
                </a:tc>
              </a:tr>
              <a:tr h="3330360">
                <a:tc>
                  <a:txBody>
                    <a:bodyPr lIns="0" rIns="0" tIns="720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fe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1" name=""/>
          <p:cNvGraphicFramePr/>
          <p:nvPr/>
        </p:nvGraphicFramePr>
        <p:xfrm>
          <a:off x="550800" y="1336680"/>
          <a:ext cx="4419720" cy="3616200"/>
        </p:xfrm>
        <a:graphic>
          <a:graphicData uri="http://schemas.openxmlformats.org/drawingml/2006/table">
            <a:tbl>
              <a:tblPr/>
              <a:tblGrid>
                <a:gridCol w="4419720"/>
              </a:tblGrid>
              <a:tr h="284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вые кредиты за 12 мес (% от текущего объёма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00"/>
                    </a:solidFill>
                  </a:tcPr>
                </a:tc>
              </a:tr>
              <a:tr h="3332160">
                <a:tc>
                  <a:txBody>
                    <a:bodyPr lIns="0" rIns="0" tIns="720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fe2"/>
                    </a:solidFill>
                  </a:tcPr>
                </a:tc>
              </a:tr>
            </a:tbl>
          </a:graphicData>
        </a:graphic>
      </p:graphicFrame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a281e"/>
                </a:solidFill>
                <a:latin typeface="Arial"/>
              </a:rPr>
              <a:t>Банки имели возможность заменить б</a:t>
            </a:r>
            <a:r>
              <a:rPr b="0" i="1" lang="ru-RU" sz="2700" spc="-1" strike="noStrike">
                <a:solidFill>
                  <a:srgbClr val="0a281e"/>
                </a:solidFill>
                <a:latin typeface="Arial"/>
              </a:rPr>
              <a:t>о</a:t>
            </a:r>
            <a:r>
              <a:rPr b="0" lang="ru-RU" sz="2700" spc="-1" strike="noStrike">
                <a:solidFill>
                  <a:srgbClr val="0a281e"/>
                </a:solidFill>
                <a:latin typeface="Arial"/>
              </a:rPr>
              <a:t>льшую часть</a:t>
            </a: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a281e"/>
                </a:solidFill>
                <a:latin typeface="Arial"/>
              </a:rPr>
              <a:t>своего кредитного портфеля в </a:t>
            </a: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2007</a:t>
            </a:r>
            <a:r>
              <a:rPr b="0" lang="ru-RU" sz="2700" spc="-1" strike="noStrike">
                <a:solidFill>
                  <a:srgbClr val="0a281e"/>
                </a:solidFill>
                <a:latin typeface="Arial"/>
              </a:rPr>
              <a:t> году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53" name="Slide Number Placeholder 2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6DB0-3702-4930-8222-19F8DAE7CF9E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54" name="Rectangle 10"/>
          <p:cNvSpPr/>
          <p:nvPr/>
        </p:nvSpPr>
        <p:spPr>
          <a:xfrm>
            <a:off x="457200" y="5194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 marL="225360" indent="-225360"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 конце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 2007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 года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Dax-Medium"/>
            </a:endParaRPr>
          </a:p>
          <a:p>
            <a:pPr marL="225360" indent="-225360"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госрочные займы составляли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0%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еля</a:t>
            </a:r>
            <a:endParaRPr b="0" lang="en-US" sz="1200" spc="-1" strike="noStrike">
              <a:solidFill>
                <a:srgbClr val="000000"/>
              </a:solidFill>
              <a:latin typeface="Dax-Medium"/>
            </a:endParaRPr>
          </a:p>
          <a:p>
            <a:pPr marL="225360" indent="-225360"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нные за 12 месяцев 2007 года новые долгосрочные кредиты вероятно составили до 69% от общего портфеля банковского сектора на конец периода (до 86% от объёма долгосрочных кредитов)</a:t>
            </a:r>
            <a:endParaRPr b="0" lang="en-US" sz="1200" spc="-1" strike="noStrike">
              <a:solidFill>
                <a:srgbClr val="000000"/>
              </a:solidFill>
              <a:latin typeface="Dax-Medium"/>
            </a:endParaRPr>
          </a:p>
          <a:p>
            <a:pPr marL="225360" indent="-225360"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аботающие кредиты могут составлять до 20% от казахстанского портфеля банковской системы, и быть на экстримально высоких уровнях для иностранной его части</a:t>
            </a:r>
            <a:endParaRPr b="0" lang="en-US" sz="12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55" name="TextBox 12"/>
          <p:cNvSpPr/>
          <p:nvPr/>
        </p:nvSpPr>
        <p:spPr>
          <a:xfrm>
            <a:off x="5091840" y="4935600"/>
            <a:ext cx="35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сточник: оценка Визор Капитал, Национальный Банк РК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56" name="TextBox 13"/>
          <p:cNvSpPr/>
          <p:nvPr/>
        </p:nvSpPr>
        <p:spPr>
          <a:xfrm>
            <a:off x="616680" y="4932360"/>
            <a:ext cx="35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сточник: оценка Визор Капитал, Национальный Банк РК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657" name="Picture 6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4292640" cy="316548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7" descr=""/>
          <p:cNvPicPr/>
          <p:nvPr/>
        </p:nvPicPr>
        <p:blipFill>
          <a:blip r:embed="rId2"/>
          <a:stretch/>
        </p:blipFill>
        <p:spPr>
          <a:xfrm>
            <a:off x="5124600" y="1650960"/>
            <a:ext cx="422244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a281e"/>
                </a:solidFill>
                <a:latin typeface="Arial"/>
              </a:rPr>
              <a:t>«Что делать»?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60" name="Slide Number Placeholder 2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6013-BD9C-44B9-ACFB-6610BDE6B926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61" name="TextBox 3"/>
          <p:cNvSpPr/>
          <p:nvPr/>
        </p:nvSpPr>
        <p:spPr>
          <a:xfrm>
            <a:off x="457200" y="1447920"/>
            <a:ext cx="89154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рьёзно относиться к фундаментальным факторам и правильно их интерпретировать</a:t>
            </a:r>
            <a:endParaRPr b="0" lang="en-US" sz="1600" spc="-1" strike="noStrike">
              <a:solidFill>
                <a:srgbClr val="000000"/>
              </a:solidFill>
              <a:latin typeface="Dax-Medium"/>
            </a:endParaRPr>
          </a:p>
          <a:p>
            <a:pPr marL="270000" indent="-270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ax-Medium"/>
            </a:endParaRPr>
          </a:p>
          <a:p>
            <a:pPr marL="270000" indent="-270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емиться к удешевлению себестоимости строительства при фиксированном качестве</a:t>
            </a:r>
            <a:endParaRPr b="0" lang="en-US" sz="1600" spc="-1" strike="noStrike">
              <a:solidFill>
                <a:srgbClr val="000000"/>
              </a:solidFill>
              <a:latin typeface="Dax-Medium"/>
            </a:endParaRPr>
          </a:p>
          <a:p>
            <a:pPr marL="270000" indent="-270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ax-Medium"/>
            </a:endParaRPr>
          </a:p>
          <a:p>
            <a:pPr marL="270000" indent="-270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ктивно вовлекать больше людей в реальную экономику</a:t>
            </a:r>
            <a:endParaRPr b="0" lang="en-US" sz="1600" spc="-1" strike="noStrike">
              <a:solidFill>
                <a:srgbClr val="000000"/>
              </a:solidFill>
              <a:latin typeface="Dax-Medium"/>
            </a:endParaRPr>
          </a:p>
          <a:p>
            <a:pPr marL="270000" indent="-270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ax-Medium"/>
            </a:endParaRPr>
          </a:p>
          <a:p>
            <a:pPr marL="270000" indent="-270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ать эффективность труда</a:t>
            </a:r>
            <a:endParaRPr b="0" lang="en-US" sz="1600" spc="-1" strike="noStrike">
              <a:solidFill>
                <a:srgbClr val="000000"/>
              </a:solidFill>
              <a:latin typeface="Dax-Medium"/>
            </a:endParaRPr>
          </a:p>
          <a:p>
            <a:pPr marL="270000" indent="-270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ax-Medium"/>
            </a:endParaRPr>
          </a:p>
          <a:p>
            <a:pPr marL="270000" indent="-270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нимать важность контрольных функций кредитной системы</a:t>
            </a:r>
            <a:endParaRPr b="0" lang="en-US" sz="1600" spc="-1" strike="noStrike">
              <a:solidFill>
                <a:srgbClr val="000000"/>
              </a:solidFill>
              <a:latin typeface="Dax-Medium"/>
            </a:endParaRPr>
          </a:p>
          <a:p>
            <a:pPr marL="270000" indent="-270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ax-Medium"/>
            </a:endParaRPr>
          </a:p>
          <a:p>
            <a:pPr marL="270000" indent="-270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ершенствовать статистику и отчётность</a:t>
            </a:r>
            <a:endParaRPr b="0" lang="en-US" sz="1600" spc="-1" strike="noStrike">
              <a:solidFill>
                <a:srgbClr val="000000"/>
              </a:solidFill>
              <a:latin typeface="Dax-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a281e"/>
                </a:solidFill>
                <a:latin typeface="Arial"/>
              </a:rPr>
              <a:t>«Что делать с рисками»?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63" name="Slide Number Placeholder 2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49B4-86C2-45C3-929B-FDB5A3681630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664" name="Picture 4" descr=""/>
          <p:cNvPicPr/>
          <p:nvPr/>
        </p:nvPicPr>
        <p:blipFill>
          <a:blip r:embed="rId1"/>
          <a:srcRect l="0" t="4462" r="2016" b="4834"/>
          <a:stretch/>
        </p:blipFill>
        <p:spPr>
          <a:xfrm>
            <a:off x="3276720" y="1600200"/>
            <a:ext cx="6019560" cy="4648320"/>
          </a:xfrm>
          <a:prstGeom prst="rect">
            <a:avLst/>
          </a:prstGeom>
          <a:ln w="0">
            <a:noFill/>
          </a:ln>
        </p:spPr>
      </p:pic>
      <p:sp>
        <p:nvSpPr>
          <p:cNvPr id="665" name="TextBox 3"/>
          <p:cNvSpPr/>
          <p:nvPr/>
        </p:nvSpPr>
        <p:spPr>
          <a:xfrm>
            <a:off x="457200" y="1447920"/>
            <a:ext cx="57150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0000" indent="-270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ять, опираясь на глубинное понимание процессов</a:t>
            </a:r>
            <a:endParaRPr b="0" lang="en-US" sz="1600" spc="-1" strike="noStrike">
              <a:solidFill>
                <a:srgbClr val="000000"/>
              </a:solidFill>
              <a:latin typeface="Dax-Medium"/>
            </a:endParaRPr>
          </a:p>
          <a:p>
            <a:pPr marL="270000" indent="-270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ax-Medium"/>
            </a:endParaRPr>
          </a:p>
          <a:p>
            <a:pPr marL="270000" indent="-270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создавать риски собственноручно</a:t>
            </a:r>
            <a:endParaRPr b="0" lang="en-US" sz="1600" spc="-1" strike="noStrike">
              <a:solidFill>
                <a:srgbClr val="000000"/>
              </a:solidFill>
              <a:latin typeface="Dax-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67" name="Slide Number Placeholder 2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D65B-150D-4EF4-B037-122E2CE64CC5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68" name="TextBox 3"/>
          <p:cNvSpPr/>
          <p:nvPr/>
        </p:nvSpPr>
        <p:spPr>
          <a:xfrm>
            <a:off x="3710880" y="2890800"/>
            <a:ext cx="24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281e"/>
                </a:solidFill>
                <a:latin typeface="Arial"/>
              </a:rPr>
              <a:t>Visor Capital</a:t>
            </a:r>
            <a:endParaRPr b="0" lang="en-US" sz="3200" spc="-1" strike="noStrike">
              <a:solidFill>
                <a:srgbClr val="000000"/>
              </a:solidFill>
              <a:latin typeface="Dax-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3"/>
          <p:cNvSpPr/>
          <p:nvPr/>
        </p:nvSpPr>
        <p:spPr>
          <a:xfrm>
            <a:off x="193680" y="660564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70" name="Rectangle 66"/>
          <p:cNvSpPr/>
          <p:nvPr/>
        </p:nvSpPr>
        <p:spPr>
          <a:xfrm>
            <a:off x="328680" y="360360"/>
            <a:ext cx="924876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ша команда корпоративных финансов выступала консультантом в ряде успешных сделок на территории Казахстана, Кыргызстана, России, Непала, Узбекистана и Камбоджи</a:t>
            </a:r>
            <a:endParaRPr b="0" lang="en-US" sz="20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71" name="Rectangle 104"/>
          <p:cNvSpPr/>
          <p:nvPr/>
        </p:nvSpPr>
        <p:spPr>
          <a:xfrm>
            <a:off x="1911240" y="1436760"/>
            <a:ext cx="756288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63360" tIns="0" bIns="0" anchor="t">
            <a:noAutofit/>
          </a:bodyPr>
          <a:p>
            <a:pPr lvl="1" marL="447840" indent="-266760" algn="just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Руководитель – Стефан Шольц, более 18 лет работы в международной банковской сфере</a:t>
            </a:r>
            <a:endParaRPr b="0" lang="en-US" sz="1100" spc="-1" strike="noStrike">
              <a:solidFill>
                <a:srgbClr val="000000"/>
              </a:solidFill>
              <a:latin typeface="Dax-Medium"/>
            </a:endParaRPr>
          </a:p>
          <a:p>
            <a:pPr lvl="2" marL="895320" indent="-266760" algn="just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Стефан работает над проектами в сфере поглощений и слияний, а также рынков капитала, включая первичное размещение акций (IPO) в Казахстане и Европе, включая Лондон. Стефан является членом Международного Консультационного Совета Регионального Финансового Центра Алматы.</a:t>
            </a:r>
            <a:endParaRPr b="0" lang="en-US" sz="1100" spc="-1" strike="noStrike">
              <a:solidFill>
                <a:srgbClr val="000000"/>
              </a:solidFill>
              <a:latin typeface="Dax-Medium"/>
            </a:endParaRPr>
          </a:p>
          <a:p>
            <a:pPr lvl="1" marL="447840" indent="-266760" algn="just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Команда Visor Capital поддерживает прочные отношения с инвестиционным сообществом развивающегося рынка, внутренними и международными клиентами, и всеми крупными международными инвестиционными банками</a:t>
            </a:r>
            <a:endParaRPr b="0" lang="en-US" sz="1100" spc="-1" strike="noStrike">
              <a:solidFill>
                <a:srgbClr val="000000"/>
              </a:solidFill>
              <a:latin typeface="Dax-Medium"/>
            </a:endParaRPr>
          </a:p>
          <a:p>
            <a:pPr lvl="2" marL="895320" indent="-266760" algn="just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Жозе Луиз Гавиао: 15 лет работы на рынках долгового капитала на развивающихся рынках</a:t>
            </a:r>
            <a:endParaRPr b="0" lang="en-US" sz="1100" spc="-1" strike="noStrike">
              <a:solidFill>
                <a:srgbClr val="000000"/>
              </a:solidFill>
              <a:latin typeface="Dax-Medium"/>
            </a:endParaRPr>
          </a:p>
          <a:p>
            <a:pPr lvl="2" marL="895320" indent="-266760" algn="just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Санжар Козыбаев: 12 лет опыта работы по реализации сделок в нефтегазовой отрасли в странах СНГ</a:t>
            </a:r>
            <a:endParaRPr b="0" lang="en-US" sz="1100" spc="-1" strike="noStrike">
              <a:solidFill>
                <a:srgbClr val="000000"/>
              </a:solidFill>
              <a:latin typeface="Dax-Medium"/>
            </a:endParaRPr>
          </a:p>
          <a:p>
            <a:pPr lvl="2" marL="895320" indent="-266760" algn="just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Адам Весткотт: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0 лет опыта в стратегическом консалтинге, а также опыт работы на рынках акционерного капитала с уклоном на нефтегазовой и горнодобывающих отраслях </a:t>
            </a:r>
            <a:endParaRPr b="0" lang="en-US" sz="1100" spc="-1" strike="noStrike">
              <a:solidFill>
                <a:srgbClr val="000000"/>
              </a:solidFill>
              <a:latin typeface="Dax-Medium"/>
            </a:endParaRPr>
          </a:p>
          <a:p>
            <a:pPr lvl="2" marL="895320" indent="-266760" algn="just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Индира Калиаскарова: 8 лет опыта работы по предоставлению консультаций в нефтегазовой отрасли</a:t>
            </a:r>
            <a:endParaRPr b="0" lang="en-US" sz="1100" spc="-1" strike="noStrike">
              <a:solidFill>
                <a:srgbClr val="000000"/>
              </a:solidFill>
              <a:latin typeface="Dax-Medium"/>
            </a:endParaRPr>
          </a:p>
          <a:p>
            <a:pPr lvl="2" marL="895320" indent="-266760" algn="just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Имраан Мохаммед: 7 лет опыта работы в области различных сделок по поглощениям и слияниям на развивающихся рынках</a:t>
            </a:r>
            <a:endParaRPr b="0" lang="en-US" sz="1100" spc="-1" strike="noStrike">
              <a:solidFill>
                <a:srgbClr val="000000"/>
              </a:solidFill>
              <a:latin typeface="Dax-Medium"/>
            </a:endParaRPr>
          </a:p>
          <a:p>
            <a:pPr lvl="1" marL="447840" indent="-266760" algn="just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Мы имеем опыт координации сложных международных сделок и понимаем предпочтения, как местных, так и международных инвесторов</a:t>
            </a:r>
            <a:endParaRPr b="0" lang="en-US" sz="1100" spc="-1" strike="noStrike">
              <a:solidFill>
                <a:srgbClr val="000000"/>
              </a:solidFill>
              <a:latin typeface="Dax-Medium"/>
            </a:endParaRPr>
          </a:p>
          <a:p>
            <a:pPr lvl="2" marL="895320" indent="-266760" algn="just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Наша компания выступала в качестве ведущего менеджера по единственной сделки с двойным листингом казахстанской компании на КФБ и Лондонской Фондовой Бирже (РД КМГ)</a:t>
            </a:r>
            <a:endParaRPr b="0" lang="en-US" sz="1100" spc="-1" strike="noStrike">
              <a:solidFill>
                <a:srgbClr val="000000"/>
              </a:solidFill>
              <a:latin typeface="Dax-Medium"/>
            </a:endParaRPr>
          </a:p>
          <a:p>
            <a:pPr lvl="2" marL="895320" indent="-266760" algn="just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В настоящее время мы являемся консультантом в ряде крупных сделок по поглощениям и слияниям, а также сделок на рынках капитала, листинг которых, по ожиданиям, будет проведен на КФБ, СТП РФЦА и международных фондовых биржах</a:t>
            </a:r>
            <a:endParaRPr b="0" lang="en-US" sz="1100" spc="-1" strike="noStrike">
              <a:solidFill>
                <a:srgbClr val="000000"/>
              </a:solidFill>
              <a:latin typeface="Dax-Medium"/>
            </a:endParaRPr>
          </a:p>
          <a:p>
            <a:pPr lvl="1" marL="447840" indent="-266760" algn="just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Опыт и успех в сфере реализации сложных сделок в различных отраслях экономики служат основой  нашей репутации новаторства, превосходности и надежности</a:t>
            </a:r>
            <a:endParaRPr b="0" lang="en-US" sz="11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72" name="Line 106"/>
          <p:cNvSpPr/>
          <p:nvPr/>
        </p:nvSpPr>
        <p:spPr>
          <a:xfrm flipV="1">
            <a:off x="1911240" y="1265040"/>
            <a:ext cx="0" cy="463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73" name="Rectangle 8"/>
          <p:cNvSpPr/>
          <p:nvPr/>
        </p:nvSpPr>
        <p:spPr>
          <a:xfrm>
            <a:off x="431640" y="1835280"/>
            <a:ext cx="148932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63360" tIns="0" bIns="0" anchor="t">
            <a:noAutofit/>
          </a:bodyPr>
          <a:p>
            <a:pPr algn="ctr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обедитель банковской премии 2009г. по ЦВЕ и СНГ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Лучший инвестиционный банк Казахстана ”</a:t>
            </a:r>
            <a:endParaRPr b="0" lang="en-US" sz="12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едущая команда специалистов по корпоративным финансам и сделкам по поглощениям и слияния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2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674" name="Picture 9" descr="C:\Documents and Settings\aiy\My Documents\Aizhan\My Pictures\emea-logo.gif"/>
          <p:cNvPicPr/>
          <p:nvPr/>
        </p:nvPicPr>
        <p:blipFill>
          <a:blip r:embed="rId1"/>
          <a:stretch/>
        </p:blipFill>
        <p:spPr>
          <a:xfrm>
            <a:off x="565200" y="1514520"/>
            <a:ext cx="1195200" cy="244440"/>
          </a:xfrm>
          <a:prstGeom prst="rect">
            <a:avLst/>
          </a:prstGeom>
          <a:ln w="0">
            <a:noFill/>
          </a:ln>
        </p:spPr>
      </p:pic>
      <p:sp>
        <p:nvSpPr>
          <p:cNvPr id="675" name="Slide Number Placeholder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04EA-67E4-4274-B6B6-CEE8296EDDB7}" type="slidenum"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Dax-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96"/>
          <p:cNvSpPr/>
          <p:nvPr/>
        </p:nvSpPr>
        <p:spPr>
          <a:xfrm>
            <a:off x="1733400" y="1357200"/>
            <a:ext cx="511812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63360" tIns="0" bIns="0" anchor="t">
            <a:noAutofit/>
          </a:bodyPr>
          <a:p>
            <a:pPr lvl="1" marL="628560" indent="-27144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Главой департамента выступает Жан-Кристоф Лермюзьё, ведущий аналитик в области технологий, за плечами которого более 11 лет профессиональной деятельности   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  <a:p>
            <a:pPr lvl="1" marL="628560" indent="-27144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ервый Банк в Казахстане, выпустивший аналитический отчет в соответствии с международными стандартами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  <a:p>
            <a:pPr lvl="1" marL="628560" indent="-27144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Команда осуществляет анализ различных секторов промышленности с помощью специализированных отраслевых экспертов в области: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  <a:p>
            <a:pPr lvl="2" marL="1311120" indent="-345960" algn="just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Нефти и газа;</a:t>
            </a: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lvl="2" marL="1311120" indent="-345960" algn="just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Металлургии и горнодобывающей промышленности;</a:t>
            </a: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lvl="2" marL="1311120" indent="-345960" algn="just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Финансовых учреждений;</a:t>
            </a: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lvl="2" marL="1311120" indent="-345960" algn="just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Строительства и инфраструктуры; </a:t>
            </a: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lvl="2" marL="1311120" indent="-345960" algn="just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Телекоммуникаций, энергоресурсов и розничной торговли.</a:t>
            </a: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lvl="1" marL="628560" indent="-27144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В дополнение к отраслевым исследованиям, Аналитический департамент Visor Capital осуществляет анализ тенденций и характеристик секторов, предлагая инвесторам специализированные и заказные отчеты : 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  <a:p>
            <a:pPr lvl="2" marL="1311120" indent="-345960" algn="just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Ежедневный обзор инвестиционных новостей Центральной Азии;</a:t>
            </a: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lvl="2" marL="1311120" indent="-345960" algn="just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Макроэкономические отчеты;</a:t>
            </a: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lvl="2" marL="1311120" indent="-345960" algn="just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Еженедельный обзор по облигациям и ежеквартальный по пенсионным фондам</a:t>
            </a: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lvl="1" marL="628560" indent="-27144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Глобальная рассылка аналитических исследований квалифицированным учреждениям, преимущественно в Великобритании, России и Азии. В США рассылка выполняется через ведущего брокера, специализирующегося на неамериканских акциях -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uerbach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Grayson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95000" y="417240"/>
            <a:ext cx="891540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ша команда аналитиков предоставляет исчерпывающий 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зависимый обзор казахстанского рынка</a:t>
            </a:r>
            <a:endParaRPr b="0" lang="en-US" sz="20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78" name="Text Box 3"/>
          <p:cNvSpPr/>
          <p:nvPr/>
        </p:nvSpPr>
        <p:spPr>
          <a:xfrm>
            <a:off x="193680" y="6491160"/>
            <a:ext cx="3276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79" name="Line 106"/>
          <p:cNvSpPr/>
          <p:nvPr/>
        </p:nvSpPr>
        <p:spPr>
          <a:xfrm flipV="1">
            <a:off x="1911240" y="1265040"/>
            <a:ext cx="0" cy="463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80" name="Rectangle 107"/>
          <p:cNvSpPr/>
          <p:nvPr/>
        </p:nvSpPr>
        <p:spPr>
          <a:xfrm>
            <a:off x="509760" y="1987560"/>
            <a:ext cx="130644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6336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2009 Thomson Extel Survey</a:t>
            </a: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2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Лучшие аналитические исследования по Казахстан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2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681" name="Picture 28" descr=""/>
          <p:cNvPicPr/>
          <p:nvPr/>
        </p:nvPicPr>
        <p:blipFill>
          <a:blip r:embed="rId1"/>
          <a:stretch/>
        </p:blipFill>
        <p:spPr>
          <a:xfrm>
            <a:off x="6916680" y="3897360"/>
            <a:ext cx="1278000" cy="1711440"/>
          </a:xfrm>
          <a:prstGeom prst="rect">
            <a:avLst/>
          </a:prstGeom>
          <a:ln w="0">
            <a:noFill/>
          </a:ln>
        </p:spPr>
      </p:pic>
      <p:sp>
        <p:nvSpPr>
          <p:cNvPr id="682" name="Rectangle 88"/>
          <p:cNvSpPr/>
          <p:nvPr/>
        </p:nvSpPr>
        <p:spPr>
          <a:xfrm>
            <a:off x="7499520" y="4251240"/>
            <a:ext cx="1295280" cy="17179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83" name="Rectangle 88"/>
          <p:cNvSpPr/>
          <p:nvPr/>
        </p:nvSpPr>
        <p:spPr>
          <a:xfrm>
            <a:off x="6908760" y="3897360"/>
            <a:ext cx="1295280" cy="1717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684" name="Picture 5" descr=""/>
          <p:cNvPicPr/>
          <p:nvPr/>
        </p:nvPicPr>
        <p:blipFill>
          <a:blip r:embed="rId2"/>
          <a:stretch/>
        </p:blipFill>
        <p:spPr>
          <a:xfrm>
            <a:off x="7507440" y="4278240"/>
            <a:ext cx="1280880" cy="166536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24" descr=""/>
          <p:cNvPicPr/>
          <p:nvPr/>
        </p:nvPicPr>
        <p:blipFill>
          <a:blip r:embed="rId3"/>
          <a:srcRect l="0" t="0" r="5702" b="0"/>
          <a:stretch/>
        </p:blipFill>
        <p:spPr>
          <a:xfrm>
            <a:off x="8166240" y="4559400"/>
            <a:ext cx="1226880" cy="1662120"/>
          </a:xfrm>
          <a:prstGeom prst="rect">
            <a:avLst/>
          </a:prstGeom>
          <a:ln w="0">
            <a:noFill/>
          </a:ln>
        </p:spPr>
      </p:pic>
      <p:sp>
        <p:nvSpPr>
          <p:cNvPr id="686" name="Rectangle 85"/>
          <p:cNvSpPr/>
          <p:nvPr/>
        </p:nvSpPr>
        <p:spPr>
          <a:xfrm>
            <a:off x="8155080" y="4546440"/>
            <a:ext cx="1238040" cy="168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87" name="Rectangle 88"/>
          <p:cNvSpPr/>
          <p:nvPr/>
        </p:nvSpPr>
        <p:spPr>
          <a:xfrm>
            <a:off x="6964200" y="1531800"/>
            <a:ext cx="1295640" cy="17179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688" name="Picture 24" descr=""/>
          <p:cNvPicPr/>
          <p:nvPr/>
        </p:nvPicPr>
        <p:blipFill>
          <a:blip r:embed="rId4"/>
          <a:stretch/>
        </p:blipFill>
        <p:spPr>
          <a:xfrm>
            <a:off x="6973920" y="1539720"/>
            <a:ext cx="1306440" cy="171000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91"/>
          <p:cNvSpPr/>
          <p:nvPr/>
        </p:nvSpPr>
        <p:spPr>
          <a:xfrm>
            <a:off x="7513560" y="1820880"/>
            <a:ext cx="1295640" cy="1682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690" name="Picture 4" descr=""/>
          <p:cNvPicPr/>
          <p:nvPr/>
        </p:nvPicPr>
        <p:blipFill>
          <a:blip r:embed="rId5"/>
          <a:stretch/>
        </p:blipFill>
        <p:spPr>
          <a:xfrm>
            <a:off x="7523280" y="1835280"/>
            <a:ext cx="1280880" cy="166824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2" descr=""/>
          <p:cNvPicPr/>
          <p:nvPr/>
        </p:nvPicPr>
        <p:blipFill>
          <a:blip r:embed="rId6"/>
          <a:stretch/>
        </p:blipFill>
        <p:spPr>
          <a:xfrm>
            <a:off x="8074080" y="2222640"/>
            <a:ext cx="1279440" cy="1658880"/>
          </a:xfrm>
          <a:prstGeom prst="rect">
            <a:avLst/>
          </a:prstGeom>
          <a:ln w="0">
            <a:noFill/>
          </a:ln>
        </p:spPr>
      </p:pic>
      <p:sp>
        <p:nvSpPr>
          <p:cNvPr id="692" name="Rectangle 91"/>
          <p:cNvSpPr/>
          <p:nvPr/>
        </p:nvSpPr>
        <p:spPr>
          <a:xfrm>
            <a:off x="8066160" y="2206800"/>
            <a:ext cx="1295280" cy="1682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grpSp>
        <p:nvGrpSpPr>
          <p:cNvPr id="693" name="Group 34"/>
          <p:cNvGrpSpPr/>
          <p:nvPr/>
        </p:nvGrpSpPr>
        <p:grpSpPr>
          <a:xfrm>
            <a:off x="512640" y="1455840"/>
            <a:ext cx="1316160" cy="416880"/>
            <a:chOff x="512640" y="1455840"/>
            <a:chExt cx="1316160" cy="416880"/>
          </a:xfrm>
        </p:grpSpPr>
        <p:pic>
          <p:nvPicPr>
            <p:cNvPr id="694" name="Picture 35" descr="thomson reuters"/>
            <p:cNvPicPr/>
            <p:nvPr/>
          </p:nvPicPr>
          <p:blipFill>
            <a:blip r:embed="rId7"/>
            <a:stretch/>
          </p:blipFill>
          <p:spPr>
            <a:xfrm>
              <a:off x="648360" y="1455840"/>
              <a:ext cx="1014120" cy="21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5" name="Picture 36" descr="Extel"/>
            <p:cNvPicPr/>
            <p:nvPr/>
          </p:nvPicPr>
          <p:blipFill>
            <a:blip r:embed="rId8"/>
            <a:srcRect l="0" t="0" r="47027" b="34722"/>
            <a:stretch/>
          </p:blipFill>
          <p:spPr>
            <a:xfrm>
              <a:off x="512640" y="1697040"/>
              <a:ext cx="1316160" cy="17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6" name="Slide Number Placeholder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6230-1C35-4806-9973-653712559A93}" type="slidenum"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Dax-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5"/>
          <p:cNvSpPr/>
          <p:nvPr/>
        </p:nvSpPr>
        <p:spPr>
          <a:xfrm>
            <a:off x="503280" y="2286000"/>
            <a:ext cx="1477800" cy="41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63360" tIns="0" bIns="0" anchor="t">
            <a:noAutofit/>
          </a:bodyPr>
          <a:p>
            <a:pPr algn="ctr">
              <a:lnSpc>
                <a:spcPct val="100000"/>
              </a:lnSpc>
              <a:spcBef>
                <a:spcPts val="414"/>
              </a:spcBef>
              <a:spcAft>
                <a:spcPts val="414"/>
              </a:spcAft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Лучший брокерский дом -Казахстан”</a:t>
            </a:r>
            <a:endParaRPr b="0" lang="en-US" sz="11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spcBef>
                <a:spcPts val="414"/>
              </a:spcBef>
              <a:spcAft>
                <a:spcPts val="414"/>
              </a:spcAft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1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spcBef>
                <a:spcPts val="414"/>
              </a:spcBef>
              <a:spcAft>
                <a:spcPts val="414"/>
              </a:spcAft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1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spcBef>
                <a:spcPts val="414"/>
              </a:spcBef>
              <a:spcAft>
                <a:spcPts val="414"/>
              </a:spcAft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1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spcBef>
                <a:spcPts val="414"/>
              </a:spcBef>
              <a:spcAft>
                <a:spcPts val="414"/>
              </a:spcAft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1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698" name="Picture 8" descr="a4elogo"/>
          <p:cNvPicPr/>
          <p:nvPr/>
        </p:nvPicPr>
        <p:blipFill>
          <a:blip r:embed="rId1"/>
          <a:stretch/>
        </p:blipFill>
        <p:spPr>
          <a:xfrm>
            <a:off x="514440" y="1295280"/>
            <a:ext cx="1396800" cy="965160"/>
          </a:xfrm>
          <a:prstGeom prst="rect">
            <a:avLst/>
          </a:prstGeom>
          <a:ln w="0">
            <a:noFill/>
          </a:ln>
        </p:spPr>
      </p:pic>
      <p:sp>
        <p:nvSpPr>
          <p:cNvPr id="699" name="Slide Number Placeholder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2B9A-3447-4195-A3B4-D7B39B45E458}" type="slidenum"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7800" y="380880"/>
            <a:ext cx="92491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манда трейдеров предоставляет лучшие инвестиционные идеи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счерпывающие сведения о рынке и обеспечивает безупречное исполнение сделок</a:t>
            </a:r>
            <a:endParaRPr b="0" lang="en-US" sz="20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910880" y="1353600"/>
            <a:ext cx="7417080" cy="4781880"/>
          </a:xfrm>
          <a:prstGeom prst="rect">
            <a:avLst/>
          </a:prstGeom>
          <a:noFill/>
          <a:ln w="0">
            <a:noFill/>
          </a:ln>
        </p:spPr>
        <p:txBody>
          <a:bodyPr lIns="31680" rIns="63360" tIns="0" bIns="0" anchor="t">
            <a:normAutofit/>
          </a:bodyPr>
          <a:p>
            <a:pPr lvl="1" marL="447840" indent="-266760" algn="just"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Являясь зарегистрированным брокером/дилером, мы оказываем услуги как на рынке долгового, так и акционерного капитала международным компаниям и компаниям Центральной Азии</a:t>
            </a:r>
            <a:endParaRPr b="0" lang="en-US" sz="1100" spc="-1" strike="noStrike">
              <a:solidFill>
                <a:srgbClr val="0a281e"/>
              </a:solidFill>
              <a:latin typeface="Arial"/>
            </a:endParaRPr>
          </a:p>
          <a:p>
            <a:pPr lvl="1" marL="447840" indent="-266760" algn="just"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В дополнение к исполнению сделок и торговле акциями, включенными в списки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KASE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мы являемся активными игроками на рынке ценных бумаг казахстанских эмитентов. Мы также облегчаем процесс проведения торгов облигациями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казначейскими векселями, и проводим сделки РЕПО</a:t>
            </a:r>
            <a:endParaRPr b="0" lang="en-US" sz="1100" spc="-1" strike="noStrike">
              <a:solidFill>
                <a:srgbClr val="0a281e"/>
              </a:solidFill>
              <a:latin typeface="Arial"/>
            </a:endParaRPr>
          </a:p>
          <a:p>
            <a:pPr lvl="1" marL="447840" indent="-266760" algn="just"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У нас имеется доступ к широкой базе клиентов в Казахстане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включая пенсионные  и инвестиционные фонды, а также других участников рынка</a:t>
            </a:r>
            <a:endParaRPr b="0" lang="en-US" sz="1100" spc="-1" strike="noStrike">
              <a:solidFill>
                <a:srgbClr val="0a281e"/>
              </a:solidFill>
              <a:latin typeface="Arial"/>
            </a:endParaRPr>
          </a:p>
          <a:p>
            <a:pPr lvl="1" marL="447840" indent="-266760" algn="just"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Наша команда, осуществляющая торговые и брокерские операции, состоит из опытных местных и западных специалистов, работающих в Алматы, Лондоне и Пекине и располагающих глубоким пониманием рынков капитала и опытом работы на развивающихся рынках и в странах СНГ, предлагая полный спектр услуг по акциям Казахстанских эмитентов. </a:t>
            </a:r>
            <a:endParaRPr b="0" lang="en-US" sz="1100" spc="-1" strike="noStrike">
              <a:solidFill>
                <a:srgbClr val="0a281e"/>
              </a:solidFill>
              <a:latin typeface="Arial"/>
            </a:endParaRPr>
          </a:p>
          <a:p>
            <a:pPr lvl="1" marL="447840" indent="-266760" algn="just"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Алматы</a:t>
            </a:r>
            <a:endParaRPr b="0" lang="en-US" sz="1100" spc="-1" strike="noStrike">
              <a:solidFill>
                <a:srgbClr val="0a281e"/>
              </a:solidFill>
              <a:latin typeface="Arial"/>
            </a:endParaRPr>
          </a:p>
          <a:p>
            <a:pPr lvl="2" marL="809640" indent="-266760" algn="just"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Гордон Андерсон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более 10 лет опыта работы в сфере брокерской деятельности</a:t>
            </a:r>
            <a:endParaRPr b="0" lang="en-US" sz="900" spc="-1" strike="noStrike">
              <a:solidFill>
                <a:srgbClr val="0a281e"/>
              </a:solidFill>
              <a:latin typeface="Arial"/>
            </a:endParaRPr>
          </a:p>
          <a:p>
            <a:pPr lvl="2" marL="809640" indent="-266760" algn="just"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Лондон </a:t>
            </a:r>
            <a:endParaRPr b="0" lang="en-US" sz="1100" spc="-1" strike="noStrike">
              <a:solidFill>
                <a:srgbClr val="0a281e"/>
              </a:solidFill>
              <a:latin typeface="Arial"/>
            </a:endParaRPr>
          </a:p>
          <a:p>
            <a:pPr lvl="2" marL="809640" indent="-266760" algn="just"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Найджел Баллок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более 14 лет опыта работы в области торговли финансовыми инструментами</a:t>
            </a:r>
            <a:endParaRPr b="0" lang="en-US" sz="900" spc="-1" strike="noStrike">
              <a:solidFill>
                <a:srgbClr val="0a281e"/>
              </a:solidFill>
              <a:latin typeface="Arial"/>
            </a:endParaRPr>
          </a:p>
          <a:p>
            <a:pPr lvl="2" marL="809640" indent="-266760" algn="just"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Гай Маршал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более 13 лет опыта в сфере продаж на развивающихся рынках </a:t>
            </a:r>
            <a:endParaRPr b="0" lang="en-US" sz="900" spc="-1" strike="noStrike">
              <a:solidFill>
                <a:srgbClr val="0a281e"/>
              </a:solidFill>
              <a:latin typeface="Arial"/>
            </a:endParaRPr>
          </a:p>
          <a:p>
            <a:pPr lvl="2" marL="809640" indent="0" algn="just"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300" spc="-1" strike="noStrike">
              <a:solidFill>
                <a:srgbClr val="0a281e"/>
              </a:solidFill>
              <a:latin typeface="Arial"/>
            </a:endParaRPr>
          </a:p>
          <a:p>
            <a:pPr lvl="1" marL="447840" indent="-266760" algn="just"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Пекин</a:t>
            </a:r>
            <a:endParaRPr b="0" lang="en-US" sz="1100" spc="-1" strike="noStrike">
              <a:solidFill>
                <a:srgbClr val="0a281e"/>
              </a:solidFill>
              <a:latin typeface="Arial"/>
            </a:endParaRPr>
          </a:p>
          <a:p>
            <a:pPr lvl="2" marL="809640" indent="-266760" algn="just"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kk-KZ" sz="900" spc="-1" strike="noStrike">
                <a:solidFill>
                  <a:srgbClr val="000000"/>
                </a:solidFill>
                <a:latin typeface="Arial"/>
                <a:ea typeface="Arial"/>
              </a:rPr>
              <a:t>Густав Рамель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-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 более 12 лет опыта работы  в  области торговли финансовыми инструментами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в Европе и Азии</a:t>
            </a:r>
            <a:endParaRPr b="0" lang="en-US" sz="900" spc="-1" strike="noStrike">
              <a:solidFill>
                <a:srgbClr val="0a281e"/>
              </a:solidFill>
              <a:latin typeface="Arial"/>
            </a:endParaRPr>
          </a:p>
          <a:p>
            <a:pPr lvl="1" marL="447840"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9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702" name="Line 4"/>
          <p:cNvSpPr/>
          <p:nvPr/>
        </p:nvSpPr>
        <p:spPr>
          <a:xfrm flipV="1">
            <a:off x="1968480" y="1294920"/>
            <a:ext cx="0" cy="463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Slide Number Placeholder 4"/>
          <p:cNvSpPr/>
          <p:nvPr/>
        </p:nvSpPr>
        <p:spPr>
          <a:xfrm>
            <a:off x="7099200" y="61722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E591-4DA2-4D71-AE36-ACBA95E80905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/>
          </p:nvPr>
        </p:nvSpPr>
        <p:spPr>
          <a:xfrm>
            <a:off x="533520" y="4768920"/>
            <a:ext cx="8797680" cy="16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201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Отказ от ответственности: </a:t>
            </a:r>
            <a:endParaRPr b="0" lang="en-US" sz="800" spc="-1" strike="noStrike">
              <a:solidFill>
                <a:srgbClr val="0a281e"/>
              </a:solidFill>
              <a:latin typeface="Arial"/>
            </a:endParaRPr>
          </a:p>
          <a:p>
            <a:pPr indent="0" algn="just">
              <a:spcBef>
                <a:spcPts val="201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анная презентация была подготовлена исключительно в Ваших интересах и для Вашего внутреннего пользования для того, чтобы предварительно определить осуществимость возможной сделки или сделок и не дает никакого права опубликования или разглашения любой третьей стороне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анная презентация является неполной без ссылки на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 должна просматриваться исключительно вместе с устным объяснением, предоставляемым компанией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sor Capital.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и данная презентация, ни какая-либо информация, содержащаяся в ней, не могут использоваться ни в каких других целях без предварительного письменного согласия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sor Capital.</a:t>
            </a:r>
            <a:endParaRPr b="0" lang="en-US" sz="800" spc="-1" strike="noStrike">
              <a:solidFill>
                <a:srgbClr val="0a281e"/>
              </a:solidFill>
              <a:latin typeface="Arial"/>
            </a:endParaRPr>
          </a:p>
          <a:p>
            <a:pPr indent="0" algn="just">
              <a:spcBef>
                <a:spcPts val="201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800" spc="-1" strike="noStrike">
              <a:solidFill>
                <a:srgbClr val="0a281e"/>
              </a:solidFill>
              <a:latin typeface="Arial"/>
            </a:endParaRPr>
          </a:p>
          <a:p>
            <a:pPr indent="0" algn="just">
              <a:spcBef>
                <a:spcPts val="201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Visor Capital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е несет никакой ответственности за независимую проверку любых сведений, содержащихся в данной презентации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том числе оценочного материала, предоставленного получателю сего в отношении любых дальнейших исследований возможных сделок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  Visor Capital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е делает и не предоставляет никаких явно выраженных или подразумеваемых заявлений или гарантий в отношении точности или полноты содержащейся информации или упущений, имеющихся в данной презентации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дополнение к этому,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Visor Capital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ясно опровергает любую ответственность, которая может вытекать из такой информации, ошибок и упущений в ней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a28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409"/>
          <p:cNvSpPr/>
          <p:nvPr/>
        </p:nvSpPr>
        <p:spPr>
          <a:xfrm>
            <a:off x="3714840" y="4430880"/>
            <a:ext cx="305424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73160" indent="-117720" algn="just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Аналитические исследования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  <a:p>
            <a:pPr lvl="2" marL="173160" indent="-117720" algn="just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ефть и га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  <a:p>
            <a:pPr lvl="2" marL="173160" indent="-117720" algn="just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еталлургия и горнодобывающая промышленность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  <a:p>
            <a:pPr lvl="2" marL="173160" indent="-117720" algn="just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инансовые учреждения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  <a:p>
            <a:pPr lvl="2" marL="173160" indent="-117720" algn="just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троительство и инфраструктура;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  <a:p>
            <a:pPr lvl="2" marL="173160" indent="-117720" algn="just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елекоммуникации, энергоресурсы и розничная торговля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5F24-3BE5-4E76-B9E9-7711C85DC46E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27" name="Rectangle 4"/>
          <p:cNvSpPr/>
          <p:nvPr/>
        </p:nvSpPr>
        <p:spPr>
          <a:xfrm>
            <a:off x="495360" y="403200"/>
            <a:ext cx="891540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sor Capital </a:t>
            </a: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четание международного опыта с локальными знаниями</a:t>
            </a: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28" name="TextBox 381"/>
          <p:cNvSpPr/>
          <p:nvPr/>
        </p:nvSpPr>
        <p:spPr>
          <a:xfrm>
            <a:off x="7264440" y="1611360"/>
            <a:ext cx="23367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mon Capital</a:t>
            </a:r>
            <a:endParaRPr b="0" lang="en-US" sz="800" spc="-1" strike="noStrike">
              <a:solidFill>
                <a:srgbClr val="000000"/>
              </a:solidFill>
              <a:latin typeface="Dax-Medium"/>
            </a:endParaRPr>
          </a:p>
          <a:p>
            <a:pPr marL="55440" indent="-55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нвестиционный банк, СП в Таджикистане</a:t>
            </a:r>
            <a:endParaRPr b="0" lang="en-US" sz="800" spc="-1" strike="noStrike">
              <a:solidFill>
                <a:srgbClr val="000000"/>
              </a:solidFill>
              <a:latin typeface="Dax-Medium"/>
            </a:endParaRPr>
          </a:p>
          <a:p>
            <a:pPr marL="55440" indent="-55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казывает консультационные услуги в сфере корпоративных финансов</a:t>
            </a:r>
            <a:endParaRPr b="0" lang="en-US" sz="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29" name="TextBox 382"/>
          <p:cNvSpPr/>
          <p:nvPr/>
        </p:nvSpPr>
        <p:spPr>
          <a:xfrm>
            <a:off x="7264440" y="2362320"/>
            <a:ext cx="220032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Офисы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isor Group </a:t>
            </a:r>
            <a:endParaRPr b="0" lang="en-US" sz="800" spc="-1" strike="noStrike">
              <a:solidFill>
                <a:srgbClr val="000000"/>
              </a:solidFill>
              <a:latin typeface="Dax-Medium"/>
            </a:endParaRPr>
          </a:p>
          <a:p>
            <a:pPr marL="55440" indent="-55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тношения с региональными клиентами и партнерами</a:t>
            </a:r>
            <a:endParaRPr b="0" lang="en-US" sz="800" spc="-1" strike="noStrike">
              <a:solidFill>
                <a:srgbClr val="000000"/>
              </a:solidFill>
              <a:latin typeface="Dax-Medium"/>
            </a:endParaRPr>
          </a:p>
          <a:p>
            <a:pPr marL="55440" indent="-55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Функции представительств</a:t>
            </a:r>
            <a:endParaRPr b="0" lang="en-US" sz="800" spc="-1" strike="noStrike">
              <a:solidFill>
                <a:srgbClr val="000000"/>
              </a:solidFill>
              <a:latin typeface="Dax-Medium"/>
            </a:endParaRPr>
          </a:p>
          <a:p>
            <a:pPr marL="55440" indent="-55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фисы в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Dax-Medium"/>
            </a:endParaRPr>
          </a:p>
          <a:p>
            <a:pPr lvl="1" marL="347760" indent="-1191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Алматы, Казахстан</a:t>
            </a:r>
            <a:endParaRPr b="0" lang="en-US" sz="800" spc="-1" strike="noStrike">
              <a:solidFill>
                <a:srgbClr val="000000"/>
              </a:solidFill>
              <a:latin typeface="Dax-Medium"/>
            </a:endParaRPr>
          </a:p>
          <a:p>
            <a:pPr lvl="1" marL="347760" indent="-1191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Москва, Россия</a:t>
            </a:r>
            <a:endParaRPr b="0" lang="en-US" sz="800" spc="-1" strike="noStrike">
              <a:solidFill>
                <a:srgbClr val="000000"/>
              </a:solidFill>
              <a:latin typeface="Dax-Medium"/>
            </a:endParaRPr>
          </a:p>
          <a:p>
            <a:pPr lvl="1" marL="347760" indent="-1191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Бишкек, Кыргызстан</a:t>
            </a:r>
            <a:endParaRPr b="0" lang="en-US" sz="800" spc="-1" strike="noStrike">
              <a:solidFill>
                <a:srgbClr val="000000"/>
              </a:solidFill>
              <a:latin typeface="Dax-Medium"/>
            </a:endParaRPr>
          </a:p>
          <a:p>
            <a:pPr lvl="1" marL="347760" indent="-1191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ашкент, Узбекистан</a:t>
            </a:r>
            <a:endParaRPr b="0" lang="en-US" sz="800" spc="-1" strike="noStrike">
              <a:solidFill>
                <a:srgbClr val="000000"/>
              </a:solidFill>
              <a:latin typeface="Dax-Medium"/>
            </a:endParaRPr>
          </a:p>
          <a:p>
            <a:pPr lvl="1" marL="347760" indent="-1191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Ашхабад, Туркменистан</a:t>
            </a:r>
            <a:endParaRPr b="0" lang="en-US" sz="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30" name="Rectangle 383"/>
          <p:cNvSpPr/>
          <p:nvPr/>
        </p:nvSpPr>
        <p:spPr>
          <a:xfrm>
            <a:off x="7346880" y="1236600"/>
            <a:ext cx="2063880" cy="21132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53753" dir="2700000" blurRad="0" rotWithShape="0">
              <a:srgbClr val="c6da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72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31" name="TextBox 384"/>
          <p:cNvSpPr/>
          <p:nvPr/>
        </p:nvSpPr>
        <p:spPr>
          <a:xfrm>
            <a:off x="7346880" y="1219320"/>
            <a:ext cx="22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ffff"/>
                </a:solidFill>
                <a:latin typeface="Arial"/>
              </a:rPr>
              <a:t>Аффилиированные лица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Visor Capital </a:t>
            </a: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32" name="Straight Connector 385"/>
          <p:cNvSpPr/>
          <p:nvPr/>
        </p:nvSpPr>
        <p:spPr>
          <a:xfrm>
            <a:off x="7346880" y="1779480"/>
            <a:ext cx="2063880" cy="1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33" name="Straight Connector 386"/>
          <p:cNvSpPr/>
          <p:nvPr/>
        </p:nvSpPr>
        <p:spPr>
          <a:xfrm>
            <a:off x="7346880" y="2530440"/>
            <a:ext cx="2063880" cy="1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34" name="Freeform 639"/>
          <p:cNvSpPr/>
          <p:nvPr/>
        </p:nvSpPr>
        <p:spPr>
          <a:xfrm>
            <a:off x="93600" y="2514600"/>
            <a:ext cx="52560" cy="360360"/>
          </a:xfrm>
          <a:prstGeom prst="pie">
            <a:avLst/>
          </a:prstGeom>
          <a:solidFill>
            <a:srgbClr val="bbe0e3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35" name="Freeform 640"/>
          <p:cNvSpPr/>
          <p:nvPr/>
        </p:nvSpPr>
        <p:spPr>
          <a:xfrm>
            <a:off x="93600" y="2514600"/>
            <a:ext cx="52560" cy="360360"/>
          </a:xfrm>
          <a:prstGeom prst="pie">
            <a:avLst/>
          </a:prstGeom>
          <a:solidFill>
            <a:srgbClr val="bbe0e3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36" name="Freeform 661"/>
          <p:cNvSpPr/>
          <p:nvPr/>
        </p:nvSpPr>
        <p:spPr>
          <a:xfrm>
            <a:off x="-11160" y="2913120"/>
            <a:ext cx="14400" cy="360360"/>
          </a:xfrm>
          <a:prstGeom prst="pie">
            <a:avLst/>
          </a:prstGeom>
          <a:solidFill>
            <a:srgbClr val="bbe0e3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37" name="Freeform 662"/>
          <p:cNvSpPr/>
          <p:nvPr/>
        </p:nvSpPr>
        <p:spPr>
          <a:xfrm>
            <a:off x="-11160" y="2913120"/>
            <a:ext cx="14400" cy="360360"/>
          </a:xfrm>
          <a:prstGeom prst="pie">
            <a:avLst/>
          </a:prstGeom>
          <a:solidFill>
            <a:srgbClr val="bbe0e3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38" name="TextBox 391"/>
          <p:cNvSpPr/>
          <p:nvPr/>
        </p:nvSpPr>
        <p:spPr>
          <a:xfrm>
            <a:off x="496800" y="2357280"/>
            <a:ext cx="21463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Лондон, Великобритания</a:t>
            </a:r>
            <a:endParaRPr b="0" lang="en-US" sz="800" spc="-1" strike="noStrike">
              <a:solidFill>
                <a:srgbClr val="000000"/>
              </a:solidFill>
              <a:latin typeface="Dax-Medium"/>
            </a:endParaRPr>
          </a:p>
          <a:p>
            <a:pPr marL="55440" indent="-55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крывает рынки Европы</a:t>
            </a:r>
            <a:endParaRPr b="0" lang="en-US" sz="800" spc="-1" strike="noStrike">
              <a:solidFill>
                <a:srgbClr val="000000"/>
              </a:solidFill>
              <a:latin typeface="Dax-Medium"/>
            </a:endParaRPr>
          </a:p>
          <a:p>
            <a:pPr marL="55440" indent="-55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казывает брокерские услуги</a:t>
            </a:r>
            <a:endParaRPr b="0" lang="en-US" sz="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39" name="TextBox 392"/>
          <p:cNvSpPr/>
          <p:nvPr/>
        </p:nvSpPr>
        <p:spPr>
          <a:xfrm>
            <a:off x="487440" y="1438200"/>
            <a:ext cx="21556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Головной офис в Алматы</a:t>
            </a:r>
            <a:endParaRPr b="0" lang="en-US" sz="800" spc="-1" strike="noStrike">
              <a:solidFill>
                <a:srgbClr val="000000"/>
              </a:solidFill>
              <a:latin typeface="Dax-Medium"/>
            </a:endParaRPr>
          </a:p>
          <a:p>
            <a:pPr marL="55440" indent="-55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крывает рынки СНГ и Центральной Азии</a:t>
            </a:r>
            <a:endParaRPr b="0" lang="en-US" sz="800" spc="-1" strike="noStrike">
              <a:solidFill>
                <a:srgbClr val="000000"/>
              </a:solidFill>
              <a:latin typeface="Dax-Medium"/>
            </a:endParaRPr>
          </a:p>
          <a:p>
            <a:pPr marL="55440" indent="-55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едоставляет  консультационные, брокерские и аналитические услуги в финансовой отрасли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40" name="TextBox 393"/>
          <p:cNvSpPr/>
          <p:nvPr/>
        </p:nvSpPr>
        <p:spPr>
          <a:xfrm>
            <a:off x="487440" y="2928960"/>
            <a:ext cx="16509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екин, Китай</a:t>
            </a:r>
            <a:endParaRPr b="0" lang="en-US" sz="800" spc="-1" strike="noStrike">
              <a:solidFill>
                <a:srgbClr val="000000"/>
              </a:solidFill>
              <a:latin typeface="Dax-Medium"/>
            </a:endParaRPr>
          </a:p>
          <a:p>
            <a:pPr marL="55440" indent="-55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крывает азиатские рынки</a:t>
            </a:r>
            <a:endParaRPr b="0" lang="en-US" sz="800" spc="-1" strike="noStrike">
              <a:solidFill>
                <a:srgbClr val="000000"/>
              </a:solidFill>
              <a:latin typeface="Dax-Medium"/>
            </a:endParaRPr>
          </a:p>
          <a:p>
            <a:pPr marL="55440" indent="-55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казывает брокерские услуги</a:t>
            </a:r>
            <a:endParaRPr b="0" lang="en-US" sz="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41" name="TextBox 394"/>
          <p:cNvSpPr/>
          <p:nvPr/>
        </p:nvSpPr>
        <p:spPr>
          <a:xfrm>
            <a:off x="495360" y="3575160"/>
            <a:ext cx="2095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убаи, ОАЭ (на стадии подготовки)</a:t>
            </a:r>
            <a:endParaRPr b="0" lang="en-US" sz="800" spc="-1" strike="noStrike">
              <a:solidFill>
                <a:srgbClr val="000000"/>
              </a:solidFill>
              <a:latin typeface="Dax-Medium"/>
            </a:endParaRPr>
          </a:p>
          <a:p>
            <a:pPr marL="55440" indent="-55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крывает рынки Ближнего Востока</a:t>
            </a:r>
            <a:endParaRPr b="0" lang="en-US" sz="700" spc="-1" strike="noStrike">
              <a:solidFill>
                <a:srgbClr val="000000"/>
              </a:solidFill>
              <a:latin typeface="Dax-Medium"/>
            </a:endParaRPr>
          </a:p>
          <a:p>
            <a:pPr marL="55440" indent="-55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казывает консультационные услуги в сфере корпоративных финансов </a:t>
            </a:r>
            <a:endParaRPr b="0" lang="en-US" sz="7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42" name="Rectangle 395"/>
          <p:cNvSpPr/>
          <p:nvPr/>
        </p:nvSpPr>
        <p:spPr>
          <a:xfrm>
            <a:off x="496800" y="1219320"/>
            <a:ext cx="2157480" cy="21096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53753" dir="2700000" blurRad="0" rotWithShape="0">
              <a:srgbClr val="c6da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72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43" name="TextBox 396"/>
          <p:cNvSpPr/>
          <p:nvPr/>
        </p:nvSpPr>
        <p:spPr>
          <a:xfrm>
            <a:off x="496800" y="1219320"/>
            <a:ext cx="181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Офисы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Visor Capital</a:t>
            </a: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44" name="Straight Connector 397"/>
          <p:cNvSpPr/>
          <p:nvPr/>
        </p:nvSpPr>
        <p:spPr>
          <a:xfrm>
            <a:off x="495360" y="1600200"/>
            <a:ext cx="2146320" cy="11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45" name="Straight Connector 398"/>
          <p:cNvSpPr/>
          <p:nvPr/>
        </p:nvSpPr>
        <p:spPr>
          <a:xfrm>
            <a:off x="496800" y="2519280"/>
            <a:ext cx="2146320" cy="9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46" name="Straight Connector 399"/>
          <p:cNvSpPr/>
          <p:nvPr/>
        </p:nvSpPr>
        <p:spPr>
          <a:xfrm>
            <a:off x="496800" y="3098880"/>
            <a:ext cx="2146320" cy="11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47" name="Straight Connector 400"/>
          <p:cNvSpPr/>
          <p:nvPr/>
        </p:nvSpPr>
        <p:spPr>
          <a:xfrm>
            <a:off x="496800" y="3743280"/>
            <a:ext cx="2146320" cy="11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48" name="Rectangle 401"/>
          <p:cNvSpPr/>
          <p:nvPr/>
        </p:nvSpPr>
        <p:spPr>
          <a:xfrm>
            <a:off x="495360" y="4200480"/>
            <a:ext cx="89154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53753" dir="2700000" blurRad="0" rotWithShape="0">
              <a:srgbClr val="c6da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72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49" name="TextBox 402"/>
          <p:cNvSpPr/>
          <p:nvPr/>
        </p:nvSpPr>
        <p:spPr>
          <a:xfrm>
            <a:off x="495360" y="4199040"/>
            <a:ext cx="8750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Visor Capital </a:t>
            </a: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предлагает полный спектр профессиональных услуг в сфере инвестиционного банкинга</a:t>
            </a: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50" name="Rectangle 408"/>
          <p:cNvSpPr/>
          <p:nvPr/>
        </p:nvSpPr>
        <p:spPr>
          <a:xfrm>
            <a:off x="495360" y="4437000"/>
            <a:ext cx="255276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9160" indent="-119160" algn="just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нвестиционный Банкинг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  <a:p>
            <a:pPr lvl="2" marL="119160" indent="-119160" algn="just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лияния и поглощения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  <a:p>
            <a:pPr lvl="3" marL="347760" indent="-119160" algn="just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Покупка, продажа</a:t>
            </a: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lvl="2" marL="119160" indent="-119160" algn="just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ынки акционерного капитала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  <a:p>
            <a:pPr lvl="3" marL="347760" indent="-119160" algn="just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PO,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вторичное предложение</a:t>
            </a: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lvl="3" marL="347760" indent="-119160" algn="just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Частное размещение</a:t>
            </a: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lvl="2" marL="119160" indent="-119160" algn="just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ынки долгового капитала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  <a:p>
            <a:pPr lvl="2" marL="119160" indent="-119160" algn="just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труктурное финансирование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  <a:p>
            <a:pPr lvl="2" marL="119160" indent="-119160" algn="just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рпоративная реструктуризация и приватизация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51" name="Rectangle 410"/>
          <p:cNvSpPr/>
          <p:nvPr/>
        </p:nvSpPr>
        <p:spPr>
          <a:xfrm>
            <a:off x="6851520" y="4437000"/>
            <a:ext cx="239400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73160" indent="-117720" algn="just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Брокерские услуги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  <a:p>
            <a:pPr lvl="2" marL="173160" indent="-117720" algn="just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дажа и торговля акциям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  <a:p>
            <a:pPr lvl="2" marL="173160" indent="-117720" algn="just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дажа и торговля  финансовыми инструментами с фиксированным доходо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  <a:p>
            <a:pPr lvl="2" marL="173160" indent="-117720" algn="just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сполнение сделок с долевыми, долговыми и производными финансовыми инструментам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  <a:p>
            <a:pPr lvl="2" marL="173160" indent="-117720" algn="just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едение расчетов; и  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  <a:p>
            <a:pPr lvl="2" marL="173160" indent="-117720" algn="just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стодиальные услуги;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552" name="Picture 2" descr=""/>
          <p:cNvPicPr/>
          <p:nvPr/>
        </p:nvPicPr>
        <p:blipFill>
          <a:blip r:embed="rId1"/>
          <a:stretch/>
        </p:blipFill>
        <p:spPr>
          <a:xfrm>
            <a:off x="2685960" y="1533600"/>
            <a:ext cx="462924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93560" y="398160"/>
            <a:ext cx="88790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Визор Капитал</a:t>
            </a:r>
            <a:endParaRPr b="0" lang="en-US" sz="21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909800" y="1409400"/>
            <a:ext cx="7564320" cy="4691160"/>
          </a:xfrm>
          <a:prstGeom prst="rect">
            <a:avLst/>
          </a:prstGeom>
          <a:noFill/>
          <a:ln w="0">
            <a:noFill/>
          </a:ln>
        </p:spPr>
        <p:txBody>
          <a:bodyPr lIns="31680" rIns="63360" tIns="0" bIns="0" anchor="t">
            <a:normAutofit/>
          </a:bodyPr>
          <a:p>
            <a:pPr lvl="1" marL="447840" indent="-26676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едущий казахстанский инвестиционный бан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обеспечивающий первокласную экспертную поддержку и имеющий глубинное понимание локальной бизнес-среды</a:t>
            </a:r>
            <a:endParaRPr b="0" lang="en-US" sz="1200" spc="-1" strike="noStrike">
              <a:solidFill>
                <a:srgbClr val="0a281e"/>
              </a:solidFill>
              <a:latin typeface="Arial"/>
            </a:endParaRPr>
          </a:p>
          <a:p>
            <a:pPr lvl="2" marL="716040" indent="-266760"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Единственный инвестиционный банк Казахстана, имеющий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лиценцию от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Financial Services Authority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SA)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в Великобритании</a:t>
            </a:r>
            <a:endParaRPr b="0" lang="en-US" sz="1100" spc="-1" strike="noStrike">
              <a:solidFill>
                <a:srgbClr val="0a281e"/>
              </a:solidFill>
              <a:latin typeface="Arial"/>
            </a:endParaRPr>
          </a:p>
          <a:p>
            <a:pPr lvl="2" marL="716040" indent="-266760"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Лучшее понимание локальной бизнес-среды в комбинации с отличными отношениями с регуляторами и властями</a:t>
            </a:r>
            <a:endParaRPr b="0" lang="en-US" sz="1100" spc="-1" strike="noStrike">
              <a:solidFill>
                <a:srgbClr val="0a281e"/>
              </a:solidFill>
              <a:latin typeface="Arial"/>
            </a:endParaRPr>
          </a:p>
          <a:p>
            <a:pPr lvl="2" marL="716040" indent="-266760"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амоотверженная команда, сочетающая локальные знания и международный опыт</a:t>
            </a:r>
            <a:endParaRPr b="0" lang="en-US" sz="1100" spc="-1" strike="noStrike">
              <a:solidFill>
                <a:srgbClr val="0a281e"/>
              </a:solidFill>
              <a:latin typeface="Arial"/>
            </a:endParaRPr>
          </a:p>
          <a:p>
            <a:pPr lvl="1" marL="447840" indent="-26676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зор Капита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ультирует на постоянной основе государственные компании по  возможностям стратегического развития 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иболее тесно знаком с бизнесом, законодательством и регуляторными нормами в Казахстане и СНГ</a:t>
            </a:r>
            <a:endParaRPr b="0" lang="en-US" sz="1200" spc="-1" strike="noStrike">
              <a:solidFill>
                <a:srgbClr val="0a281e"/>
              </a:solidFill>
              <a:latin typeface="Arial"/>
            </a:endParaRPr>
          </a:p>
          <a:p>
            <a:pPr lvl="1" marL="447840" indent="-26676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зор Капитал консультирует компании Европы, Азии и США, а также ведущие казахстанские и региональные компании в казахстане и СНГ, по вопросам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&amp;A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делкам на рынках капитала. Последние сделки и транзакции:</a:t>
            </a:r>
            <a:endParaRPr b="0" lang="en-US" sz="1200" spc="-1" strike="noStrike">
              <a:solidFill>
                <a:srgbClr val="0a281e"/>
              </a:solidFill>
              <a:latin typeface="Arial"/>
            </a:endParaRPr>
          </a:p>
          <a:p>
            <a:pPr lvl="2" marL="716040" indent="-266760"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Эксклюзивный финасовый консультант крупнейшего банка Южной Кореи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Kookmin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о приобретению доли в банке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enterCredit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за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SD1.27bn</a:t>
            </a:r>
            <a:endParaRPr b="0" lang="en-US" sz="1100" spc="-1" strike="noStrike">
              <a:solidFill>
                <a:srgbClr val="0a281e"/>
              </a:solidFill>
              <a:latin typeface="Arial"/>
            </a:endParaRPr>
          </a:p>
          <a:p>
            <a:pPr lvl="2" marL="716040" indent="-266760"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Эксклюзивный брокер Национальной Компании КазМунайГаз по приобретению 50% доли в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Kazakhstan Petroleum Industries</a:t>
            </a:r>
            <a:endParaRPr b="0" lang="en-US" sz="1100" spc="-1" strike="noStrike">
              <a:solidFill>
                <a:srgbClr val="0a281e"/>
              </a:solidFill>
              <a:latin typeface="Arial"/>
            </a:endParaRPr>
          </a:p>
          <a:p>
            <a:pPr lvl="2" marL="716040" indent="-266760"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едущий казахстанский менеджер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IPO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РД КазМунайГаз (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SD2.3bn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о размещению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USD1.6bn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реди международных и локальных инвесторов</a:t>
            </a:r>
            <a:endParaRPr b="0" lang="en-US" sz="1100" spc="-1" strike="noStrike">
              <a:solidFill>
                <a:srgbClr val="0a281e"/>
              </a:solidFill>
              <a:latin typeface="Arial"/>
            </a:endParaRPr>
          </a:p>
          <a:p>
            <a:pPr lvl="2" marL="716040" indent="-266760"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Финансовый консультант Национальной Компании КазмунайГаз по приобретению 50% доли (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SD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n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) в КазГерМунай и последующей продажи акций РД КазМунайГаз</a:t>
            </a:r>
            <a:endParaRPr b="0" lang="en-US" sz="11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55" name="Line 7"/>
          <p:cNvSpPr/>
          <p:nvPr/>
        </p:nvSpPr>
        <p:spPr>
          <a:xfrm flipV="1">
            <a:off x="1911240" y="1303200"/>
            <a:ext cx="0" cy="463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56" name="Rectangle 8"/>
          <p:cNvSpPr/>
          <p:nvPr/>
        </p:nvSpPr>
        <p:spPr>
          <a:xfrm>
            <a:off x="431640" y="1835280"/>
            <a:ext cx="1489320" cy="40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63360" tIns="0" bIns="0" anchor="t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EE &amp; CIS Banking Awards 2009</a:t>
            </a: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est local investment bank”</a:t>
            </a: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2009 Thomson Extel Survey</a:t>
            </a: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est Research for Kazakhstan”</a:t>
            </a: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est Equity House Kazakhstan”</a:t>
            </a: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57" name="Slide Number Placeholder 7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E4F7-BB60-4223-A5F2-DA9510CE593C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558" name="Picture 8" descr="a4elogo"/>
          <p:cNvPicPr/>
          <p:nvPr/>
        </p:nvPicPr>
        <p:blipFill>
          <a:blip r:embed="rId1"/>
          <a:stretch/>
        </p:blipFill>
        <p:spPr>
          <a:xfrm>
            <a:off x="644400" y="4792680"/>
            <a:ext cx="1103400" cy="76212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9" descr="C:\Documents and Settings\aiy\My Documents\Aizhan\My Pictures\emea-logo.gif"/>
          <p:cNvPicPr/>
          <p:nvPr/>
        </p:nvPicPr>
        <p:blipFill>
          <a:blip r:embed="rId2"/>
          <a:stretch/>
        </p:blipFill>
        <p:spPr>
          <a:xfrm>
            <a:off x="565200" y="1514520"/>
            <a:ext cx="1195200" cy="244440"/>
          </a:xfrm>
          <a:prstGeom prst="rect">
            <a:avLst/>
          </a:prstGeom>
          <a:ln w="0">
            <a:noFill/>
          </a:ln>
        </p:spPr>
      </p:pic>
      <p:sp>
        <p:nvSpPr>
          <p:cNvPr id="560" name="AutoShape 12"/>
          <p:cNvSpPr/>
          <p:nvPr/>
        </p:nvSpPr>
        <p:spPr>
          <a:xfrm>
            <a:off x="4081320" y="3062160"/>
            <a:ext cx="1743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61" name="AutoShape 14"/>
          <p:cNvSpPr/>
          <p:nvPr/>
        </p:nvSpPr>
        <p:spPr>
          <a:xfrm>
            <a:off x="4081320" y="3062160"/>
            <a:ext cx="1743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62" name="AutoShape 16"/>
          <p:cNvSpPr/>
          <p:nvPr/>
        </p:nvSpPr>
        <p:spPr>
          <a:xfrm>
            <a:off x="168120" y="46080"/>
            <a:ext cx="1744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63" name="AutoShape 18"/>
          <p:cNvSpPr/>
          <p:nvPr/>
        </p:nvSpPr>
        <p:spPr>
          <a:xfrm>
            <a:off x="4081320" y="3062160"/>
            <a:ext cx="1743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64" name="AutoShape 20"/>
          <p:cNvSpPr/>
          <p:nvPr/>
        </p:nvSpPr>
        <p:spPr>
          <a:xfrm>
            <a:off x="4081320" y="3062160"/>
            <a:ext cx="1743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65" name="AutoShape 22"/>
          <p:cNvSpPr/>
          <p:nvPr/>
        </p:nvSpPr>
        <p:spPr>
          <a:xfrm>
            <a:off x="168120" y="46080"/>
            <a:ext cx="1744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grpSp>
        <p:nvGrpSpPr>
          <p:cNvPr id="566" name="Group 27"/>
          <p:cNvGrpSpPr/>
          <p:nvPr/>
        </p:nvGrpSpPr>
        <p:grpSpPr>
          <a:xfrm>
            <a:off x="512640" y="3087720"/>
            <a:ext cx="1316160" cy="417600"/>
            <a:chOff x="512640" y="3087720"/>
            <a:chExt cx="1316160" cy="417600"/>
          </a:xfrm>
        </p:grpSpPr>
        <p:pic>
          <p:nvPicPr>
            <p:cNvPr id="567" name="Picture 24" descr="thomson reuters"/>
            <p:cNvPicPr/>
            <p:nvPr/>
          </p:nvPicPr>
          <p:blipFill>
            <a:blip r:embed="rId3"/>
            <a:stretch/>
          </p:blipFill>
          <p:spPr>
            <a:xfrm>
              <a:off x="648360" y="3087720"/>
              <a:ext cx="1014120" cy="22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Picture 25" descr="Extel"/>
            <p:cNvPicPr/>
            <p:nvPr/>
          </p:nvPicPr>
          <p:blipFill>
            <a:blip r:embed="rId4"/>
            <a:srcRect l="0" t="0" r="47027" b="34722"/>
            <a:stretch/>
          </p:blipFill>
          <p:spPr>
            <a:xfrm>
              <a:off x="512640" y="3329280"/>
              <a:ext cx="1316160" cy="176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95000" y="76212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Аналитические исследования по рынкам акций</a:t>
            </a:r>
            <a:endParaRPr b="0" lang="en-US" sz="20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70" name="Rectangle 96"/>
          <p:cNvSpPr/>
          <p:nvPr/>
        </p:nvSpPr>
        <p:spPr>
          <a:xfrm>
            <a:off x="533520" y="4343400"/>
            <a:ext cx="91184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63360" tIns="0" bIns="0" anchor="t">
            <a:noAutofit/>
          </a:bodyPr>
          <a:p>
            <a:pPr lvl="1" marL="628560" indent="-27144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ругие анализируемые компании, не имеющие официального покрытия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Dax-Medium"/>
            </a:endParaRPr>
          </a:p>
          <a:p>
            <a:pPr lvl="1" marL="628560" indent="-27144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500" spc="-1" strike="noStrike">
              <a:solidFill>
                <a:srgbClr val="000000"/>
              </a:solidFill>
              <a:latin typeface="Dax-Medium"/>
            </a:endParaRPr>
          </a:p>
          <a:p>
            <a:pPr lvl="1" marL="628560" indent="-271440" algn="just">
              <a:lnSpc>
                <a:spcPct val="9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500" spc="-1" strike="noStrike">
              <a:solidFill>
                <a:srgbClr val="000000"/>
              </a:solidFill>
              <a:latin typeface="Dax-Medium"/>
            </a:endParaRPr>
          </a:p>
          <a:p>
            <a:pPr lvl="2" indent="2286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ании малой капитализац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Dax-Medium"/>
            </a:endParaRPr>
          </a:p>
          <a:p>
            <a:pPr lvl="2" indent="2286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200" spc="-1" strike="noStrike">
              <a:solidFill>
                <a:srgbClr val="000000"/>
              </a:solidFill>
              <a:latin typeface="Dax-Medium"/>
            </a:endParaRPr>
          </a:p>
          <a:p>
            <a:pPr lvl="2" indent="2286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компании, имеющие значимые активы в Казахстан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Dax-Medium"/>
            </a:endParaRPr>
          </a:p>
          <a:p>
            <a:pPr lvl="2" indent="2286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200" spc="-1" strike="noStrike">
              <a:solidFill>
                <a:srgbClr val="000000"/>
              </a:solidFill>
              <a:latin typeface="Dax-Medium"/>
            </a:endParaRPr>
          </a:p>
          <a:p>
            <a:pPr lvl="2" indent="2286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ании, осуществляющие деятельность в Средней Азии, включая Туркменистан, Узбекистан, Таджикистан и Монголию</a:t>
            </a:r>
            <a:endParaRPr b="0" lang="en-US" sz="12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571" name="Picture 1" descr="\\Dc2\Data\Analysis\LEK\From JCL\Logos\stcm-logo.gif"/>
          <p:cNvPicPr/>
          <p:nvPr/>
        </p:nvPicPr>
        <p:blipFill>
          <a:blip r:embed="rId1"/>
          <a:stretch/>
        </p:blipFill>
        <p:spPr>
          <a:xfrm>
            <a:off x="5943600" y="3429000"/>
            <a:ext cx="898560" cy="4478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3" descr="\\Dc2\Data\Analysis\LEK\From JCL\Logos\centerra logo.gif"/>
          <p:cNvPicPr/>
          <p:nvPr/>
        </p:nvPicPr>
        <p:blipFill>
          <a:blip r:embed="rId2"/>
          <a:stretch/>
        </p:blipFill>
        <p:spPr>
          <a:xfrm>
            <a:off x="8153280" y="2209680"/>
            <a:ext cx="1219320" cy="5590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4" descr="\\Dc2\Data\Analysis\LEK\From JCL\Logos\dragon logo.gif"/>
          <p:cNvPicPr/>
          <p:nvPr/>
        </p:nvPicPr>
        <p:blipFill>
          <a:blip r:embed="rId3"/>
          <a:stretch/>
        </p:blipFill>
        <p:spPr>
          <a:xfrm>
            <a:off x="6934320" y="3048120"/>
            <a:ext cx="676080" cy="4824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6" descr="\\Dc2\Data\Analysis\LEK\From JCL\Logos\ivanhoe logo.gif"/>
          <p:cNvPicPr/>
          <p:nvPr/>
        </p:nvPicPr>
        <p:blipFill>
          <a:blip r:embed="rId4"/>
          <a:stretch/>
        </p:blipFill>
        <p:spPr>
          <a:xfrm>
            <a:off x="3276720" y="5791320"/>
            <a:ext cx="930240" cy="45396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8" descr="\\Dc2\Data\Analysis\LEK\From JCL\Logos\Kazakhmys_logo.gif"/>
          <p:cNvPicPr/>
          <p:nvPr/>
        </p:nvPicPr>
        <p:blipFill>
          <a:blip r:embed="rId5"/>
          <a:stretch/>
        </p:blipFill>
        <p:spPr>
          <a:xfrm>
            <a:off x="6858000" y="2057400"/>
            <a:ext cx="988920" cy="3301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9" descr="\\Dc2\Data\Analysis\LEK\From JCL\Logos\kmg logo.gif"/>
          <p:cNvPicPr/>
          <p:nvPr/>
        </p:nvPicPr>
        <p:blipFill>
          <a:blip r:embed="rId6"/>
          <a:stretch/>
        </p:blipFill>
        <p:spPr>
          <a:xfrm>
            <a:off x="4876920" y="1981080"/>
            <a:ext cx="1477800" cy="38124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75" descr=""/>
          <p:cNvPicPr/>
          <p:nvPr/>
        </p:nvPicPr>
        <p:blipFill>
          <a:blip r:embed="rId7"/>
          <a:stretch/>
        </p:blipFill>
        <p:spPr>
          <a:xfrm>
            <a:off x="8001000" y="2971800"/>
            <a:ext cx="1181160" cy="3268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0" descr="C:\Users\JCL\AppData\Local\Microsoft\Windows\Temporary Internet Files\Content.Outlook\E7T1NIWD\logo_kazakhtelecom.jpg"/>
          <p:cNvPicPr/>
          <p:nvPr/>
        </p:nvPicPr>
        <p:blipFill>
          <a:blip r:embed="rId8"/>
          <a:stretch/>
        </p:blipFill>
        <p:spPr>
          <a:xfrm>
            <a:off x="7010280" y="3886200"/>
            <a:ext cx="1349640" cy="30636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2" descr=""/>
          <p:cNvPicPr/>
          <p:nvPr/>
        </p:nvPicPr>
        <p:blipFill>
          <a:blip r:embed="rId9"/>
          <a:stretch/>
        </p:blipFill>
        <p:spPr>
          <a:xfrm>
            <a:off x="1143000" y="3657600"/>
            <a:ext cx="1360440" cy="2905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3" descr=""/>
          <p:cNvPicPr/>
          <p:nvPr/>
        </p:nvPicPr>
        <p:blipFill>
          <a:blip r:embed="rId10"/>
          <a:stretch/>
        </p:blipFill>
        <p:spPr>
          <a:xfrm>
            <a:off x="1523880" y="1981080"/>
            <a:ext cx="1098720" cy="4366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4" descr=""/>
          <p:cNvPicPr/>
          <p:nvPr/>
        </p:nvPicPr>
        <p:blipFill>
          <a:blip r:embed="rId11"/>
          <a:stretch/>
        </p:blipFill>
        <p:spPr>
          <a:xfrm>
            <a:off x="3048120" y="2286000"/>
            <a:ext cx="1109520" cy="42084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" descr=""/>
          <p:cNvPicPr/>
          <p:nvPr/>
        </p:nvPicPr>
        <p:blipFill>
          <a:blip r:embed="rId12"/>
          <a:stretch/>
        </p:blipFill>
        <p:spPr>
          <a:xfrm>
            <a:off x="914400" y="2590920"/>
            <a:ext cx="1266840" cy="4428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7" descr=""/>
          <p:cNvPicPr/>
          <p:nvPr/>
        </p:nvPicPr>
        <p:blipFill>
          <a:blip r:embed="rId13"/>
          <a:stretch/>
        </p:blipFill>
        <p:spPr>
          <a:xfrm>
            <a:off x="2590920" y="2590920"/>
            <a:ext cx="422280" cy="38088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8" descr=""/>
          <p:cNvPicPr/>
          <p:nvPr/>
        </p:nvPicPr>
        <p:blipFill>
          <a:blip r:embed="rId14"/>
          <a:stretch/>
        </p:blipFill>
        <p:spPr>
          <a:xfrm>
            <a:off x="3352680" y="2895480"/>
            <a:ext cx="582840" cy="5256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9" descr=""/>
          <p:cNvPicPr/>
          <p:nvPr/>
        </p:nvPicPr>
        <p:blipFill>
          <a:blip r:embed="rId15"/>
          <a:stretch/>
        </p:blipFill>
        <p:spPr>
          <a:xfrm>
            <a:off x="1752480" y="3200400"/>
            <a:ext cx="1300320" cy="3049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0" descr=""/>
          <p:cNvPicPr/>
          <p:nvPr/>
        </p:nvPicPr>
        <p:blipFill>
          <a:blip r:embed="rId16"/>
          <a:stretch/>
        </p:blipFill>
        <p:spPr>
          <a:xfrm>
            <a:off x="8534520" y="3581280"/>
            <a:ext cx="609480" cy="525600"/>
          </a:xfrm>
          <a:prstGeom prst="rect">
            <a:avLst/>
          </a:prstGeom>
          <a:ln w="0">
            <a:noFill/>
          </a:ln>
        </p:spPr>
      </p:pic>
      <p:sp>
        <p:nvSpPr>
          <p:cNvPr id="587" name="Rectangle 96"/>
          <p:cNvSpPr/>
          <p:nvPr/>
        </p:nvSpPr>
        <p:spPr>
          <a:xfrm>
            <a:off x="558720" y="1512720"/>
            <a:ext cx="9118800" cy="26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63360" tIns="0" bIns="0" anchor="t">
            <a:noAutofit/>
          </a:bodyPr>
          <a:p>
            <a:pPr lvl="1" marL="628560" indent="-271440" algn="just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крытие по 19 акциям и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DR:</a:t>
            </a:r>
            <a:endParaRPr b="0" lang="en-US" sz="15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588" name="Picture 26" descr=""/>
          <p:cNvPicPr/>
          <p:nvPr/>
        </p:nvPicPr>
        <p:blipFill>
          <a:blip r:embed="rId17"/>
          <a:stretch/>
        </p:blipFill>
        <p:spPr>
          <a:xfrm>
            <a:off x="5715000" y="5791320"/>
            <a:ext cx="1143000" cy="4474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27" descr=""/>
          <p:cNvPicPr/>
          <p:nvPr/>
        </p:nvPicPr>
        <p:blipFill>
          <a:blip r:embed="rId18"/>
          <a:stretch/>
        </p:blipFill>
        <p:spPr>
          <a:xfrm>
            <a:off x="4495680" y="5791320"/>
            <a:ext cx="1006560" cy="4572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28" descr=""/>
          <p:cNvPicPr/>
          <p:nvPr/>
        </p:nvPicPr>
        <p:blipFill>
          <a:blip r:embed="rId19"/>
          <a:stretch/>
        </p:blipFill>
        <p:spPr>
          <a:xfrm>
            <a:off x="6553080" y="2514600"/>
            <a:ext cx="1173240" cy="380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29" descr=""/>
          <p:cNvPicPr/>
          <p:nvPr/>
        </p:nvPicPr>
        <p:blipFill>
          <a:blip r:embed="rId20"/>
          <a:stretch/>
        </p:blipFill>
        <p:spPr>
          <a:xfrm>
            <a:off x="1905120" y="5867280"/>
            <a:ext cx="1130040" cy="3049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30" descr="C:\Documents and Settings\jur\Desktop\logo.gif"/>
          <p:cNvPicPr/>
          <p:nvPr/>
        </p:nvPicPr>
        <p:blipFill>
          <a:blip r:embed="rId21"/>
          <a:stretch/>
        </p:blipFill>
        <p:spPr>
          <a:xfrm>
            <a:off x="2666880" y="3657600"/>
            <a:ext cx="1003320" cy="436680"/>
          </a:xfrm>
          <a:prstGeom prst="rect">
            <a:avLst/>
          </a:prstGeom>
          <a:ln w="0">
            <a:noFill/>
          </a:ln>
        </p:spPr>
      </p:pic>
      <p:sp>
        <p:nvSpPr>
          <p:cNvPr id="593" name="Slide Number Placeholder 7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6AA1-C757-45CD-83EC-C6294D10085A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594" name="Picture 30" descr="max_petroleum_logo.jpg"/>
          <p:cNvPicPr/>
          <p:nvPr/>
        </p:nvPicPr>
        <p:blipFill>
          <a:blip r:embed="rId22"/>
          <a:stretch/>
        </p:blipFill>
        <p:spPr>
          <a:xfrm>
            <a:off x="7086600" y="5867280"/>
            <a:ext cx="1279440" cy="2955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31" descr=""/>
          <p:cNvPicPr/>
          <p:nvPr/>
        </p:nvPicPr>
        <p:blipFill>
          <a:blip r:embed="rId23"/>
          <a:stretch/>
        </p:blipFill>
        <p:spPr>
          <a:xfrm>
            <a:off x="4648320" y="3009960"/>
            <a:ext cx="914400" cy="8762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4" descr="Kazakhstan Kagazy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5410080" y="3886200"/>
            <a:ext cx="990720" cy="27792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5" descr="\\Dc2\Data\Analysis\LEK\From JCL\Logos\ENRC logo.jpg"/>
          <p:cNvPicPr/>
          <p:nvPr/>
        </p:nvPicPr>
        <p:blipFill>
          <a:blip r:embed="rId26"/>
          <a:stretch/>
        </p:blipFill>
        <p:spPr>
          <a:xfrm>
            <a:off x="5181480" y="2514600"/>
            <a:ext cx="92880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a281e"/>
                </a:solidFill>
                <a:latin typeface="Arial"/>
              </a:rPr>
              <a:t>Стремительный рост цен сменился</a:t>
            </a:r>
            <a:br>
              <a:rPr sz="2700"/>
            </a:br>
            <a:r>
              <a:rPr b="0" lang="ru-RU" sz="2700" spc="-1" strike="noStrike">
                <a:solidFill>
                  <a:srgbClr val="0a281e"/>
                </a:solidFill>
                <a:latin typeface="Arial"/>
              </a:rPr>
              <a:t>снижением цен на недвижимость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4920" y="5181120"/>
            <a:ext cx="9278640" cy="1143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 fontScale="95000"/>
          </a:bodyPr>
          <a:p>
            <a:pPr marL="219960" indent="-2199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изис рынка недвижимости ударил по большому числу городов в мире. Ситуация в Алматы не является исключением</a:t>
            </a:r>
            <a:endParaRPr b="0" lang="en-US" sz="1400" spc="-1" strike="noStrike">
              <a:solidFill>
                <a:srgbClr val="0a281e"/>
              </a:solidFill>
              <a:latin typeface="Arial"/>
            </a:endParaRPr>
          </a:p>
          <a:p>
            <a:pPr marL="219960" indent="-2199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кризиса начала 90-х цены на землю для коммерческих целей в Японии упали на 80% от пика</a:t>
            </a:r>
            <a:endParaRPr b="0" lang="en-US" sz="1400" spc="-1" strike="noStrike">
              <a:solidFill>
                <a:srgbClr val="0a281e"/>
              </a:solidFill>
              <a:latin typeface="Arial"/>
            </a:endParaRPr>
          </a:p>
          <a:p>
            <a:pPr marL="219960" indent="-2199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сутствие доступа к кредитным ресурсам в прежних объёмах способствует снижению цен</a:t>
            </a:r>
            <a:endParaRPr b="0" lang="en-US" sz="1400" spc="-1" strike="noStrike">
              <a:solidFill>
                <a:srgbClr val="0a281e"/>
              </a:solidFill>
              <a:latin typeface="Arial"/>
            </a:endParaRPr>
          </a:p>
          <a:p>
            <a:pPr marL="219960" indent="-2199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роста цен требуется стабилизация ситуации в банковской сфере</a:t>
            </a:r>
            <a:endParaRPr b="0" lang="en-US" sz="1400" spc="-1" strike="noStrike">
              <a:solidFill>
                <a:srgbClr val="0a281e"/>
              </a:solidFill>
              <a:latin typeface="Arial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5029200" y="1371600"/>
          <a:ext cx="4324320" cy="3649680"/>
        </p:xfrm>
        <a:graphic>
          <a:graphicData uri="http://schemas.openxmlformats.org/drawingml/2006/table">
            <a:tbl>
              <a:tblPr/>
              <a:tblGrid>
                <a:gridCol w="4324320"/>
              </a:tblGrid>
              <a:tr h="287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декс цен на землю в Японии (6  городов</a:t>
                      </a: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(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пр</a:t>
                      </a: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2000=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00"/>
                    </a:solidFill>
                  </a:tcPr>
                </a:tc>
              </a:tr>
              <a:tr h="3362400">
                <a:tc>
                  <a:txBody>
                    <a:bodyPr lIns="0" rIns="0" tIns="720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fe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1" name=""/>
          <p:cNvGraphicFramePr/>
          <p:nvPr/>
        </p:nvGraphicFramePr>
        <p:xfrm>
          <a:off x="474840" y="1371600"/>
          <a:ext cx="4402080" cy="3649680"/>
        </p:xfrm>
        <a:graphic>
          <a:graphicData uri="http://schemas.openxmlformats.org/drawingml/2006/table">
            <a:tbl>
              <a:tblPr/>
              <a:tblGrid>
                <a:gridCol w="4402080"/>
              </a:tblGrid>
              <a:tr h="289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ны на жилую недвижимость в Алматы</a:t>
                      </a: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US$k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кв м</a:t>
                      </a: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00"/>
                    </a:solidFill>
                  </a:tcPr>
                </a:tc>
              </a:tr>
              <a:tr h="3360600">
                <a:tc>
                  <a:txBody>
                    <a:bodyPr lIns="0" rIns="0" tIns="720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fe2"/>
                    </a:solidFill>
                  </a:tcPr>
                </a:tc>
              </a:tr>
            </a:tbl>
          </a:graphicData>
        </a:graphic>
      </p:graphicFrame>
      <p:sp>
        <p:nvSpPr>
          <p:cNvPr id="602" name="Slide Number Placeholder 8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0355-D85B-4D3E-B29E-28D5C1A74B76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03" name="TextBox 9"/>
          <p:cNvSpPr/>
          <p:nvPr/>
        </p:nvSpPr>
        <p:spPr>
          <a:xfrm>
            <a:off x="471600" y="5029200"/>
            <a:ext cx="186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сточник: комбинированный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04" name="TextBox 10"/>
          <p:cNvSpPr/>
          <p:nvPr/>
        </p:nvSpPr>
        <p:spPr>
          <a:xfrm>
            <a:off x="4890960" y="5029200"/>
            <a:ext cx="23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: Japan Real Estate Institute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605" name="Picture 2" descr=""/>
          <p:cNvPicPr/>
          <p:nvPr/>
        </p:nvPicPr>
        <p:blipFill>
          <a:blip r:embed="rId1"/>
          <a:stretch/>
        </p:blipFill>
        <p:spPr>
          <a:xfrm>
            <a:off x="5086440" y="1695600"/>
            <a:ext cx="4209840" cy="32162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2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426708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7" name=""/>
          <p:cNvGraphicFramePr/>
          <p:nvPr/>
        </p:nvGraphicFramePr>
        <p:xfrm>
          <a:off x="533520" y="1371600"/>
          <a:ext cx="4324320" cy="3581280"/>
        </p:xfrm>
        <a:graphic>
          <a:graphicData uri="http://schemas.openxmlformats.org/drawingml/2006/table">
            <a:tbl>
              <a:tblPr/>
              <a:tblGrid>
                <a:gridCol w="4324320"/>
              </a:tblGrid>
              <a:tr h="281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вартира </a:t>
                      </a: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кв м / годовой доход семьи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лмат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00"/>
                    </a:solidFill>
                  </a:tcPr>
                </a:tc>
              </a:tr>
              <a:tr h="3300120">
                <a:tc>
                  <a:txBody>
                    <a:bodyPr lIns="0" rIns="0" tIns="720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fe2"/>
                    </a:solidFill>
                  </a:tcPr>
                </a:tc>
              </a:tr>
            </a:tbl>
          </a:graphicData>
        </a:graphic>
      </p:graphicFrame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929628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a281e"/>
                </a:solidFill>
                <a:latin typeface="Arial"/>
              </a:rPr>
              <a:t>Доступность жилой недвижимости в Алматы улучшилась,</a:t>
            </a:r>
            <a:br>
              <a:rPr sz="2400"/>
            </a:br>
            <a:r>
              <a:rPr b="0" lang="ru-RU" sz="2400" spc="-1" strike="noStrike">
                <a:solidFill>
                  <a:srgbClr val="0a281e"/>
                </a:solidFill>
                <a:latin typeface="Arial"/>
              </a:rPr>
              <a:t>но всё ещё остаётся за пределами международных норм</a:t>
            </a:r>
            <a:endParaRPr b="0" lang="en-US" sz="24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09" name="Slide Number Placeholder 8"/>
          <p:cNvSpPr/>
          <p:nvPr/>
        </p:nvSpPr>
        <p:spPr>
          <a:xfrm>
            <a:off x="7099200" y="638172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1013-A559-4799-8A5D-7C5FB1D2A56B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10" name="TextBox 9"/>
          <p:cNvSpPr/>
          <p:nvPr/>
        </p:nvSpPr>
        <p:spPr>
          <a:xfrm>
            <a:off x="564120" y="4952880"/>
            <a:ext cx="435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сточник: оценка Визор Капитал на основании статистических данных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11" name="TextBox 24"/>
          <p:cNvSpPr/>
          <p:nvPr/>
        </p:nvSpPr>
        <p:spPr>
          <a:xfrm>
            <a:off x="5146920" y="6305400"/>
            <a:ext cx="342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: 2009 International Housing Affordability Survey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12" name="TextBox 28"/>
          <p:cNvSpPr/>
          <p:nvPr/>
        </p:nvSpPr>
        <p:spPr>
          <a:xfrm>
            <a:off x="380880" y="5154480"/>
            <a:ext cx="45720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еждународные стандарты доступности жилья рекомендуют снижение цен относительно доходов населения н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50%</a:t>
            </a:r>
            <a:endParaRPr b="0" lang="en-US" sz="1500" spc="-1" strike="noStrike">
              <a:solidFill>
                <a:srgbClr val="000000"/>
              </a:solidFill>
              <a:latin typeface="Dax-Medium"/>
            </a:endParaRPr>
          </a:p>
          <a:p>
            <a:pPr marL="264960" indent="-2649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 реальности могут вмешаться дополнительные факторы</a:t>
            </a:r>
            <a:endParaRPr b="0" lang="en-US" sz="15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13" name="TextBox 16"/>
          <p:cNvSpPr/>
          <p:nvPr/>
        </p:nvSpPr>
        <p:spPr>
          <a:xfrm>
            <a:off x="5029200" y="1295280"/>
            <a:ext cx="42670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еждународная шкала дотупности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дианная цена жилья к медианному семейном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довому доход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Dax-Mediu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айне недоступное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1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боле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Dax-Mediu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льно недоступное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1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5.0)</a:t>
            </a:r>
            <a:endParaRPr b="0" lang="en-US" sz="1400" spc="-1" strike="noStrike">
              <a:solidFill>
                <a:srgbClr val="000000"/>
              </a:solidFill>
              <a:latin typeface="Dax-Mediu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меренно недоступно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1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0)</a:t>
            </a:r>
            <a:endParaRPr b="0" lang="en-US" sz="1400" spc="-1" strike="noStrike">
              <a:solidFill>
                <a:srgbClr val="000000"/>
              </a:solidFill>
              <a:latin typeface="Dax-Mediu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ступно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3.0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мене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614" name="Picture 4" descr=""/>
          <p:cNvPicPr/>
          <p:nvPr/>
        </p:nvPicPr>
        <p:blipFill>
          <a:blip r:embed="rId1"/>
          <a:stretch/>
        </p:blipFill>
        <p:spPr>
          <a:xfrm>
            <a:off x="571680" y="1676520"/>
            <a:ext cx="4228920" cy="3224160"/>
          </a:xfrm>
          <a:prstGeom prst="rect">
            <a:avLst/>
          </a:prstGeom>
          <a:ln w="0">
            <a:noFill/>
          </a:ln>
        </p:spPr>
      </p:pic>
      <p:cxnSp>
        <p:nvCxnSpPr>
          <p:cNvPr id="615" name="Прямая со стрелкой 22"/>
          <p:cNvCxnSpPr/>
          <p:nvPr/>
        </p:nvCxnSpPr>
        <p:spPr>
          <a:xfrm>
            <a:off x="4418640" y="3428640"/>
            <a:ext cx="229320" cy="610200"/>
          </a:xfrm>
          <a:prstGeom prst="straightConnector1">
            <a:avLst/>
          </a:prstGeom>
          <a:ln w="41400">
            <a:solidFill>
              <a:srgbClr val="c00000"/>
            </a:solidFill>
            <a:prstDash val="sysDash"/>
            <a:miter/>
            <a:tailEnd len="med" type="arrow" w="med"/>
          </a:ln>
        </p:spPr>
      </p:cxnSp>
      <p:graphicFrame>
        <p:nvGraphicFramePr>
          <p:cNvPr id="616" name=""/>
          <p:cNvGraphicFramePr/>
          <p:nvPr/>
        </p:nvGraphicFramePr>
        <p:xfrm>
          <a:off x="5181480" y="2971800"/>
          <a:ext cx="3733920" cy="3200400"/>
        </p:xfrm>
        <a:graphic>
          <a:graphicData uri="http://schemas.openxmlformats.org/drawingml/2006/table">
            <a:tbl>
              <a:tblPr/>
              <a:tblGrid>
                <a:gridCol w="249480"/>
                <a:gridCol w="946080"/>
                <a:gridCol w="1584360"/>
                <a:gridCol w="477720"/>
                <a:gridCol w="476280"/>
              </a:tblGrid>
              <a:tr h="169200">
                <a:tc gridSpan="5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блица: Рынки с наименее доступным жильё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н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US" sz="1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stralia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shine Coast, QLD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9.6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3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ed States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nolulu, HI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9.1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3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stralia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ld Coast, QLD-NSW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8.7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3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nada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ncouver, BC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8.4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3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stralia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dney, NSW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8.3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ed States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 Francisco-Oakland, CA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1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8.0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3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ed States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 Jose, CA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1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7.4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3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nada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ctoria, BC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7.4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3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ed States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 Luis Obispo, CA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7.3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3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stralia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ndaberg, QLD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7.2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3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ed States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s Angeles, CA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1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7.2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3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stralia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elaide, SA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7.1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3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stralia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lbourne, VIC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7.1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3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stralia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durah, WA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1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7.0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3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ed States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 York, NY-NJ-PA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7.0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ed Kingdom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lfast, Northern Ireland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1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6.9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ed Kingdom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ndon, England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6.9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a281e"/>
                </a:solidFill>
                <a:latin typeface="Arial"/>
              </a:rPr>
              <a:t>Рост цен на недвижимость прекратился за 3-4 месяца </a:t>
            </a:r>
            <a:r>
              <a:rPr b="0" lang="ru-RU" sz="2700" spc="-1" strike="noStrike" u="sng">
                <a:solidFill>
                  <a:srgbClr val="0a281e"/>
                </a:solidFill>
                <a:uFillTx/>
                <a:latin typeface="Arial"/>
              </a:rPr>
              <a:t>до</a:t>
            </a:r>
            <a:r>
              <a:rPr b="0" lang="ru-RU" sz="2700" spc="-1" strike="noStrike">
                <a:solidFill>
                  <a:srgbClr val="0a281e"/>
                </a:solidFill>
                <a:latin typeface="Arial"/>
              </a:rPr>
              <a:t> первого удара кризиса по банковской системе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6840" y="5410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marL="225360" indent="-2253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лабление требований к заёмщикам не смогло поддержать рост цен весной-летом 2007 года</a:t>
            </a:r>
            <a:endParaRPr b="0" lang="en-US" sz="1400" spc="-1" strike="noStrike">
              <a:solidFill>
                <a:srgbClr val="0a281e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январ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9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год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вестиции в жилищное строительство упали н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60% MoM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US$110m/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с</a:t>
            </a:r>
            <a:endParaRPr b="0" lang="en-US" sz="1400" spc="-1" strike="noStrike">
              <a:solidFill>
                <a:srgbClr val="0a281e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июне инвестиции восстановились до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$200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/мес (средний уровень 2008 года), доля собственных инвестиций населения резко возрасла до 60% с 30%</a:t>
            </a:r>
            <a:endParaRPr b="0" lang="en-US" sz="1400" spc="-1" strike="noStrike">
              <a:solidFill>
                <a:srgbClr val="0a281e"/>
              </a:solidFill>
              <a:latin typeface="Arial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533520" y="1371600"/>
          <a:ext cx="4324320" cy="3649680"/>
        </p:xfrm>
        <a:graphic>
          <a:graphicData uri="http://schemas.openxmlformats.org/drawingml/2006/table">
            <a:tbl>
              <a:tblPr/>
              <a:tblGrid>
                <a:gridCol w="4324320"/>
              </a:tblGrid>
              <a:tr h="287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на на недвижимость в Алматы и портфель бан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00"/>
                    </a:solidFill>
                  </a:tcPr>
                </a:tc>
              </a:tr>
              <a:tr h="3362400">
                <a:tc>
                  <a:txBody>
                    <a:bodyPr lIns="0" rIns="0" tIns="720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fe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0" name=""/>
          <p:cNvGraphicFramePr/>
          <p:nvPr/>
        </p:nvGraphicFramePr>
        <p:xfrm>
          <a:off x="4952880" y="1371600"/>
          <a:ext cx="4402080" cy="3649680"/>
        </p:xfrm>
        <a:graphic>
          <a:graphicData uri="http://schemas.openxmlformats.org/drawingml/2006/table">
            <a:tbl>
              <a:tblPr/>
              <a:tblGrid>
                <a:gridCol w="4402080"/>
              </a:tblGrid>
              <a:tr h="289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илая недвижимость в Алматы и Москве</a:t>
                      </a: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US$k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кв 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00"/>
                    </a:solidFill>
                  </a:tcPr>
                </a:tc>
              </a:tr>
              <a:tr h="3360600">
                <a:tc>
                  <a:txBody>
                    <a:bodyPr lIns="0" rIns="0" tIns="720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fe2"/>
                    </a:solidFill>
                  </a:tcPr>
                </a:tc>
              </a:tr>
            </a:tbl>
          </a:graphicData>
        </a:graphic>
      </p:graphicFrame>
      <p:sp>
        <p:nvSpPr>
          <p:cNvPr id="621" name="Slide Number Placeholder 8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825A-E9F8-4156-BC57-A72F4D23DDDB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22" name="TextBox 10"/>
          <p:cNvSpPr/>
          <p:nvPr/>
        </p:nvSpPr>
        <p:spPr>
          <a:xfrm>
            <a:off x="559080" y="5029200"/>
            <a:ext cx="355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сточник: Национальный Банк РК, АФН, газета «Крыша»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623" name="Picture 7" descr=""/>
          <p:cNvPicPr/>
          <p:nvPr/>
        </p:nvPicPr>
        <p:blipFill>
          <a:blip r:embed="rId1"/>
          <a:stretch/>
        </p:blipFill>
        <p:spPr>
          <a:xfrm>
            <a:off x="590400" y="1676520"/>
            <a:ext cx="4210200" cy="3216240"/>
          </a:xfrm>
          <a:prstGeom prst="rect">
            <a:avLst/>
          </a:prstGeom>
          <a:ln w="0">
            <a:noFill/>
          </a:ln>
        </p:spPr>
      </p:pic>
      <p:sp>
        <p:nvSpPr>
          <p:cNvPr id="624" name="Прямая соединительная линия 17"/>
          <p:cNvSpPr/>
          <p:nvPr/>
        </p:nvSpPr>
        <p:spPr>
          <a:xfrm flipH="1">
            <a:off x="3543480" y="1677960"/>
            <a:ext cx="1440" cy="2362320"/>
          </a:xfrm>
          <a:prstGeom prst="line">
            <a:avLst/>
          </a:prstGeom>
          <a:ln w="255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25" name="Прямая соединительная линия 20"/>
          <p:cNvSpPr/>
          <p:nvPr/>
        </p:nvSpPr>
        <p:spPr>
          <a:xfrm flipH="1">
            <a:off x="3362400" y="1676520"/>
            <a:ext cx="1440" cy="2361960"/>
          </a:xfrm>
          <a:prstGeom prst="line">
            <a:avLst/>
          </a:prstGeom>
          <a:ln w="255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26" name="Прямая соединительная линия 22"/>
          <p:cNvSpPr/>
          <p:nvPr/>
        </p:nvSpPr>
        <p:spPr>
          <a:xfrm>
            <a:off x="2590920" y="1905120"/>
            <a:ext cx="1218960" cy="144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27" name="Прямая соединительная линия 25"/>
          <p:cNvSpPr/>
          <p:nvPr/>
        </p:nvSpPr>
        <p:spPr>
          <a:xfrm>
            <a:off x="2514600" y="1905120"/>
            <a:ext cx="838080" cy="144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28" name="Прямая соединительная линия 26"/>
          <p:cNvSpPr/>
          <p:nvPr/>
        </p:nvSpPr>
        <p:spPr>
          <a:xfrm>
            <a:off x="3543480" y="1905120"/>
            <a:ext cx="380880" cy="144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29" name="TextBox 29"/>
          <p:cNvSpPr/>
          <p:nvPr/>
        </p:nvSpPr>
        <p:spPr>
          <a:xfrm>
            <a:off x="2519280" y="1676520"/>
            <a:ext cx="85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3-4 months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630" name="Picture 2" descr=""/>
          <p:cNvPicPr/>
          <p:nvPr/>
        </p:nvPicPr>
        <p:blipFill>
          <a:blip r:embed="rId2"/>
          <a:stretch/>
        </p:blipFill>
        <p:spPr>
          <a:xfrm>
            <a:off x="5024520" y="1690560"/>
            <a:ext cx="4268880" cy="3171960"/>
          </a:xfrm>
          <a:prstGeom prst="rect">
            <a:avLst/>
          </a:prstGeom>
          <a:ln w="0">
            <a:noFill/>
          </a:ln>
        </p:spPr>
      </p:pic>
      <p:sp>
        <p:nvSpPr>
          <p:cNvPr id="631" name="TextBox 21"/>
          <p:cNvSpPr/>
          <p:nvPr/>
        </p:nvSpPr>
        <p:spPr>
          <a:xfrm>
            <a:off x="4983120" y="5029200"/>
            <a:ext cx="413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сточник: газеты «Крыша», «Недвижимость», индекс «МетрИнфо»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a281e"/>
                </a:solidFill>
                <a:latin typeface="Arial"/>
              </a:rPr>
              <a:t>Сверхвысокие компенсации способствовали</a:t>
            </a:r>
            <a:br>
              <a:rPr sz="2700"/>
            </a:br>
            <a:r>
              <a:rPr b="0" lang="ru-RU" sz="2700" spc="-1" strike="noStrike">
                <a:solidFill>
                  <a:srgbClr val="0a281e"/>
                </a:solidFill>
                <a:latin typeface="Arial"/>
              </a:rPr>
              <a:t>росту пузыря в</a:t>
            </a: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 2005-2007</a:t>
            </a:r>
            <a:r>
              <a:rPr b="0" lang="ru-RU" sz="2700" spc="-1" strike="noStrike">
                <a:solidFill>
                  <a:srgbClr val="0a281e"/>
                </a:solidFill>
                <a:latin typeface="Arial"/>
              </a:rPr>
              <a:t> годах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560" y="518112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 fontScale="94000"/>
          </a:bodyPr>
          <a:p>
            <a:pPr marL="167040" indent="-1670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оительные компании платили до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$2k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за кв м земли в Алматы в качестве компенсаций за снесённое жильё 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-2007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годах, когда были массово начаты строительные проекты</a:t>
            </a:r>
            <a:endParaRPr b="0" lang="en-US" sz="1400" spc="-1" strike="noStrike">
              <a:solidFill>
                <a:srgbClr val="0a281e"/>
              </a:solidFill>
              <a:latin typeface="Arial"/>
            </a:endParaRPr>
          </a:p>
          <a:p>
            <a:pPr marL="167040" indent="-1670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оительные компании вероятно заплатил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US$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n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 землю для проектов, которые сейчас заморожены</a:t>
            </a:r>
            <a:endParaRPr b="0" lang="en-US" sz="1400" spc="-1" strike="noStrike">
              <a:solidFill>
                <a:srgbClr val="0a281e"/>
              </a:solidFill>
              <a:latin typeface="Arial"/>
            </a:endParaRPr>
          </a:p>
          <a:p>
            <a:pPr marL="167040" indent="-1670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пике цены на жилую недвижимость были близки к ценам в Москве</a:t>
            </a:r>
            <a:endParaRPr b="0" lang="en-US" sz="1400" spc="-1" strike="noStrike">
              <a:solidFill>
                <a:srgbClr val="0a281e"/>
              </a:solidFill>
              <a:latin typeface="Arial"/>
            </a:endParaRPr>
          </a:p>
          <a:p>
            <a:pPr marL="167040" indent="-1670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нкам пришлось резко сократить объёмы кредитования в августе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года</a:t>
            </a:r>
            <a:endParaRPr b="0" lang="en-US" sz="1400" spc="-1" strike="noStrike">
              <a:solidFill>
                <a:srgbClr val="0a281e"/>
              </a:solidFill>
              <a:latin typeface="Arial"/>
            </a:endParaRPr>
          </a:p>
          <a:p>
            <a:pPr marL="167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a281e"/>
              </a:solidFill>
              <a:latin typeface="Arial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5029200" y="1371600"/>
          <a:ext cx="4324320" cy="3581280"/>
        </p:xfrm>
        <a:graphic>
          <a:graphicData uri="http://schemas.openxmlformats.org/drawingml/2006/table">
            <a:tbl>
              <a:tblPr/>
              <a:tblGrid>
                <a:gridCol w="4324320"/>
              </a:tblGrid>
              <a:tr h="281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сроченные платежи строительного сектора</a:t>
                      </a: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US$b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00"/>
                    </a:solidFill>
                  </a:tcPr>
                </a:tc>
              </a:tr>
              <a:tr h="3300120">
                <a:tc>
                  <a:txBody>
                    <a:bodyPr lIns="0" rIns="0" tIns="720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fe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5" name=""/>
          <p:cNvGraphicFramePr/>
          <p:nvPr/>
        </p:nvGraphicFramePr>
        <p:xfrm>
          <a:off x="474840" y="1371600"/>
          <a:ext cx="4402080" cy="3581280"/>
        </p:xfrm>
        <a:graphic>
          <a:graphicData uri="http://schemas.openxmlformats.org/drawingml/2006/table">
            <a:tbl>
              <a:tblPr/>
              <a:tblGrid>
                <a:gridCol w="4402080"/>
              </a:tblGrid>
              <a:tr h="284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вые займы сектору недвижимости</a:t>
                      </a: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US$bn/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</a:t>
                      </a: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00"/>
                    </a:solidFill>
                  </a:tcPr>
                </a:tc>
              </a:tr>
              <a:tr h="3297240">
                <a:tc>
                  <a:txBody>
                    <a:bodyPr lIns="0" rIns="0" tIns="720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fe2"/>
                    </a:solidFill>
                  </a:tcPr>
                </a:tc>
              </a:tr>
            </a:tbl>
          </a:graphicData>
        </a:graphic>
      </p:graphicFrame>
      <p:sp>
        <p:nvSpPr>
          <p:cNvPr id="636" name="Slide Number Placeholder 8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51D2-E4F4-4900-9890-A932E5A05CC6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37" name="TextBox 11"/>
          <p:cNvSpPr/>
          <p:nvPr/>
        </p:nvSpPr>
        <p:spPr>
          <a:xfrm>
            <a:off x="500400" y="4952880"/>
            <a:ext cx="355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сточник: Национальный Банк РК, АФН, газета «Крыша»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38" name="TextBox 13"/>
          <p:cNvSpPr/>
          <p:nvPr/>
        </p:nvSpPr>
        <p:spPr>
          <a:xfrm>
            <a:off x="5032800" y="4952880"/>
            <a:ext cx="21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сточник: Национальный Банк РК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639" name="Picture 3" descr=""/>
          <p:cNvPicPr/>
          <p:nvPr/>
        </p:nvPicPr>
        <p:blipFill>
          <a:blip r:embed="rId1"/>
          <a:stretch/>
        </p:blipFill>
        <p:spPr>
          <a:xfrm>
            <a:off x="5146560" y="1730520"/>
            <a:ext cx="4075200" cy="31035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3" descr=""/>
          <p:cNvPicPr/>
          <p:nvPr/>
        </p:nvPicPr>
        <p:blipFill>
          <a:blip r:embed="rId2"/>
          <a:stretch/>
        </p:blipFill>
        <p:spPr>
          <a:xfrm>
            <a:off x="546120" y="1689120"/>
            <a:ext cx="422892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a281e"/>
                </a:solidFill>
                <a:latin typeface="Arial"/>
              </a:rPr>
              <a:t>Кредиты корпоративным заёмщикам являются основным источником проблем для банков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6840" y="5333760"/>
            <a:ext cx="9126360" cy="1066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marL="177840" indent="-177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сроченная задолженность достигл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a281e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%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строительств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5%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ипотеке жилого имущества</a:t>
            </a:r>
            <a:endParaRPr b="0" lang="en-US" sz="1400" spc="-1" strike="noStrike">
              <a:solidFill>
                <a:srgbClr val="0a281e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рговля и строительство отвественны 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уммы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срочек</a:t>
            </a:r>
            <a:endParaRPr b="0" lang="en-US" sz="1400" spc="-1" strike="noStrike">
              <a:solidFill>
                <a:srgbClr val="0a281e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чество кредитов производству, с/х и потребительских кредитов также ухудшилось</a:t>
            </a:r>
            <a:endParaRPr b="0" lang="en-US" sz="1400" spc="-1" strike="noStrike">
              <a:solidFill>
                <a:srgbClr val="0a281e"/>
              </a:solidFill>
              <a:latin typeface="Arial"/>
            </a:endParaRPr>
          </a:p>
        </p:txBody>
      </p:sp>
      <p:graphicFrame>
        <p:nvGraphicFramePr>
          <p:cNvPr id="643" name=""/>
          <p:cNvGraphicFramePr/>
          <p:nvPr/>
        </p:nvGraphicFramePr>
        <p:xfrm>
          <a:off x="5029200" y="1371600"/>
          <a:ext cx="4324320" cy="3649680"/>
        </p:xfrm>
        <a:graphic>
          <a:graphicData uri="http://schemas.openxmlformats.org/drawingml/2006/table">
            <a:tbl>
              <a:tblPr/>
              <a:tblGrid>
                <a:gridCol w="4324320"/>
              </a:tblGrid>
              <a:tr h="287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едитный портфель банков (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$6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5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n)(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юль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200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00"/>
                    </a:solidFill>
                  </a:tcPr>
                </a:tc>
              </a:tr>
              <a:tr h="3362400">
                <a:tc>
                  <a:txBody>
                    <a:bodyPr lIns="0" rIns="0" tIns="720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fe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4" name=""/>
          <p:cNvGraphicFramePr/>
          <p:nvPr/>
        </p:nvGraphicFramePr>
        <p:xfrm>
          <a:off x="474840" y="1371600"/>
          <a:ext cx="4402080" cy="3649680"/>
        </p:xfrm>
        <a:graphic>
          <a:graphicData uri="http://schemas.openxmlformats.org/drawingml/2006/table">
            <a:tbl>
              <a:tblPr/>
              <a:tblGrid>
                <a:gridCol w="4402080"/>
              </a:tblGrid>
              <a:tr h="289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сроченные платежи в % от кредитов сектор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00"/>
                    </a:solidFill>
                  </a:tcPr>
                </a:tc>
              </a:tr>
              <a:tr h="3360600">
                <a:tc>
                  <a:txBody>
                    <a:bodyPr lIns="0" rIns="0" tIns="720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fe2"/>
                    </a:solidFill>
                  </a:tcPr>
                </a:tc>
              </a:tr>
            </a:tbl>
          </a:graphicData>
        </a:graphic>
      </p:graphicFrame>
      <p:sp>
        <p:nvSpPr>
          <p:cNvPr id="645" name="Slide Number Placeholder 8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563C-4827-4393-AAE2-01E5CF811A8A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46" name="TextBox 9"/>
          <p:cNvSpPr/>
          <p:nvPr/>
        </p:nvSpPr>
        <p:spPr>
          <a:xfrm>
            <a:off x="407880" y="5029200"/>
            <a:ext cx="35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сточник: Национальный Банк РК, оценка Визор Капитал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47" name="TextBox 15"/>
          <p:cNvSpPr/>
          <p:nvPr/>
        </p:nvSpPr>
        <p:spPr>
          <a:xfrm>
            <a:off x="5041080" y="5041800"/>
            <a:ext cx="390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сточник: Национальный Банк РК, АФН, оценка Визор Капитал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648" name="Picture 5" descr=""/>
          <p:cNvPicPr/>
          <p:nvPr/>
        </p:nvPicPr>
        <p:blipFill>
          <a:blip r:embed="rId1"/>
          <a:stretch/>
        </p:blipFill>
        <p:spPr>
          <a:xfrm>
            <a:off x="5079960" y="1739880"/>
            <a:ext cx="4235400" cy="31114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6" descr=""/>
          <p:cNvPicPr/>
          <p:nvPr/>
        </p:nvPicPr>
        <p:blipFill>
          <a:blip r:embed="rId2"/>
          <a:stretch/>
        </p:blipFill>
        <p:spPr>
          <a:xfrm>
            <a:off x="533520" y="1689120"/>
            <a:ext cx="428616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5T05:16:52Z</dcterms:created>
  <dc:creator>Yuriy Khramtsov</dc:creator>
  <dc:description>khsoft@mail.ru, yuk@visocap.com
+7 777 261 7842, +7 727 356 0793</dc:description>
  <dc:language>en-US</dc:language>
  <cp:lastModifiedBy>User</cp:lastModifiedBy>
  <dcterms:modified xsi:type="dcterms:W3CDTF">2009-09-01T10:51:05Z</dcterms:modified>
  <cp:revision>1001</cp:revision>
  <dc:subject/>
  <dc:title>Риски: управлять или избегать</dc:title>
</cp:coreProperties>
</file>