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3.wmf" ContentType="image/x-wmf"/>
  <Override PartName="/ppt/media/image31.jpeg" ContentType="image/jpeg"/>
  <Override PartName="/ppt/media/image47.wmf" ContentType="image/x-wmf"/>
  <Override PartName="/ppt/media/image4.png" ContentType="image/png"/>
  <Override PartName="/ppt/media/image27.png" ContentType="image/png"/>
  <Override PartName="/ppt/media/image35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3.png" ContentType="image/png"/>
  <Override PartName="/ppt/media/image44.png" ContentType="image/png"/>
  <Override PartName="/ppt/media/image34.wmf" ContentType="image/x-wmf"/>
  <Override PartName="/ppt/media/image46.wmf" ContentType="image/x-wmf"/>
  <Override PartName="/ppt/media/image36.wmf" ContentType="image/x-wmf"/>
  <Override PartName="/ppt/media/image48.wmf" ContentType="image/x-wmf"/>
  <Override PartName="/ppt/media/image30.png" ContentType="image/png"/>
  <Override PartName="/ppt/media/image13.wmf" ContentType="image/x-wmf"/>
  <Override PartName="/ppt/media/image5.png" ContentType="image/png"/>
  <Override PartName="/ppt/media/image11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22.jpeg" ContentType="image/jpeg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media/image14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907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2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991800" y="693360"/>
            <a:ext cx="503892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move the slide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3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4"/>
          </p:nvPr>
        </p:nvSpPr>
        <p:spPr>
          <a:xfrm>
            <a:off x="3971880" y="8827560"/>
            <a:ext cx="3036960" cy="46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4002-5F6D-4508-9E8E-D5B725027B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5969-42A3-4498-9F58-0A7C289C2D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3CA8-F487-4610-82F8-B7D5390BC2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0D9A77E5-812A-4E09-AB80-383A6F1BD0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87480" y="723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055160" y="4467240"/>
            <a:ext cx="49388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8054A8-4D70-439A-9EF1-2ECE5BA8A8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87480" y="723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057320" y="4463640"/>
            <a:ext cx="49356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3751B2-6BD0-452D-ADE9-5256CDA42C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A37696C-71D0-4E90-B0AE-8FCB63D849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27200"/>
            <a:ext cx="5027760" cy="34812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057320" y="4467240"/>
            <a:ext cx="49356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CE0F-2CB7-4B68-AE8D-9E1A82EF02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3AE9-D7F5-496E-BE85-398C48D236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B76F-B937-470C-B5A1-C32218E40B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88CC-3274-461A-9CF7-D02699334D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92160" y="693720"/>
            <a:ext cx="5038920" cy="34894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Номер слайда 3"/>
          <p:cNvSpPr/>
          <p:nvPr/>
        </p:nvSpPr>
        <p:spPr>
          <a:xfrm>
            <a:off x="397188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D14F-965E-4C50-A4DA-4BE3691CC4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E634-DDF3-41DF-8053-2A02A1A84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DA54-8EA8-42F6-853F-5C10250A514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F3832-2934-4F83-A604-B3FBD9C1B3F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847C4-FC69-4E80-88D9-1879CE1323C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23592-5824-4BBA-8DB2-ABB57C2BB0E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D794F-2BAA-4F24-A3AD-B41EE34DB9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D0CE0-0C91-4E65-BE0D-BF12DFFB23F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1513F-DF66-4CE9-8230-C0BA65E4552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2B151-FBD4-42D1-9EFD-93A42AEDF33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9655F-BBD9-46F2-9618-F4F98725005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D6D09-712C-499B-8478-4787598F2E4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051EF-7608-4D4D-A246-B1B9017C0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72DD-F3F1-43BD-93BF-7A439F3F45D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761B-6494-434E-A1D4-07FF3EF9C81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E308-DE38-456E-A566-E6973D12667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2738-B11C-4AA4-AF4C-3211881250B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88FA-C6DC-4892-A14F-3E2E626A59D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6265-11AC-4AA2-8AF4-C220903016E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5C99-E48C-41E4-B620-1BBFDF04041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6037-320A-4536-9988-7A42EA482E6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B7B6-6EBE-49B4-8DC0-A158735B307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7DF9-914B-474D-8D94-676B0A0DA1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0C8E0-C840-40E6-B29F-BB3D03539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B42D-27CB-4A40-85E0-F12B1905135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4115-932C-4BDD-B1C8-E01131E2D68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CD98D-2C1E-44FF-BC7B-A58C04A0726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4C4AED-43C5-48E4-8E97-80A5044EB05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88E05-DB1C-4F45-9339-5E630A557C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17DBE-72D7-4056-897D-BF88BC3B3D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8BD1F-3AA2-48D1-812D-93A5DBFDE72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65A66-B8C9-4A25-A747-69FDE5FF7FC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439BA-4CC9-4801-ACFF-97F99C1B55A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C328A-236D-4836-8A71-D258C415D12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A074F-B248-4862-B0D3-9A8C6A92B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9D142-7CC6-441B-A0BA-83ACD4238B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BF19D9-9884-471E-BFB6-67B5899D84A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C746D-CEAC-4BD3-B543-F555092D2B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C6F77-32F4-4341-9844-699C49D8973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C84C0-4D8B-4276-BA11-EBAD41A4FC8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0F811-C8D0-4E2F-A741-5782368EDE6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07033-05E0-46D8-80F9-AAAA305ACE4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58190-72D4-4516-9ECE-010341E179D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0692D-D211-433B-AA32-A351BFCE521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CC584-27DE-4E4F-9AF9-CE13448928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399DC3-3DA0-4822-BC32-AE35EB483D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D8DF9-1356-4B5C-AA79-AAE4FD5700E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315107-4A00-4D85-A2EA-F7047D74631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72E59-2784-4419-8970-D5C1F83263C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5C156-A582-4BF2-9FB5-7DA54AA0F9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C6C7-311C-4701-89DB-01CC8927E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F573-6737-43E9-8789-0398A14E93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A863-26AD-403A-B5D8-C795E51E12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AA3E-3735-4900-9D7E-B1F4F91335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B870-8CD1-417D-8420-DB5DFC9A2B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7507-92CD-479E-895C-0990862DB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01CD-9FA6-423C-B956-D11F938206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E95C-4A2D-481C-9B2C-84ABE8D935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40F1-A778-485A-9FF4-8E0EB07221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E033-C38C-4A50-A391-4E471DCFD2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C6A4-8470-4281-A622-4DF339A3D0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AB5D-8791-4A01-9C23-194146414F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EE87-DCF8-4B23-8AFB-59B6840406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8D36-2310-4920-8C75-65E559AF64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378-502B-4611-89B0-C43588EC1F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B51-3369-416A-A9D8-02426C2C3C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F98-8916-4103-9F6D-ED1F48D7B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F462-52A5-48A0-9F8F-1A6457AC61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65E-3FCC-4854-AEE8-99F832D1BC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54F-D816-4397-8034-0DA2AF7174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E54-2100-44BC-A535-51F9ED4CD1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579-CD1D-458F-9561-B8316D1A71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17A-7635-41DC-8318-EC4E8F21A7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8DA-BD98-455B-8438-AAA8EDFD18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B22-C586-4A59-84F6-2CA0D3161C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CA6-13C5-480F-A3B8-F38B6B221A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2C8-646F-429F-96F3-55A0687BAC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6FEF1-649D-4DA4-AFC3-F63A49A3A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E948-9B0F-4786-B17C-03E3D7EB07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60AAF-F132-4FBA-9BF1-70397BCCFEC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EEC33-291E-4363-B4A1-CD62378AFA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338BA-7DA7-456E-BD99-A9F57E8400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6B560-9D01-4173-826B-433833E181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73689-CDED-41A8-B791-8AA6427976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3BD21-C373-4C8D-B468-959826C92C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F45BD-C3F1-4CF9-A7A8-ADE8B0E9ED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7CE9-FA38-4DB5-913D-6160A0995B2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ECB51-6F43-481A-9AB6-513F1551288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A7674-EE57-4B22-B58C-CE464B324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5F57-47E9-4510-889D-412DE23F993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F8CFB-2CAA-418E-A0BD-75D1D956BA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BA815-891C-42FF-BC70-3518F223C5B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BDD56-4BBA-47F7-B552-D536F3F66F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919CA-9530-4F64-AF7A-44F796709C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2B55-68ED-4075-9077-E65844F800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C5F6E-2106-4EF4-807D-8F3DA1935B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87401-9A29-4C3E-A637-D4922A99351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6B213-A6E3-43D0-BC52-219A4188E13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90603-3D56-4A38-9CD4-83223B47E04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91003-DE87-4756-9E9C-06E750212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6491-7180-4C11-A840-FF881D19400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847A7-57DE-4091-85A0-9F53B78C58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C45BD-BE5A-4544-BE0F-136F949CC6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04947-3F81-4D50-9861-E27BA02A581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2C15-3D71-49B9-9159-3291265F3E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B5EE-8139-4E4C-B6E9-D9EE217CD6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B613-3844-41B9-8480-FFEB83E485E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751A-4A9B-4EC1-B916-393F03DCF19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F287-0FAE-484D-920A-6E3274A3B6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105F-07E7-4A5C-8E4F-12E9FD6BF1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A1FE-1EC8-4707-8525-3EA30B55C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5754-F2C6-434A-948E-EC4B69C6086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1E38-EAC7-4F11-8A81-9E02785A82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2DAB-91F5-45BA-996D-27F4C0BB5A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7A39-A926-4224-BE24-BCFBAB7747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2D6D-5A13-43F1-9E4D-F2F277AC9A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1E79-9879-43AA-8FFC-987E9236E23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EA41E-7D2B-4B54-B8D2-BFC7F9AA08D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E102E-B17E-431A-8AC3-F5CC1C7E9BB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77F449-8081-4103-B8A7-B4FE1C5BCBE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87E94-F4E9-4E08-97AE-281C86026DB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15227-4401-465E-AE5C-3C55095BE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7953-7ECE-4417-AF30-D69C895D125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915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3AB73-D6DA-4EEA-B5F6-C91612B44F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C933B-B21B-41FA-9763-10C64A6A9C7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41D86-816D-484B-A57D-C385B3B5D2B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9EDD2-ABB6-4118-A4BC-E7BBDDEFA1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863BD1-F55C-4B2D-BF91-76093243A5A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06FD9-A097-44CE-A35A-30E17B4A53E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1FE72B-5469-4755-8FCA-D4723297686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5250F-C6FC-4449-912E-F04012244EA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44C2B-474D-4761-B1E1-368464D22E0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95591-BF59-4209-9845-E4FB2A27F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2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3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D9EF-E79A-43A3-B5B1-5B7D014056B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387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388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BC8D-3757-444A-8B0D-2FC8D0839182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430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431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1DF8-5198-4F44-9069-89B79023D960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473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474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1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99DD-DE5B-4D86-916C-801DA5947AC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logo"/>
          <p:cNvPicPr/>
          <p:nvPr/>
        </p:nvPicPr>
        <p:blipFill>
          <a:blip r:embed="rId2"/>
          <a:stretch/>
        </p:blipFill>
        <p:spPr>
          <a:xfrm>
            <a:off x="760320" y="2517840"/>
            <a:ext cx="2146320" cy="622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93680" y="6491160"/>
            <a:ext cx="3276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825480" y="3200400"/>
            <a:ext cx="8255160" cy="0"/>
          </a:xfrm>
          <a:prstGeom prst="line">
            <a:avLst/>
          </a:prstGeom>
          <a:ln w="9360">
            <a:solidFill>
              <a:srgbClr val="0a2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86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87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DB2B-57C6-467A-852C-0F6A3D341F2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129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130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8E82-17C1-4796-AFA5-FD511374977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172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173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4"/>
          </p:nvPr>
        </p:nvSpPr>
        <p:spPr>
          <a:xfrm>
            <a:off x="709884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4523-6944-4F7F-B9C2-5998D6817458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215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216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8734-D0AA-422F-A79A-E060BC9018A2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258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259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B8B1-6B9D-40B8-A770-38122157476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301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302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5BD9-C90B-497B-B2E5-5A46626097FA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95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  <a:p>
            <a:pPr marL="385920" indent="-385920">
              <a:lnSpc>
                <a:spcPct val="100000"/>
              </a:lnSpc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95360" y="533520"/>
            <a:ext cx="891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344" name="Picture 12" descr="logo"/>
          <p:cNvPicPr/>
          <p:nvPr/>
        </p:nvPicPr>
        <p:blipFill>
          <a:blip r:embed="rId2"/>
          <a:stretch/>
        </p:blipFill>
        <p:spPr>
          <a:xfrm>
            <a:off x="474840" y="6264360"/>
            <a:ext cx="1506240" cy="436320"/>
          </a:xfrm>
          <a:prstGeom prst="rect">
            <a:avLst/>
          </a:prstGeom>
          <a:ln w="0">
            <a:noFill/>
          </a:ln>
        </p:spPr>
      </p:pic>
      <p:sp>
        <p:nvSpPr>
          <p:cNvPr id="345" name="Line 13"/>
          <p:cNvSpPr/>
          <p:nvPr/>
        </p:nvSpPr>
        <p:spPr>
          <a:xfrm>
            <a:off x="495360" y="12952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-51480" bIns="-51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5920" indent="-385920">
              <a:spcBef>
                <a:spcPts val="675"/>
              </a:spcBef>
              <a:buClr>
                <a:srgbClr val="0a281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1" marL="836640" indent="-322200">
              <a:spcBef>
                <a:spcPts val="675"/>
              </a:spcBef>
              <a:buClr>
                <a:srgbClr val="0a281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2" marL="1289160" indent="-257400">
              <a:spcBef>
                <a:spcPts val="675"/>
              </a:spcBef>
              <a:buClr>
                <a:srgbClr val="0a2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3" marL="1805040" indent="-257400">
              <a:spcBef>
                <a:spcPts val="675"/>
              </a:spcBef>
              <a:buClr>
                <a:srgbClr val="0a28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4" marL="2320920" indent="-257040">
              <a:spcBef>
                <a:spcPts val="675"/>
              </a:spcBef>
              <a:buClr>
                <a:srgbClr val="0a28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5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  <a:p>
            <a:pPr lvl="6" marL="2320920" indent="-2570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5A35-8660-46EB-9410-08C464F35A4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uk@visocap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jpeg"/><Relationship Id="rId17" Type="http://schemas.openxmlformats.org/officeDocument/2006/relationships/image" Target="../media/image23.png"/><Relationship Id="rId18" Type="http://schemas.openxmlformats.org/officeDocument/2006/relationships/image" Target="../media/image24.jpe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jpeg"/><Relationship Id="rId23" Type="http://schemas.openxmlformats.org/officeDocument/2006/relationships/image" Target="../media/image29.png"/><Relationship Id="rId24" Type="http://schemas.openxmlformats.org/officeDocument/2006/relationships/hyperlink" Target="http://www.kazakhstankagazy.com/en" TargetMode="External"/><Relationship Id="rId25" Type="http://schemas.openxmlformats.org/officeDocument/2006/relationships/image" Target="../media/image30.png"/><Relationship Id="rId26" Type="http://schemas.openxmlformats.org/officeDocument/2006/relationships/image" Target="../media/image31.jpeg"/><Relationship Id="rId27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43120" y="3350160"/>
            <a:ext cx="761508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281e"/>
                </a:solidFill>
                <a:latin typeface="Arial"/>
              </a:rPr>
              <a:t>Риски: управлять или избегать?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281e"/>
                </a:solidFill>
                <a:latin typeface="Arial"/>
              </a:rPr>
              <a:t>Негативный опыт рынка недвижимости 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a281e"/>
                </a:solidFill>
                <a:latin typeface="Arial"/>
              </a:rPr>
              <a:t>Юрий Храмцов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yuk@visocap.c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+7 727 356 0793 )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838080" y="5029200"/>
            <a:ext cx="214632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a281e"/>
                </a:solidFill>
                <a:latin typeface="Arial"/>
              </a:rPr>
              <a:t>4 сентября,</a:t>
            </a:r>
            <a:r>
              <a:rPr b="0" lang="en-US" sz="1100" spc="-1" strike="noStrike">
                <a:solidFill>
                  <a:srgbClr val="0a281e"/>
                </a:solidFill>
                <a:latin typeface="Arial"/>
              </a:rPr>
              <a:t> 2009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7390800" y="2716920"/>
            <a:ext cx="1758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a281e"/>
                </a:solidFill>
                <a:latin typeface="Arial"/>
              </a:rPr>
              <a:t>Economics</a:t>
            </a:r>
            <a:endParaRPr b="0" lang="en-US" sz="25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2095560" y="11430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281e"/>
                </a:solidFill>
                <a:latin typeface="Arial"/>
              </a:rPr>
              <a:t>III Ежегодная конференция</a:t>
            </a:r>
            <a:endParaRPr b="0" lang="en-US" sz="24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281e"/>
                </a:solidFill>
                <a:latin typeface="Arial"/>
              </a:rPr>
              <a:t>Казахстанской фондовой биржи</a:t>
            </a:r>
            <a:endParaRPr b="0" lang="en-US" sz="24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281e"/>
                </a:solidFill>
                <a:latin typeface="Arial"/>
              </a:rPr>
              <a:t>по финансовому рынку</a:t>
            </a:r>
            <a:endParaRPr b="0" lang="en-US" sz="24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"/>
          <p:cNvGraphicFramePr/>
          <p:nvPr/>
        </p:nvGraphicFramePr>
        <p:xfrm>
          <a:off x="5046840" y="1336680"/>
          <a:ext cx="4402080" cy="3616200"/>
        </p:xfrm>
        <a:graphic>
          <a:graphicData uri="http://schemas.openxmlformats.org/drawingml/2006/table">
            <a:tbl>
              <a:tblPr/>
              <a:tblGrid>
                <a:gridCol w="4402080"/>
              </a:tblGrid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ботающие кредиты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(%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портфеля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3036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550800" y="1336680"/>
          <a:ext cx="4419720" cy="361620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ые кредиты за 12 мес (% от текущего объём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3216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Банки имели возможность заменить б</a:t>
            </a:r>
            <a:r>
              <a:rPr b="0" i="1" lang="ru-RU" sz="2700" spc="-1" strike="noStrike">
                <a:solidFill>
                  <a:srgbClr val="0a281e"/>
                </a:solidFill>
                <a:latin typeface="Arial"/>
              </a:rPr>
              <a:t>о</a:t>
            </a: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льшую часть</a:t>
            </a: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своего кредитного портфеля в </a:t>
            </a: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2007</a:t>
            </a: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 году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53" name="Slide Number Placeholder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E89F-3C6D-45E1-86E4-CF195EEF36B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457200" y="5194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marL="225360" indent="-22536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онце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2007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года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marL="225360" indent="-22536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срочные займы составляли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%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я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marL="225360" indent="-22536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нные за 12 месяцев 2007 года новые долгосрочные кредиты вероятно составили до 69% от общего портфеля банковского сектора на конец периода (до 86% от объёма долгосрочных кредитов)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marL="225360" indent="-22536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ботающие кредиты могут составлять до 20% от казахстанского портфеля банковской системы, и быть на экстримально высоких уровнях для иностранной его части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55" name="TextBox 12"/>
          <p:cNvSpPr/>
          <p:nvPr/>
        </p:nvSpPr>
        <p:spPr>
          <a:xfrm>
            <a:off x="5091840" y="4935600"/>
            <a:ext cx="35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оценка Визор Капитал, Национальный Банк РК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616680" y="4932360"/>
            <a:ext cx="35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оценка Визор Капитал, Национальный Банк РК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57" name="Picture 6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292640" cy="31654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"/>
          <p:cNvPicPr/>
          <p:nvPr/>
        </p:nvPicPr>
        <p:blipFill>
          <a:blip r:embed="rId2"/>
          <a:stretch/>
        </p:blipFill>
        <p:spPr>
          <a:xfrm>
            <a:off x="5124600" y="1650960"/>
            <a:ext cx="42224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«Что делать»?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60" name="Slide Number Placeholder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9CE2-FC1B-48FD-838B-532F5118E9A1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61" name="TextBox 3"/>
          <p:cNvSpPr/>
          <p:nvPr/>
        </p:nvSpPr>
        <p:spPr>
          <a:xfrm>
            <a:off x="457200" y="1447920"/>
            <a:ext cx="8915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ьёзно относиться к фундаментальным факторам и правильно их интерпретировать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миться к удешевлению себестоимости строительства при фиксированном качестве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ивно вовлекать больше людей в реальную экономику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ть эффективность труда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ть важность контрольных функций кредитной системы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ствовать статистику и отчётность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«Что делать с рисками»?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2CDC-AE09-4D6A-B718-C77DC610B96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rcRect l="0" t="4462" r="2016" b="4834"/>
          <a:stretch/>
        </p:blipFill>
        <p:spPr>
          <a:xfrm>
            <a:off x="3276720" y="1600200"/>
            <a:ext cx="6019560" cy="4648320"/>
          </a:xfrm>
          <a:prstGeom prst="rect">
            <a:avLst/>
          </a:prstGeom>
          <a:ln w="0">
            <a:noFill/>
          </a:ln>
        </p:spPr>
      </p:pic>
      <p:sp>
        <p:nvSpPr>
          <p:cNvPr id="665" name="TextBox 3"/>
          <p:cNvSpPr/>
          <p:nvPr/>
        </p:nvSpPr>
        <p:spPr>
          <a:xfrm>
            <a:off x="457200" y="1447920"/>
            <a:ext cx="5715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ять, опираясь на глубинное понимание процессов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  <a:p>
            <a:pPr marL="270000" indent="-270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здавать риски собственноручно</a:t>
            </a:r>
            <a:endParaRPr b="0" lang="en-US" sz="16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67" name="Slide Number Placeholder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E244-683A-49FF-BE9F-E118CFC6F0B4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68" name="TextBox 3"/>
          <p:cNvSpPr/>
          <p:nvPr/>
        </p:nvSpPr>
        <p:spPr>
          <a:xfrm>
            <a:off x="3710880" y="289080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81e"/>
                </a:solidFill>
                <a:latin typeface="Arial"/>
              </a:rPr>
              <a:t>Visor Capital</a:t>
            </a:r>
            <a:endParaRPr b="0" lang="en-US" sz="32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193680" y="660564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0" name="Rectangle 66"/>
          <p:cNvSpPr/>
          <p:nvPr/>
        </p:nvSpPr>
        <p:spPr>
          <a:xfrm>
            <a:off x="328680" y="360360"/>
            <a:ext cx="92487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ша команда корпоративных финансов выступала консультантом в ряде успешных сделок на территории Казахстана, Кыргызстана, России, Непала, Узбекистана и Камбоджи</a:t>
            </a:r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1" name="Rectangle 104"/>
          <p:cNvSpPr/>
          <p:nvPr/>
        </p:nvSpPr>
        <p:spPr>
          <a:xfrm>
            <a:off x="1911240" y="1436760"/>
            <a:ext cx="75628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lvl="1" marL="44784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 – Стефан Шольц, более 18 лет работы в международной банковской сфере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тефан работает над проектами в сфере поглощений и слияний, а также рынков капитала, включая первичное размещение акций (IPO) в Казахстане и Европе, включая Лондон. Стефан является членом Международного Консультационного Совета Регионального Финансового Центра Алматы.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1" marL="44784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Команда Visor Capital поддерживает прочные отношения с инвестиционным сообществом развивающегося рынка, внутренними и международными клиентами, и всеми крупными международными инвестиционными банками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Жозе Луиз Гавиао: 15 лет работы на рынках долгового капитала на развивающихся рынках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анжар Козыбаев: 12 лет опыта работы по реализации сделок в нефтегазовой отрасли в странах СНГ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Адам Весткотт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0 лет опыта в стратегическом консалтинге, а также опыт работы на рынках акционерного капитала с уклоном на нефтегазовой и горнодобывающих отраслях 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Индира Калиаскарова: 8 лет опыта работы по предоставлению консультаций в нефтегазовой отрасли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Имраан Мохаммед: 7 лет опыта работы в области различных сделок по поглощениям и слияниям на развивающихся рынках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1" marL="44784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Мы имеем опыт координации сложных международных сделок и понимаем предпочтения, как местных, так и международных инвесторов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ша компания выступала в качестве ведущего менеджера по единственной сделки с двойным листингом казахстанской компании на КФБ и Лондонской Фондовой Бирже (РД КМГ)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2" marL="89532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 настоящее время мы являемся консультантом в ряде крупных сделок по поглощениям и слияниям, а также сделок на рынках капитала, листинг которых, по ожиданиям, будет проведен на КФБ, СТП РФЦА и международных фондовых биржах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lvl="1" marL="447840" indent="-266760" algn="just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Опыт и успех в сфере реализации сложных сделок в различных отраслях экономики служат основой  нашей репутации новаторства, превосходности и надежности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2" name="Line 106"/>
          <p:cNvSpPr/>
          <p:nvPr/>
        </p:nvSpPr>
        <p:spPr>
          <a:xfrm flipV="1">
            <a:off x="1911240" y="1265040"/>
            <a:ext cx="0" cy="463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3" name="Rectangle 8"/>
          <p:cNvSpPr/>
          <p:nvPr/>
        </p:nvSpPr>
        <p:spPr>
          <a:xfrm>
            <a:off x="431640" y="1835280"/>
            <a:ext cx="14893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бедитель банковской премии 2009г. по ЦВЕ и СНГ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учший инвестиционный банк Казахстана ”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дущая команда специалистов по корпоративным финансам и сделкам по поглощениям и слияния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74" name="Picture 9" descr="C:\Documents and Settings\aiy\My Documents\Aizhan\My Pictures\emea-logo.gif"/>
          <p:cNvPicPr/>
          <p:nvPr/>
        </p:nvPicPr>
        <p:blipFill>
          <a:blip r:embed="rId1"/>
          <a:stretch/>
        </p:blipFill>
        <p:spPr>
          <a:xfrm>
            <a:off x="565200" y="1514520"/>
            <a:ext cx="1195200" cy="244440"/>
          </a:xfrm>
          <a:prstGeom prst="rect">
            <a:avLst/>
          </a:prstGeom>
          <a:ln w="0">
            <a:noFill/>
          </a:ln>
        </p:spPr>
      </p:pic>
      <p:sp>
        <p:nvSpPr>
          <p:cNvPr id="675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B11A-6521-48BB-8E8D-EFE15A323F08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96"/>
          <p:cNvSpPr/>
          <p:nvPr/>
        </p:nvSpPr>
        <p:spPr>
          <a:xfrm>
            <a:off x="1733400" y="1357200"/>
            <a:ext cx="51181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lvl="1" marL="628560" indent="-2714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лавой департамента выступает Жан-Кристоф Лермюзьё, ведущий аналитик в области технологий, за плечами которого более 11 лет профессиональной деятельности   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рвый Банк в Казахстане, выпустивший аналитический отчет в соответствии с международными стандартами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оманда осуществляет анализ различных секторов промышленности с помощью специализированных отраслевых экспертов в области: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ефти и газа;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Металлургии и горнодобывающей промышленности;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ых учреждений;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ьства и инфраструктуры; 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лекоммуникаций, энергоресурсов и розничной торговли.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В дополнение к отраслевым исследованиям, Аналитический департамент Visor Capital осуществляет анализ тенденций и характеристик секторов, предлагая инвесторам специализированные и заказные отчеты : 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Ежедневный обзор инвестиционных новостей Центральной Азии;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Макроэкономические отчеты;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311120" indent="-345960" algn="just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Еженедельный обзор по облигациям и ежеквартальный по пенсионным фондам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лобальная рассылка аналитических исследований квалифицированным учреждениям, преимущественно в Великобритании, России и Азии. В США рассылка выполняется через ведущего брокера, специализирующегося на неамериканских акциях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uerbach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Grayson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5000" y="417240"/>
            <a:ext cx="891540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ша команда аналитиков предоставляет исчерпывающий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ый обзор казахстанского рынка</a:t>
            </a:r>
            <a:endParaRPr b="0" lang="en-US" sz="20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193680" y="6491160"/>
            <a:ext cx="327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79" name="Line 106"/>
          <p:cNvSpPr/>
          <p:nvPr/>
        </p:nvSpPr>
        <p:spPr>
          <a:xfrm flipV="1">
            <a:off x="1911240" y="1265040"/>
            <a:ext cx="0" cy="463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80" name="Rectangle 107"/>
          <p:cNvSpPr/>
          <p:nvPr/>
        </p:nvSpPr>
        <p:spPr>
          <a:xfrm>
            <a:off x="509760" y="1987560"/>
            <a:ext cx="130644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009 Thomson Extel Survey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учшие аналитические исследования по Казахста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81" name="Picture 28" descr=""/>
          <p:cNvPicPr/>
          <p:nvPr/>
        </p:nvPicPr>
        <p:blipFill>
          <a:blip r:embed="rId1"/>
          <a:stretch/>
        </p:blipFill>
        <p:spPr>
          <a:xfrm>
            <a:off x="6916680" y="3897360"/>
            <a:ext cx="1278000" cy="17114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88"/>
          <p:cNvSpPr/>
          <p:nvPr/>
        </p:nvSpPr>
        <p:spPr>
          <a:xfrm>
            <a:off x="7499520" y="4251240"/>
            <a:ext cx="1295280" cy="1717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83" name="Rectangle 88"/>
          <p:cNvSpPr/>
          <p:nvPr/>
        </p:nvSpPr>
        <p:spPr>
          <a:xfrm>
            <a:off x="6908760" y="3897360"/>
            <a:ext cx="1295280" cy="171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84" name="Picture 5" descr=""/>
          <p:cNvPicPr/>
          <p:nvPr/>
        </p:nvPicPr>
        <p:blipFill>
          <a:blip r:embed="rId2"/>
          <a:stretch/>
        </p:blipFill>
        <p:spPr>
          <a:xfrm>
            <a:off x="7507440" y="4278240"/>
            <a:ext cx="1280880" cy="16653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4" descr=""/>
          <p:cNvPicPr/>
          <p:nvPr/>
        </p:nvPicPr>
        <p:blipFill>
          <a:blip r:embed="rId3"/>
          <a:srcRect l="0" t="0" r="5702" b="0"/>
          <a:stretch/>
        </p:blipFill>
        <p:spPr>
          <a:xfrm>
            <a:off x="8166240" y="4559400"/>
            <a:ext cx="1226880" cy="16621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85"/>
          <p:cNvSpPr/>
          <p:nvPr/>
        </p:nvSpPr>
        <p:spPr>
          <a:xfrm>
            <a:off x="8155080" y="4546440"/>
            <a:ext cx="1238040" cy="1683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87" name="Rectangle 88"/>
          <p:cNvSpPr/>
          <p:nvPr/>
        </p:nvSpPr>
        <p:spPr>
          <a:xfrm>
            <a:off x="6964200" y="1531800"/>
            <a:ext cx="1295640" cy="1717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88" name="Picture 24" descr=""/>
          <p:cNvPicPr/>
          <p:nvPr/>
        </p:nvPicPr>
        <p:blipFill>
          <a:blip r:embed="rId4"/>
          <a:stretch/>
        </p:blipFill>
        <p:spPr>
          <a:xfrm>
            <a:off x="6973920" y="1539720"/>
            <a:ext cx="1306440" cy="171000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91"/>
          <p:cNvSpPr/>
          <p:nvPr/>
        </p:nvSpPr>
        <p:spPr>
          <a:xfrm>
            <a:off x="7513560" y="1820880"/>
            <a:ext cx="1295640" cy="168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90" name="Picture 4" descr=""/>
          <p:cNvPicPr/>
          <p:nvPr/>
        </p:nvPicPr>
        <p:blipFill>
          <a:blip r:embed="rId5"/>
          <a:stretch/>
        </p:blipFill>
        <p:spPr>
          <a:xfrm>
            <a:off x="7523280" y="1835280"/>
            <a:ext cx="1280880" cy="16682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" descr=""/>
          <p:cNvPicPr/>
          <p:nvPr/>
        </p:nvPicPr>
        <p:blipFill>
          <a:blip r:embed="rId6"/>
          <a:stretch/>
        </p:blipFill>
        <p:spPr>
          <a:xfrm>
            <a:off x="8074080" y="2222640"/>
            <a:ext cx="1279440" cy="16588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1"/>
          <p:cNvSpPr/>
          <p:nvPr/>
        </p:nvSpPr>
        <p:spPr>
          <a:xfrm>
            <a:off x="8066160" y="2206800"/>
            <a:ext cx="1295280" cy="1682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grpSp>
        <p:nvGrpSpPr>
          <p:cNvPr id="693" name="Group 34"/>
          <p:cNvGrpSpPr/>
          <p:nvPr/>
        </p:nvGrpSpPr>
        <p:grpSpPr>
          <a:xfrm>
            <a:off x="512640" y="1455840"/>
            <a:ext cx="1316160" cy="416880"/>
            <a:chOff x="512640" y="1455840"/>
            <a:chExt cx="1316160" cy="416880"/>
          </a:xfrm>
        </p:grpSpPr>
        <p:pic>
          <p:nvPicPr>
            <p:cNvPr id="694" name="Picture 35" descr="thomson reuters"/>
            <p:cNvPicPr/>
            <p:nvPr/>
          </p:nvPicPr>
          <p:blipFill>
            <a:blip r:embed="rId7"/>
            <a:stretch/>
          </p:blipFill>
          <p:spPr>
            <a:xfrm>
              <a:off x="648360" y="1455840"/>
              <a:ext cx="1014120" cy="2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36" descr="Extel"/>
            <p:cNvPicPr/>
            <p:nvPr/>
          </p:nvPicPr>
          <p:blipFill>
            <a:blip r:embed="rId8"/>
            <a:srcRect l="0" t="0" r="47027" b="34722"/>
            <a:stretch/>
          </p:blipFill>
          <p:spPr>
            <a:xfrm>
              <a:off x="512640" y="1697040"/>
              <a:ext cx="1316160" cy="17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BD7D-75C0-4D89-9E14-2DFBECC2A461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503280" y="2286000"/>
            <a:ext cx="147780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Лучший брокерский дом -Казахстан”</a:t>
            </a: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1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98" name="Picture 8" descr="a4elogo"/>
          <p:cNvPicPr/>
          <p:nvPr/>
        </p:nvPicPr>
        <p:blipFill>
          <a:blip r:embed="rId1"/>
          <a:stretch/>
        </p:blipFill>
        <p:spPr>
          <a:xfrm>
            <a:off x="514440" y="1295280"/>
            <a:ext cx="1396800" cy="965160"/>
          </a:xfrm>
          <a:prstGeom prst="rect">
            <a:avLst/>
          </a:prstGeom>
          <a:ln w="0">
            <a:noFill/>
          </a:ln>
        </p:spPr>
      </p:pic>
      <p:sp>
        <p:nvSpPr>
          <p:cNvPr id="699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7970-FA99-47B5-94F0-76D5E9501C29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7800" y="380880"/>
            <a:ext cx="9249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анда трейдеров предоставляет лучшие инвестиционные иде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черпывающие сведения о рынке и обеспечивает безупречное исполнение сделок</a:t>
            </a:r>
            <a:endParaRPr b="0" lang="en-US" sz="20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910880" y="1353600"/>
            <a:ext cx="7417080" cy="4781880"/>
          </a:xfrm>
          <a:prstGeom prst="rect">
            <a:avLst/>
          </a:prstGeom>
          <a:noFill/>
          <a:ln w="0">
            <a:noFill/>
          </a:ln>
        </p:spPr>
        <p:txBody>
          <a:bodyPr lIns="31680" rIns="63360" tIns="0" bIns="0" anchor="t">
            <a:normAutofit/>
          </a:bodyPr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Являясь зарегистрированным брокером/дилером, мы оказываем услуги как на рынке долгового, так и акционерного капитала международным компаниям и компаниям Центральной Азии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 дополнение к исполнению сделок и торговле акциями, включенными в списки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KASE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мы являемся активными игроками на рынке ценных бумаг казахстанских эмитентов. Мы также облегчаем процесс проведения торгов облигациями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казначейскими векселями, и проводим сделки РЕПО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У нас имеется доступ к широкой базе клиентов в Казахстане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ключая пенсионные  и инвестиционные фонды, а также других участников рынка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ша команда, осуществляющая торговые и брокерские операции, состоит из опытных местных и западных специалистов, работающих в Алматы, Лондоне и Пекине и располагающих глубоким пониманием рынков капитала и опытом работы на развивающихся рынках и в странах СНГ, предлагая полный спектр услуг по акциям Казахстанских эмитентов. 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Алматы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-266760" algn="just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Гордон Андерсон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более 10 лет опыта работы в сфере брокерской деятельности</a:t>
            </a:r>
            <a:endParaRPr b="0" lang="en-US" sz="9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Лондон 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-266760" algn="just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айджел Баллок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более 14 лет опыта работы в области торговли финансовыми инструментами</a:t>
            </a:r>
            <a:endParaRPr b="0" lang="en-US" sz="9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-266760" algn="just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Гай Маршал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более 13 лет опыта в сфере продаж на развивающихся рынках </a:t>
            </a:r>
            <a:endParaRPr b="0" lang="en-US" sz="9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0" algn="just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3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 algn="just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екин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809640" indent="-266760" algn="just"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kk-KZ" sz="900" spc="-1" strike="noStrike">
                <a:solidFill>
                  <a:srgbClr val="000000"/>
                </a:solidFill>
                <a:latin typeface="Arial"/>
                <a:ea typeface="Arial"/>
              </a:rPr>
              <a:t>Густав Рамель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более 12 лет опыта работы  в  области торговли финансовыми инструментами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 Европе и Азии</a:t>
            </a:r>
            <a:endParaRPr b="0" lang="en-US" sz="9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702" name="Line 4"/>
          <p:cNvSpPr/>
          <p:nvPr/>
        </p:nvSpPr>
        <p:spPr>
          <a:xfrm flipV="1">
            <a:off x="1968480" y="1294920"/>
            <a:ext cx="0" cy="463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4"/>
          <p:cNvSpPr/>
          <p:nvPr/>
        </p:nvSpPr>
        <p:spPr>
          <a:xfrm>
            <a:off x="709920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3152-4CB6-407A-AA1B-060E17EF92E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533520" y="4768920"/>
            <a:ext cx="879768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тказ от ответственности: </a:t>
            </a:r>
            <a:endParaRPr b="0" lang="en-US" sz="800" spc="-1" strike="noStrike">
              <a:solidFill>
                <a:srgbClr val="0a281e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нная презентация была подготовлена исключительно в Ваших интересах и для Вашего внутреннего пользования для того, чтобы предварительно определить осуществимость возможной сделки или сделок и не дает никакого права опубликования или разглашения любой третьей сторон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нная презентация является неполной без ссылки н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должна просматриваться исключительно вместе с устным объяснением, предоставляемым компанией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or Capital.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и данная презентация, ни какая-либо информация, содержащаяся в ней, не могут использоваться ни в каких других целях без предварительного письменного согласи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or Capital.</a:t>
            </a:r>
            <a:endParaRPr b="0" lang="en-US" sz="800" spc="-1" strike="noStrike">
              <a:solidFill>
                <a:srgbClr val="0a281e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800" spc="-1" strike="noStrike">
              <a:solidFill>
                <a:srgbClr val="0a281e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isor Capital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 несет никакой ответственности за независимую проверку любых сведений, содержащихся в данной презентации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том числе оценочного материала, предоставленного получателю сего в отношении любых дальнейших исследований возможных сделок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  Visor Capital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 делает и не предоставляет никаких явно выраженных или подразумеваемых заявлений или гарантий в отношении точности или полноты содержащейся информации или упущений, имеющихся в данной презентации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дополнение к этому,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isor Capital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ясно опровергает любую ответственность, которая может вытекать из такой информации, ошибок и упущений в ней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a28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409"/>
          <p:cNvSpPr/>
          <p:nvPr/>
        </p:nvSpPr>
        <p:spPr>
          <a:xfrm>
            <a:off x="3714840" y="4430880"/>
            <a:ext cx="305424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налитические исследования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фть и газ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таллургия и горнодобывающая промышленность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овые учреждения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роительство и инфраструктура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лекоммуникации, энергоресурсы и розничная торговля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696E-E398-4A79-9098-69AFBE3B85EB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495360" y="403200"/>
            <a:ext cx="89154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or Capital </a:t>
            </a: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четание международного опыта с локальными знаниями</a:t>
            </a: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8" name="TextBox 381"/>
          <p:cNvSpPr/>
          <p:nvPr/>
        </p:nvSpPr>
        <p:spPr>
          <a:xfrm>
            <a:off x="7264440" y="1611360"/>
            <a:ext cx="23367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mon Capital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вестиционный банк, СП в Таджикистане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казывает консультационные услуги в сфере корпоративных финансов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29" name="TextBox 382"/>
          <p:cNvSpPr/>
          <p:nvPr/>
        </p:nvSpPr>
        <p:spPr>
          <a:xfrm>
            <a:off x="7264440" y="2362320"/>
            <a:ext cx="22003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фисы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sor Group 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ношения с региональными клиентами и партнерами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и представительств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фисы в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lvl="1" marL="34776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маты, Казахстан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lvl="1" marL="34776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сква, Россия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lvl="1" marL="34776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ишкек, Кыргызстан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lvl="1" marL="34776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ашкент, Узбекистан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lvl="1" marL="34776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шхабад, Туркменистан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0" name="Rectangle 383"/>
          <p:cNvSpPr/>
          <p:nvPr/>
        </p:nvSpPr>
        <p:spPr>
          <a:xfrm>
            <a:off x="7346880" y="1236600"/>
            <a:ext cx="2063880" cy="21132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53753" dir="2700000" blurRad="0" rotWithShape="0">
              <a:srgbClr val="c6da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1" name="TextBox 384"/>
          <p:cNvSpPr/>
          <p:nvPr/>
        </p:nvSpPr>
        <p:spPr>
          <a:xfrm>
            <a:off x="7346880" y="1219320"/>
            <a:ext cx="222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Arial"/>
              </a:rPr>
              <a:t>Аффилиированные лица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isor Capital 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2" name="Straight Connector 385"/>
          <p:cNvSpPr/>
          <p:nvPr/>
        </p:nvSpPr>
        <p:spPr>
          <a:xfrm>
            <a:off x="7346880" y="1779480"/>
            <a:ext cx="2063880" cy="1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3" name="Straight Connector 386"/>
          <p:cNvSpPr/>
          <p:nvPr/>
        </p:nvSpPr>
        <p:spPr>
          <a:xfrm>
            <a:off x="7346880" y="2530440"/>
            <a:ext cx="2063880" cy="1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4" name="Freeform 639"/>
          <p:cNvSpPr/>
          <p:nvPr/>
        </p:nvSpPr>
        <p:spPr>
          <a:xfrm>
            <a:off x="93600" y="2514600"/>
            <a:ext cx="52560" cy="360360"/>
          </a:xfrm>
          <a:prstGeom prst="pie">
            <a:avLst/>
          </a:prstGeom>
          <a:solidFill>
            <a:srgbClr val="bbe0e3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5" name="Freeform 640"/>
          <p:cNvSpPr/>
          <p:nvPr/>
        </p:nvSpPr>
        <p:spPr>
          <a:xfrm>
            <a:off x="93600" y="2514600"/>
            <a:ext cx="52560" cy="360360"/>
          </a:xfrm>
          <a:prstGeom prst="pie">
            <a:avLst/>
          </a:prstGeom>
          <a:solidFill>
            <a:srgbClr val="bbe0e3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6" name="Freeform 661"/>
          <p:cNvSpPr/>
          <p:nvPr/>
        </p:nvSpPr>
        <p:spPr>
          <a:xfrm>
            <a:off x="-11160" y="2913120"/>
            <a:ext cx="14400" cy="360360"/>
          </a:xfrm>
          <a:prstGeom prst="pie">
            <a:avLst/>
          </a:prstGeom>
          <a:solidFill>
            <a:srgbClr val="bbe0e3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7" name="Freeform 662"/>
          <p:cNvSpPr/>
          <p:nvPr/>
        </p:nvSpPr>
        <p:spPr>
          <a:xfrm>
            <a:off x="-11160" y="2913120"/>
            <a:ext cx="14400" cy="360360"/>
          </a:xfrm>
          <a:prstGeom prst="pie">
            <a:avLst/>
          </a:prstGeom>
          <a:solidFill>
            <a:srgbClr val="bbe0e3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8" name="TextBox 391"/>
          <p:cNvSpPr/>
          <p:nvPr/>
        </p:nvSpPr>
        <p:spPr>
          <a:xfrm>
            <a:off x="496800" y="2357280"/>
            <a:ext cx="2146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ондон, Великобритания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крывает рынки Европы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казывает брокерские услуги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39" name="TextBox 392"/>
          <p:cNvSpPr/>
          <p:nvPr/>
        </p:nvSpPr>
        <p:spPr>
          <a:xfrm>
            <a:off x="487440" y="1438200"/>
            <a:ext cx="2155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Головной офис в Алматы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крывает рынки СНГ и Центральной Азии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оставляет  консультационные, брокерские и аналитические услуги в финансовой отрасли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0" name="TextBox 393"/>
          <p:cNvSpPr/>
          <p:nvPr/>
        </p:nvSpPr>
        <p:spPr>
          <a:xfrm>
            <a:off x="487440" y="2928960"/>
            <a:ext cx="1650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кин, Китай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крывает азиатские рынки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казывает брокерские услуги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1" name="TextBox 394"/>
          <p:cNvSpPr/>
          <p:nvPr/>
        </p:nvSpPr>
        <p:spPr>
          <a:xfrm>
            <a:off x="495360" y="3575160"/>
            <a:ext cx="209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убаи, ОАЭ (на стадии подготовки)</a:t>
            </a:r>
            <a:endParaRPr b="0" lang="en-US" sz="8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крывает рынки Ближнего Востока</a:t>
            </a:r>
            <a:endParaRPr b="0" lang="en-US" sz="700" spc="-1" strike="noStrike">
              <a:solidFill>
                <a:srgbClr val="000000"/>
              </a:solidFill>
              <a:latin typeface="Dax-Medium"/>
            </a:endParaRPr>
          </a:p>
          <a:p>
            <a:pPr marL="55440" indent="-55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казывает консультационные услуги в сфере корпоративных финансов </a:t>
            </a:r>
            <a:endParaRPr b="0" lang="en-US" sz="7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2" name="Rectangle 395"/>
          <p:cNvSpPr/>
          <p:nvPr/>
        </p:nvSpPr>
        <p:spPr>
          <a:xfrm>
            <a:off x="496800" y="1219320"/>
            <a:ext cx="2157480" cy="2109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53753" dir="2700000" blurRad="0" rotWithShape="0">
              <a:srgbClr val="c6da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3" name="TextBox 396"/>
          <p:cNvSpPr/>
          <p:nvPr/>
        </p:nvSpPr>
        <p:spPr>
          <a:xfrm>
            <a:off x="496800" y="1219320"/>
            <a:ext cx="181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Офисы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isor Capital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4" name="Straight Connector 397"/>
          <p:cNvSpPr/>
          <p:nvPr/>
        </p:nvSpPr>
        <p:spPr>
          <a:xfrm>
            <a:off x="495360" y="1600200"/>
            <a:ext cx="21463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5" name="Straight Connector 398"/>
          <p:cNvSpPr/>
          <p:nvPr/>
        </p:nvSpPr>
        <p:spPr>
          <a:xfrm>
            <a:off x="496800" y="2519280"/>
            <a:ext cx="2146320" cy="9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6" name="Straight Connector 399"/>
          <p:cNvSpPr/>
          <p:nvPr/>
        </p:nvSpPr>
        <p:spPr>
          <a:xfrm>
            <a:off x="496800" y="3098880"/>
            <a:ext cx="21463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7" name="Straight Connector 400"/>
          <p:cNvSpPr/>
          <p:nvPr/>
        </p:nvSpPr>
        <p:spPr>
          <a:xfrm>
            <a:off x="496800" y="3743280"/>
            <a:ext cx="2146320" cy="11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8" name="Rectangle 401"/>
          <p:cNvSpPr/>
          <p:nvPr/>
        </p:nvSpPr>
        <p:spPr>
          <a:xfrm>
            <a:off x="495360" y="4200480"/>
            <a:ext cx="89154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53753" dir="2700000" blurRad="0" rotWithShape="0">
              <a:srgbClr val="c6da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49" name="TextBox 402"/>
          <p:cNvSpPr/>
          <p:nvPr/>
        </p:nvSpPr>
        <p:spPr>
          <a:xfrm>
            <a:off x="495360" y="4199040"/>
            <a:ext cx="8750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isor Capital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предлагает полный спектр профессиональных услуг в сфере инвестиционного банкинга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50" name="Rectangle 408"/>
          <p:cNvSpPr/>
          <p:nvPr/>
        </p:nvSpPr>
        <p:spPr>
          <a:xfrm>
            <a:off x="495360" y="4437000"/>
            <a:ext cx="25527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вестиционный Банкинг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ияния и поглощения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3" marL="347760" indent="-11916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купка, продажа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ынки акционерного капитала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3" marL="347760" indent="-11916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PO,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вторичное предложение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3" marL="347760" indent="-11916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Частное размещение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ынки долгового капитала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руктурное финансирование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19160" indent="-11916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рпоративная реструктуризация и приватизация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51" name="Rectangle 410"/>
          <p:cNvSpPr/>
          <p:nvPr/>
        </p:nvSpPr>
        <p:spPr>
          <a:xfrm>
            <a:off x="6851520" y="4437000"/>
            <a:ext cx="23940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окерские услуги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дажа и торговля акция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дажа и торговля  финансовыми инструментами с фиксированным доходом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нение сделок с долевыми, долговыми и производными финансовыми инструментами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расчетов; и  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  <a:p>
            <a:pPr lvl="2" marL="173160" indent="-1177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стодиальные услуги;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685960" y="1533600"/>
            <a:ext cx="46292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3560" y="398160"/>
            <a:ext cx="88790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Визор Капитал</a:t>
            </a:r>
            <a:endParaRPr b="0" lang="en-US" sz="21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909800" y="1409400"/>
            <a:ext cx="7564320" cy="4691160"/>
          </a:xfrm>
          <a:prstGeom prst="rect">
            <a:avLst/>
          </a:prstGeom>
          <a:noFill/>
          <a:ln w="0">
            <a:noFill/>
          </a:ln>
        </p:spPr>
        <p:txBody>
          <a:bodyPr lIns="31680" rIns="63360" tIns="0" bIns="0" anchor="t">
            <a:normAutofit/>
          </a:bodyPr>
          <a:p>
            <a:pPr lvl="1" marL="447840" indent="-26676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дущий казахстанский инвестиционный бан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беспечивающий первокласную экспертную поддержку и имеющий глубинное понимание локальной бизнес-среды</a:t>
            </a:r>
            <a:endParaRPr b="0" lang="en-US" sz="12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Единственный инвестиционный банк Казахстана, имеющий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лиценцию от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inancial Services Authority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SA)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в Великобритании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Лучшее понимание локальной бизнес-среды в комбинации с отличными отношениями с регуляторами и властями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амоотверженная команда, сочетающая локальные знания и международный опыт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ор Капита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ует на постоянной основе государственные компании по  возможностям стратегического развития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более тесно знаком с бизнесом, законодательством и регуляторными нормами в Казахстане и СНГ</a:t>
            </a:r>
            <a:endParaRPr b="0" lang="en-US" sz="1200" spc="-1" strike="noStrike">
              <a:solidFill>
                <a:srgbClr val="0a281e"/>
              </a:solidFill>
              <a:latin typeface="Arial"/>
            </a:endParaRPr>
          </a:p>
          <a:p>
            <a:pPr lvl="1" marL="447840" indent="-26676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ор Капитал консультирует компании Европы, Азии и США, а также ведущие казахстанские и региональные компании в казахстане и СНГ, по вопроса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&amp;A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делкам на рынках капитала. Последние сделки и транзакции:</a:t>
            </a:r>
            <a:endParaRPr b="0" lang="en-US" sz="12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Эксклюзивный финасовый консультант крупнейшего банка Южной Кореи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ookmin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иобретению доли в банке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enterCredit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D1.27bn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Эксклюзивный брокер Национальной Компании КазМунайГаз по приобретению 50% доли в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azakhstan Petroleum Industries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едущий казахстанский менеджер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PO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Д КазМунайГаз (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D2.3bn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размещению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SD1.6bn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реди международных и локальных инвесторов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  <a:p>
            <a:pPr lvl="2" marL="716040" indent="-266760"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овый консультант Национальной Компании КазмунайГаз по приобретению 50% доли (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D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) в КазГерМунай и последующей продажи акций РД КазМунайГаз</a:t>
            </a:r>
            <a:endParaRPr b="0" lang="en-US" sz="11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11240" y="1303200"/>
            <a:ext cx="0" cy="463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431640" y="1835280"/>
            <a:ext cx="148932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EE &amp; CIS Banking Awards 2009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st local investment bank”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009 Thomson Extel Survey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st Research for Kazakhstan”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st Equity House Kazakhstan”</a:t>
            </a: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9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57" name="Slide Number Placeholder 7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9110-9AC5-4F97-88FD-D0AF81B1C5F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558" name="Picture 8" descr="a4elogo"/>
          <p:cNvPicPr/>
          <p:nvPr/>
        </p:nvPicPr>
        <p:blipFill>
          <a:blip r:embed="rId1"/>
          <a:stretch/>
        </p:blipFill>
        <p:spPr>
          <a:xfrm>
            <a:off x="644400" y="4792680"/>
            <a:ext cx="1103400" cy="7621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C:\Documents and Settings\aiy\My Documents\Aizhan\My Pictures\emea-logo.gif"/>
          <p:cNvPicPr/>
          <p:nvPr/>
        </p:nvPicPr>
        <p:blipFill>
          <a:blip r:embed="rId2"/>
          <a:stretch/>
        </p:blipFill>
        <p:spPr>
          <a:xfrm>
            <a:off x="565200" y="1514520"/>
            <a:ext cx="1195200" cy="24444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12"/>
          <p:cNvSpPr/>
          <p:nvPr/>
        </p:nvSpPr>
        <p:spPr>
          <a:xfrm>
            <a:off x="4081320" y="3062160"/>
            <a:ext cx="174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4081320" y="3062160"/>
            <a:ext cx="174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62" name="AutoShape 16"/>
          <p:cNvSpPr/>
          <p:nvPr/>
        </p:nvSpPr>
        <p:spPr>
          <a:xfrm>
            <a:off x="168120" y="46080"/>
            <a:ext cx="174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63" name="AutoShape 18"/>
          <p:cNvSpPr/>
          <p:nvPr/>
        </p:nvSpPr>
        <p:spPr>
          <a:xfrm>
            <a:off x="4081320" y="3062160"/>
            <a:ext cx="174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64" name="AutoShape 20"/>
          <p:cNvSpPr/>
          <p:nvPr/>
        </p:nvSpPr>
        <p:spPr>
          <a:xfrm>
            <a:off x="4081320" y="3062160"/>
            <a:ext cx="174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565" name="AutoShape 22"/>
          <p:cNvSpPr/>
          <p:nvPr/>
        </p:nvSpPr>
        <p:spPr>
          <a:xfrm>
            <a:off x="168120" y="46080"/>
            <a:ext cx="174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grpSp>
        <p:nvGrpSpPr>
          <p:cNvPr id="566" name="Group 27"/>
          <p:cNvGrpSpPr/>
          <p:nvPr/>
        </p:nvGrpSpPr>
        <p:grpSpPr>
          <a:xfrm>
            <a:off x="512640" y="3087720"/>
            <a:ext cx="1316160" cy="417600"/>
            <a:chOff x="512640" y="3087720"/>
            <a:chExt cx="1316160" cy="417600"/>
          </a:xfrm>
        </p:grpSpPr>
        <p:pic>
          <p:nvPicPr>
            <p:cNvPr id="567" name="Picture 24" descr="thomson reuters"/>
            <p:cNvPicPr/>
            <p:nvPr/>
          </p:nvPicPr>
          <p:blipFill>
            <a:blip r:embed="rId3"/>
            <a:stretch/>
          </p:blipFill>
          <p:spPr>
            <a:xfrm>
              <a:off x="648360" y="3087720"/>
              <a:ext cx="1014120" cy="2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25" descr="Extel"/>
            <p:cNvPicPr/>
            <p:nvPr/>
          </p:nvPicPr>
          <p:blipFill>
            <a:blip r:embed="rId4"/>
            <a:srcRect l="0" t="0" r="47027" b="34722"/>
            <a:stretch/>
          </p:blipFill>
          <p:spPr>
            <a:xfrm>
              <a:off x="512640" y="3329280"/>
              <a:ext cx="1316160" cy="17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5000" y="7621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Аналитические исследования по рынкам акций</a:t>
            </a:r>
            <a:endParaRPr b="0" lang="en-US" sz="20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70" name="Rectangle 96"/>
          <p:cNvSpPr/>
          <p:nvPr/>
        </p:nvSpPr>
        <p:spPr>
          <a:xfrm>
            <a:off x="533520" y="4343400"/>
            <a:ext cx="91184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lvl="1" marL="628560" indent="-2714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ие анализируемые компании, не имеющие официального покрытия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500" spc="-1" strike="noStrike">
              <a:solidFill>
                <a:srgbClr val="000000"/>
              </a:solidFill>
              <a:latin typeface="Dax-Medium"/>
            </a:endParaRPr>
          </a:p>
          <a:p>
            <a:pPr lvl="1" marL="628560" indent="-271440" algn="just">
              <a:lnSpc>
                <a:spcPct val="9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500" spc="-1" strike="noStrike">
              <a:solidFill>
                <a:srgbClr val="000000"/>
              </a:solidFill>
              <a:latin typeface="Dax-Medium"/>
            </a:endParaRPr>
          </a:p>
          <a:p>
            <a:pPr lvl="2" indent="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 малой капитализ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lvl="2" indent="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lvl="2" indent="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компании, имеющие значимые активы в Казахста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lvl="2" indent="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  <a:p>
            <a:pPr lvl="2" indent="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, осуществляющие деятельность в Средней Азии, включая Туркменистан, Узбекистан, Таджикистан и Монголию</a:t>
            </a:r>
            <a:endParaRPr b="0" lang="en-US" sz="12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571" name="Picture 1" descr="\\Dc2\Data\Analysis\LEK\From JCL\Logos\stcm-logo.gif"/>
          <p:cNvPicPr/>
          <p:nvPr/>
        </p:nvPicPr>
        <p:blipFill>
          <a:blip r:embed="rId1"/>
          <a:stretch/>
        </p:blipFill>
        <p:spPr>
          <a:xfrm>
            <a:off x="5943600" y="3429000"/>
            <a:ext cx="898560" cy="447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\\Dc2\Data\Analysis\LEK\From JCL\Logos\centerra logo.gif"/>
          <p:cNvPicPr/>
          <p:nvPr/>
        </p:nvPicPr>
        <p:blipFill>
          <a:blip r:embed="rId2"/>
          <a:stretch/>
        </p:blipFill>
        <p:spPr>
          <a:xfrm>
            <a:off x="8153280" y="2209680"/>
            <a:ext cx="1219320" cy="5590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\\Dc2\Data\Analysis\LEK\From JCL\Logos\dragon logo.gif"/>
          <p:cNvPicPr/>
          <p:nvPr/>
        </p:nvPicPr>
        <p:blipFill>
          <a:blip r:embed="rId3"/>
          <a:stretch/>
        </p:blipFill>
        <p:spPr>
          <a:xfrm>
            <a:off x="6934320" y="3048120"/>
            <a:ext cx="676080" cy="4824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\\Dc2\Data\Analysis\LEK\From JCL\Logos\ivanhoe logo.gif"/>
          <p:cNvPicPr/>
          <p:nvPr/>
        </p:nvPicPr>
        <p:blipFill>
          <a:blip r:embed="rId4"/>
          <a:stretch/>
        </p:blipFill>
        <p:spPr>
          <a:xfrm>
            <a:off x="3276720" y="5791320"/>
            <a:ext cx="930240" cy="4539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\\Dc2\Data\Analysis\LEK\From JCL\Logos\Kazakhmys_logo.gif"/>
          <p:cNvPicPr/>
          <p:nvPr/>
        </p:nvPicPr>
        <p:blipFill>
          <a:blip r:embed="rId5"/>
          <a:stretch/>
        </p:blipFill>
        <p:spPr>
          <a:xfrm>
            <a:off x="6858000" y="2057400"/>
            <a:ext cx="988920" cy="330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\\Dc2\Data\Analysis\LEK\From JCL\Logos\kmg logo.gif"/>
          <p:cNvPicPr/>
          <p:nvPr/>
        </p:nvPicPr>
        <p:blipFill>
          <a:blip r:embed="rId6"/>
          <a:stretch/>
        </p:blipFill>
        <p:spPr>
          <a:xfrm>
            <a:off x="4876920" y="1981080"/>
            <a:ext cx="1477800" cy="381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5" descr=""/>
          <p:cNvPicPr/>
          <p:nvPr/>
        </p:nvPicPr>
        <p:blipFill>
          <a:blip r:embed="rId7"/>
          <a:stretch/>
        </p:blipFill>
        <p:spPr>
          <a:xfrm>
            <a:off x="8001000" y="2971800"/>
            <a:ext cx="1181160" cy="326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C:\Users\JCL\AppData\Local\Microsoft\Windows\Temporary Internet Files\Content.Outlook\E7T1NIWD\logo_kazakhtelecom.jpg"/>
          <p:cNvPicPr/>
          <p:nvPr/>
        </p:nvPicPr>
        <p:blipFill>
          <a:blip r:embed="rId8"/>
          <a:stretch/>
        </p:blipFill>
        <p:spPr>
          <a:xfrm>
            <a:off x="7010280" y="3886200"/>
            <a:ext cx="1349640" cy="306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"/>
          <p:cNvPicPr/>
          <p:nvPr/>
        </p:nvPicPr>
        <p:blipFill>
          <a:blip r:embed="rId9"/>
          <a:stretch/>
        </p:blipFill>
        <p:spPr>
          <a:xfrm>
            <a:off x="1143000" y="3657600"/>
            <a:ext cx="1360440" cy="290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"/>
          <p:cNvPicPr/>
          <p:nvPr/>
        </p:nvPicPr>
        <p:blipFill>
          <a:blip r:embed="rId10"/>
          <a:stretch/>
        </p:blipFill>
        <p:spPr>
          <a:xfrm>
            <a:off x="1523880" y="1981080"/>
            <a:ext cx="1098720" cy="436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"/>
          <p:cNvPicPr/>
          <p:nvPr/>
        </p:nvPicPr>
        <p:blipFill>
          <a:blip r:embed="rId11"/>
          <a:stretch/>
        </p:blipFill>
        <p:spPr>
          <a:xfrm>
            <a:off x="3048120" y="2286000"/>
            <a:ext cx="1109520" cy="420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"/>
          <p:cNvPicPr/>
          <p:nvPr/>
        </p:nvPicPr>
        <p:blipFill>
          <a:blip r:embed="rId12"/>
          <a:stretch/>
        </p:blipFill>
        <p:spPr>
          <a:xfrm>
            <a:off x="914400" y="2590920"/>
            <a:ext cx="1266840" cy="442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"/>
          <p:cNvPicPr/>
          <p:nvPr/>
        </p:nvPicPr>
        <p:blipFill>
          <a:blip r:embed="rId13"/>
          <a:stretch/>
        </p:blipFill>
        <p:spPr>
          <a:xfrm>
            <a:off x="2590920" y="2590920"/>
            <a:ext cx="422280" cy="380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"/>
          <p:cNvPicPr/>
          <p:nvPr/>
        </p:nvPicPr>
        <p:blipFill>
          <a:blip r:embed="rId14"/>
          <a:stretch/>
        </p:blipFill>
        <p:spPr>
          <a:xfrm>
            <a:off x="3352680" y="2895480"/>
            <a:ext cx="582840" cy="525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"/>
          <p:cNvPicPr/>
          <p:nvPr/>
        </p:nvPicPr>
        <p:blipFill>
          <a:blip r:embed="rId15"/>
          <a:stretch/>
        </p:blipFill>
        <p:spPr>
          <a:xfrm>
            <a:off x="1752480" y="3200400"/>
            <a:ext cx="1300320" cy="304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"/>
          <p:cNvPicPr/>
          <p:nvPr/>
        </p:nvPicPr>
        <p:blipFill>
          <a:blip r:embed="rId16"/>
          <a:stretch/>
        </p:blipFill>
        <p:spPr>
          <a:xfrm>
            <a:off x="8534520" y="3581280"/>
            <a:ext cx="609480" cy="5256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96"/>
          <p:cNvSpPr/>
          <p:nvPr/>
        </p:nvSpPr>
        <p:spPr>
          <a:xfrm>
            <a:off x="558720" y="1512720"/>
            <a:ext cx="911880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63360" tIns="0" bIns="0" anchor="t">
            <a:noAutofit/>
          </a:bodyPr>
          <a:p>
            <a:pPr lvl="1" marL="628560" indent="-271440" algn="just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крытие по 19 акциям 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DR:</a:t>
            </a:r>
            <a:endParaRPr b="0" lang="en-US" sz="15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588" name="Picture 26" descr=""/>
          <p:cNvPicPr/>
          <p:nvPr/>
        </p:nvPicPr>
        <p:blipFill>
          <a:blip r:embed="rId17"/>
          <a:stretch/>
        </p:blipFill>
        <p:spPr>
          <a:xfrm>
            <a:off x="5715000" y="5791320"/>
            <a:ext cx="1143000" cy="447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7" descr=""/>
          <p:cNvPicPr/>
          <p:nvPr/>
        </p:nvPicPr>
        <p:blipFill>
          <a:blip r:embed="rId18"/>
          <a:stretch/>
        </p:blipFill>
        <p:spPr>
          <a:xfrm>
            <a:off x="4495680" y="5791320"/>
            <a:ext cx="1006560" cy="4572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8" descr=""/>
          <p:cNvPicPr/>
          <p:nvPr/>
        </p:nvPicPr>
        <p:blipFill>
          <a:blip r:embed="rId19"/>
          <a:stretch/>
        </p:blipFill>
        <p:spPr>
          <a:xfrm>
            <a:off x="6553080" y="2514600"/>
            <a:ext cx="1173240" cy="380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9" descr=""/>
          <p:cNvPicPr/>
          <p:nvPr/>
        </p:nvPicPr>
        <p:blipFill>
          <a:blip r:embed="rId20"/>
          <a:stretch/>
        </p:blipFill>
        <p:spPr>
          <a:xfrm>
            <a:off x="1905120" y="5867280"/>
            <a:ext cx="1130040" cy="3049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0" descr="C:\Documents and Settings\jur\Desktop\logo.gif"/>
          <p:cNvPicPr/>
          <p:nvPr/>
        </p:nvPicPr>
        <p:blipFill>
          <a:blip r:embed="rId21"/>
          <a:stretch/>
        </p:blipFill>
        <p:spPr>
          <a:xfrm>
            <a:off x="2666880" y="3657600"/>
            <a:ext cx="1003320" cy="436680"/>
          </a:xfrm>
          <a:prstGeom prst="rect">
            <a:avLst/>
          </a:prstGeom>
          <a:ln w="0">
            <a:noFill/>
          </a:ln>
        </p:spPr>
      </p:pic>
      <p:sp>
        <p:nvSpPr>
          <p:cNvPr id="593" name="Slide Number Placeholder 7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ABCF-0E88-481A-8F82-A1CAE6ED476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594" name="Picture 30" descr="max_petroleum_logo.jpg"/>
          <p:cNvPicPr/>
          <p:nvPr/>
        </p:nvPicPr>
        <p:blipFill>
          <a:blip r:embed="rId22"/>
          <a:stretch/>
        </p:blipFill>
        <p:spPr>
          <a:xfrm>
            <a:off x="7086600" y="5867280"/>
            <a:ext cx="1279440" cy="2955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1" descr=""/>
          <p:cNvPicPr/>
          <p:nvPr/>
        </p:nvPicPr>
        <p:blipFill>
          <a:blip r:embed="rId23"/>
          <a:stretch/>
        </p:blipFill>
        <p:spPr>
          <a:xfrm>
            <a:off x="4648320" y="300996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4" descr="Kazakhstan Kagazy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5410080" y="3886200"/>
            <a:ext cx="990720" cy="2779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\\Dc2\Data\Analysis\LEK\From JCL\Logos\ENRC logo.jpg"/>
          <p:cNvPicPr/>
          <p:nvPr/>
        </p:nvPicPr>
        <p:blipFill>
          <a:blip r:embed="rId26"/>
          <a:stretch/>
        </p:blipFill>
        <p:spPr>
          <a:xfrm>
            <a:off x="5181480" y="2514600"/>
            <a:ext cx="9288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Стремительный рост цен сменился</a:t>
            </a:r>
            <a:br>
              <a:rPr sz="2700"/>
            </a:b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снижением цен на недвижимость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зис рынка недвижимости ударил по большому числу городов в мире. Ситуация в Алматы не является исключением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кризиса начала 90-х цены на землю для коммерческих целей в Японии упали на 80% от пика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ие доступа к кредитным ресурсам в прежних объёмах способствует снижению цен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оста цен требуется стабилизация ситуации в банковской сфере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5029200" y="1371600"/>
          <a:ext cx="4324320" cy="3649680"/>
        </p:xfrm>
        <a:graphic>
          <a:graphicData uri="http://schemas.openxmlformats.org/drawingml/2006/table">
            <a:tbl>
              <a:tblPr/>
              <a:tblGrid>
                <a:gridCol w="4324320"/>
              </a:tblGrid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екс цен на землю в Японии (6  городов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р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000=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24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474840" y="1371600"/>
          <a:ext cx="4402080" cy="3649680"/>
        </p:xfrm>
        <a:graphic>
          <a:graphicData uri="http://schemas.openxmlformats.org/drawingml/2006/table">
            <a:tbl>
              <a:tblPr/>
              <a:tblGrid>
                <a:gridCol w="4402080"/>
              </a:tblGrid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ы на жилую недвижимость в Алматы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US$k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в м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06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02" name="Slide Number Placeholder 8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0FCD-241D-406E-BF10-C935A71F170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03" name="TextBox 9"/>
          <p:cNvSpPr/>
          <p:nvPr/>
        </p:nvSpPr>
        <p:spPr>
          <a:xfrm>
            <a:off x="471600" y="5029200"/>
            <a:ext cx="186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комбинированный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04" name="TextBox 10"/>
          <p:cNvSpPr/>
          <p:nvPr/>
        </p:nvSpPr>
        <p:spPr>
          <a:xfrm>
            <a:off x="4890960" y="502920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: Japan Real Estate Institute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5086440" y="1695600"/>
            <a:ext cx="4209840" cy="3216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2670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533520" y="1371600"/>
          <a:ext cx="4324320" cy="3581280"/>
        </p:xfrm>
        <a:graphic>
          <a:graphicData uri="http://schemas.openxmlformats.org/drawingml/2006/table">
            <a:tbl>
              <a:tblPr/>
              <a:tblGrid>
                <a:gridCol w="4324320"/>
              </a:tblGrid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ртира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в м / годовой доход семьи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ма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0012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929628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281e"/>
                </a:solidFill>
                <a:latin typeface="Arial"/>
              </a:rPr>
              <a:t>Доступность жилой недвижимости в Алматы улучшилась,</a:t>
            </a:r>
            <a:br>
              <a:rPr sz="2400"/>
            </a:br>
            <a:r>
              <a:rPr b="0" lang="ru-RU" sz="2400" spc="-1" strike="noStrike">
                <a:solidFill>
                  <a:srgbClr val="0a281e"/>
                </a:solidFill>
                <a:latin typeface="Arial"/>
              </a:rPr>
              <a:t>но всё ещё остаётся за пределами международных норм</a:t>
            </a:r>
            <a:endParaRPr b="0" lang="en-US" sz="24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09" name="Slide Number Placeholder 8"/>
          <p:cNvSpPr/>
          <p:nvPr/>
        </p:nvSpPr>
        <p:spPr>
          <a:xfrm>
            <a:off x="7099200" y="638172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7B10-1950-48B5-8C11-2A09B30E4561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564120" y="4952880"/>
            <a:ext cx="435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оценка Визор Капитал на основании статистических данных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11" name="TextBox 24"/>
          <p:cNvSpPr/>
          <p:nvPr/>
        </p:nvSpPr>
        <p:spPr>
          <a:xfrm>
            <a:off x="5146920" y="6305400"/>
            <a:ext cx="342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: 2009 International Housing Affordability Survey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12" name="TextBox 28"/>
          <p:cNvSpPr/>
          <p:nvPr/>
        </p:nvSpPr>
        <p:spPr>
          <a:xfrm>
            <a:off x="380880" y="5154480"/>
            <a:ext cx="4572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ждународные стандарты доступности жилья рекомендуют снижение цен относительно доходов населения 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50%</a:t>
            </a:r>
            <a:endParaRPr b="0" lang="en-US" sz="1500" spc="-1" strike="noStrike">
              <a:solidFill>
                <a:srgbClr val="000000"/>
              </a:solidFill>
              <a:latin typeface="Dax-Medium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реальности могут вмешаться дополнительные факторы</a:t>
            </a:r>
            <a:endParaRPr b="0" lang="en-US" sz="15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13" name="TextBox 16"/>
          <p:cNvSpPr/>
          <p:nvPr/>
        </p:nvSpPr>
        <p:spPr>
          <a:xfrm>
            <a:off x="5029200" y="1295280"/>
            <a:ext cx="4267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ая шкала дотупност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анная цена жилья к медианному семейном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довому доход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йне недоступно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оле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льно недоступно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.0)</a:t>
            </a: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ренно недоступ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)</a:t>
            </a: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3.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ене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14" name="Picture 4" descr=""/>
          <p:cNvPicPr/>
          <p:nvPr/>
        </p:nvPicPr>
        <p:blipFill>
          <a:blip r:embed="rId1"/>
          <a:stretch/>
        </p:blipFill>
        <p:spPr>
          <a:xfrm>
            <a:off x="571680" y="1676520"/>
            <a:ext cx="4228920" cy="3224160"/>
          </a:xfrm>
          <a:prstGeom prst="rect">
            <a:avLst/>
          </a:prstGeom>
          <a:ln w="0">
            <a:noFill/>
          </a:ln>
        </p:spPr>
      </p:pic>
      <p:cxnSp>
        <p:nvCxnSpPr>
          <p:cNvPr id="615" name="Прямая со стрелкой 22"/>
          <p:cNvCxnSpPr/>
          <p:nvPr/>
        </p:nvCxnSpPr>
        <p:spPr>
          <a:xfrm>
            <a:off x="4418640" y="3428640"/>
            <a:ext cx="229320" cy="610200"/>
          </a:xfrm>
          <a:prstGeom prst="straightConnector1">
            <a:avLst/>
          </a:prstGeom>
          <a:ln w="41400">
            <a:solidFill>
              <a:srgbClr val="c00000"/>
            </a:solidFill>
            <a:prstDash val="sysDash"/>
            <a:miter/>
            <a:tailEnd len="med" type="arrow" w="med"/>
          </a:ln>
        </p:spPr>
      </p:cxnSp>
      <p:graphicFrame>
        <p:nvGraphicFramePr>
          <p:cNvPr id="616" name=""/>
          <p:cNvGraphicFramePr/>
          <p:nvPr/>
        </p:nvGraphicFramePr>
        <p:xfrm>
          <a:off x="5181480" y="2971800"/>
          <a:ext cx="3733920" cy="3200400"/>
        </p:xfrm>
        <a:graphic>
          <a:graphicData uri="http://schemas.openxmlformats.org/drawingml/2006/table">
            <a:tbl>
              <a:tblPr/>
              <a:tblGrid>
                <a:gridCol w="249480"/>
                <a:gridCol w="946080"/>
                <a:gridCol w="1584360"/>
                <a:gridCol w="477720"/>
                <a:gridCol w="476280"/>
              </a:tblGrid>
              <a:tr h="1692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: Рынки с наименее доступным жильё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US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shine Coast, QLD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9.6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lulu, HI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9.1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ld Coast, QLD-NSW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.7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ncouver, BC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.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dney, NSW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.3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Francisco-Oakland, C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.0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Jose, C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ctoria, BC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Luis Obispo, C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3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ndaberg, QLD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2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s Angeles, C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2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elaide, S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1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lbourne, VIC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1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ali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durah, W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0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State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York, NY-NJ-PA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.0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Kingdom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lfast, Northern Ireland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.9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d Kingdom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don, England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.9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Рост цен на недвижимость прекратился за 3-4 месяца </a:t>
            </a:r>
            <a:r>
              <a:rPr b="0" lang="ru-RU" sz="2700" spc="-1" strike="noStrike" u="sng">
                <a:solidFill>
                  <a:srgbClr val="0a281e"/>
                </a:solidFill>
                <a:uFillTx/>
                <a:latin typeface="Arial"/>
              </a:rPr>
              <a:t>до</a:t>
            </a: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 первого удара кризиса по банковской системе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лабление требований к заёмщикам не смогло поддержать рост цен весной-летом 2007 года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январ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вестиции в жилищное строительство упали 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60% MoM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$110m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юне инвестиции восстановились д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$200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мес (средний уровень 2008 года), доля собственных инвестиций населения резко возрасла до 60% с 30%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533520" y="1371600"/>
          <a:ext cx="4324320" cy="3649680"/>
        </p:xfrm>
        <a:graphic>
          <a:graphicData uri="http://schemas.openxmlformats.org/drawingml/2006/table">
            <a:tbl>
              <a:tblPr/>
              <a:tblGrid>
                <a:gridCol w="4324320"/>
              </a:tblGrid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на недвижимость в Алматы и портфель ба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24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4952880" y="1371600"/>
          <a:ext cx="4402080" cy="3649680"/>
        </p:xfrm>
        <a:graphic>
          <a:graphicData uri="http://schemas.openxmlformats.org/drawingml/2006/table">
            <a:tbl>
              <a:tblPr/>
              <a:tblGrid>
                <a:gridCol w="4402080"/>
              </a:tblGrid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ая недвижимость в Алматы и Москве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US$k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в 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06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21" name="Slide Number Placeholder 8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BE0A-46DB-4981-98C4-66B9F0B5D7C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2" name="TextBox 10"/>
          <p:cNvSpPr/>
          <p:nvPr/>
        </p:nvSpPr>
        <p:spPr>
          <a:xfrm>
            <a:off x="559080" y="5029200"/>
            <a:ext cx="35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Национальный Банк РК, АФН, газета «Крыша»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23" name="Picture 7" descr=""/>
          <p:cNvPicPr/>
          <p:nvPr/>
        </p:nvPicPr>
        <p:blipFill>
          <a:blip r:embed="rId1"/>
          <a:stretch/>
        </p:blipFill>
        <p:spPr>
          <a:xfrm>
            <a:off x="590400" y="1676520"/>
            <a:ext cx="4210200" cy="321624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ая соединительная линия 17"/>
          <p:cNvSpPr/>
          <p:nvPr/>
        </p:nvSpPr>
        <p:spPr>
          <a:xfrm flipH="1">
            <a:off x="3543480" y="1677960"/>
            <a:ext cx="1440" cy="2362320"/>
          </a:xfrm>
          <a:prstGeom prst="line">
            <a:avLst/>
          </a:prstGeom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5" name="Прямая соединительная линия 20"/>
          <p:cNvSpPr/>
          <p:nvPr/>
        </p:nvSpPr>
        <p:spPr>
          <a:xfrm flipH="1">
            <a:off x="3362400" y="1676520"/>
            <a:ext cx="1440" cy="2361960"/>
          </a:xfrm>
          <a:prstGeom prst="line">
            <a:avLst/>
          </a:prstGeom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6" name="Прямая соединительная линия 22"/>
          <p:cNvSpPr/>
          <p:nvPr/>
        </p:nvSpPr>
        <p:spPr>
          <a:xfrm>
            <a:off x="2590920" y="1905120"/>
            <a:ext cx="1218960" cy="14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7" name="Прямая соединительная линия 25"/>
          <p:cNvSpPr/>
          <p:nvPr/>
        </p:nvSpPr>
        <p:spPr>
          <a:xfrm>
            <a:off x="2514600" y="1905120"/>
            <a:ext cx="838080" cy="144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8" name="Прямая соединительная линия 26"/>
          <p:cNvSpPr/>
          <p:nvPr/>
        </p:nvSpPr>
        <p:spPr>
          <a:xfrm>
            <a:off x="3543480" y="1905120"/>
            <a:ext cx="380880" cy="144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29" name="TextBox 29"/>
          <p:cNvSpPr/>
          <p:nvPr/>
        </p:nvSpPr>
        <p:spPr>
          <a:xfrm>
            <a:off x="2519280" y="167652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3-4 months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5024520" y="1690560"/>
            <a:ext cx="4268880" cy="3171960"/>
          </a:xfrm>
          <a:prstGeom prst="rect">
            <a:avLst/>
          </a:prstGeom>
          <a:ln w="0">
            <a:noFill/>
          </a:ln>
        </p:spPr>
      </p:pic>
      <p:sp>
        <p:nvSpPr>
          <p:cNvPr id="631" name="TextBox 21"/>
          <p:cNvSpPr/>
          <p:nvPr/>
        </p:nvSpPr>
        <p:spPr>
          <a:xfrm>
            <a:off x="4983120" y="5029200"/>
            <a:ext cx="413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газеты «Крыша», «Недвижимость», индекс «МетрИнфо»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Сверхвысокие компенсации способствовали</a:t>
            </a:r>
            <a:br>
              <a:rPr sz="2700"/>
            </a:b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росту пузыря в</a:t>
            </a:r>
            <a:r>
              <a:rPr b="0" lang="en-US" sz="2700" spc="-1" strike="noStrike">
                <a:solidFill>
                  <a:srgbClr val="0a281e"/>
                </a:solidFill>
                <a:latin typeface="Arial"/>
              </a:rPr>
              <a:t> 2005-2007</a:t>
            </a: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 годах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560" y="5181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 fontScale="94000"/>
          </a:bodyPr>
          <a:p>
            <a:pPr marL="167040" indent="-167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ительные компании платили д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$2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 кв м земли в Алматы в качестве компенсаций за снесённое жильё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-200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ах, когда были массово начаты строительные проекты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67040" indent="-167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ительные компании вероятно заплат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$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землю для проектов, которые сейчас заморожены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67040" indent="-167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ике цены на жилую недвижимость были близки к ценам в Москве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67040" indent="-167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нкам пришлось резко сократить объёмы кредитования в август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а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67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5029200" y="1371600"/>
          <a:ext cx="4324320" cy="3581280"/>
        </p:xfrm>
        <a:graphic>
          <a:graphicData uri="http://schemas.openxmlformats.org/drawingml/2006/table">
            <a:tbl>
              <a:tblPr/>
              <a:tblGrid>
                <a:gridCol w="4324320"/>
              </a:tblGrid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роченные платежи строительного сектора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US$b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0012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474840" y="1371600"/>
          <a:ext cx="4402080" cy="3581280"/>
        </p:xfrm>
        <a:graphic>
          <a:graphicData uri="http://schemas.openxmlformats.org/drawingml/2006/table">
            <a:tbl>
              <a:tblPr/>
              <a:tblGrid>
                <a:gridCol w="4402080"/>
              </a:tblGrid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ые займы сектору недвижимости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US$bn/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29724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36" name="Slide Number Placeholder 8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82E1-D374-433A-B440-FB74A5F4B2A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37" name="TextBox 11"/>
          <p:cNvSpPr/>
          <p:nvPr/>
        </p:nvSpPr>
        <p:spPr>
          <a:xfrm>
            <a:off x="500400" y="4952880"/>
            <a:ext cx="35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Национальный Банк РК, АФН, газета «Крыша»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5032800" y="4952880"/>
            <a:ext cx="21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Национальный Банк РК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5146560" y="1730520"/>
            <a:ext cx="4075200" cy="31035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"/>
          <p:cNvPicPr/>
          <p:nvPr/>
        </p:nvPicPr>
        <p:blipFill>
          <a:blip r:embed="rId2"/>
          <a:stretch/>
        </p:blipFill>
        <p:spPr>
          <a:xfrm>
            <a:off x="546120" y="1689120"/>
            <a:ext cx="42289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15400" cy="9018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a281e"/>
                </a:solidFill>
                <a:latin typeface="Arial"/>
              </a:rPr>
              <a:t>Кредиты корпоративным заёмщикам являются основным источником проблем для банков</a:t>
            </a:r>
            <a:endParaRPr b="0" lang="en-US" sz="2700" spc="-1" strike="noStrike">
              <a:solidFill>
                <a:srgbClr val="0a281e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5333760"/>
            <a:ext cx="9126360" cy="1066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177840" indent="-177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роченная задолженность достигл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строительст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5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потеке жилого имущества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рговля и строительство отвественны 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ум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рочек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чество кредитов производству, с/х и потребительских кредитов также ухудшилось</a:t>
            </a:r>
            <a:endParaRPr b="0" lang="en-US" sz="1400" spc="-1" strike="noStrike">
              <a:solidFill>
                <a:srgbClr val="0a281e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5029200" y="1371600"/>
          <a:ext cx="4324320" cy="3649680"/>
        </p:xfrm>
        <a:graphic>
          <a:graphicData uri="http://schemas.openxmlformats.org/drawingml/2006/table">
            <a:tbl>
              <a:tblPr/>
              <a:tblGrid>
                <a:gridCol w="4324320"/>
              </a:tblGrid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едитный портфель банков (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$6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n)(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юль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0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24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474840" y="1371600"/>
          <a:ext cx="4402080" cy="3649680"/>
        </p:xfrm>
        <a:graphic>
          <a:graphicData uri="http://schemas.openxmlformats.org/drawingml/2006/table">
            <a:tbl>
              <a:tblPr/>
              <a:tblGrid>
                <a:gridCol w="4402080"/>
              </a:tblGrid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роченные платежи в % от кредитов секто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00"/>
                    </a:solidFill>
                  </a:tcPr>
                </a:tc>
              </a:tr>
              <a:tr h="3360600">
                <a:tc>
                  <a:txBody>
                    <a:bodyPr lIns="0" rIns="0" tIns="72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ax-Medium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fe2"/>
                    </a:solidFill>
                  </a:tcPr>
                </a:tc>
              </a:tr>
            </a:tbl>
          </a:graphicData>
        </a:graphic>
      </p:graphicFrame>
      <p:sp>
        <p:nvSpPr>
          <p:cNvPr id="645" name="Slide Number Placeholder 8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E960-3F28-44D4-A1C9-64F4500D3368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46" name="TextBox 9"/>
          <p:cNvSpPr/>
          <p:nvPr/>
        </p:nvSpPr>
        <p:spPr>
          <a:xfrm>
            <a:off x="407880" y="5029200"/>
            <a:ext cx="35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Национальный Банк РК, оценка Визор Капитал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sp>
        <p:nvSpPr>
          <p:cNvPr id="647" name="TextBox 15"/>
          <p:cNvSpPr/>
          <p:nvPr/>
        </p:nvSpPr>
        <p:spPr>
          <a:xfrm>
            <a:off x="5041080" y="5041800"/>
            <a:ext cx="390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Национальный Банк РК, АФН, оценка Визор Капитал</a:t>
            </a:r>
            <a:endParaRPr b="0" lang="en-US" sz="1000" spc="-1" strike="noStrike">
              <a:solidFill>
                <a:srgbClr val="000000"/>
              </a:solidFill>
              <a:latin typeface="Dax-Medium"/>
            </a:endParaRPr>
          </a:p>
        </p:txBody>
      </p:sp>
      <p:pic>
        <p:nvPicPr>
          <p:cNvPr id="648" name="Picture 5" descr=""/>
          <p:cNvPicPr/>
          <p:nvPr/>
        </p:nvPicPr>
        <p:blipFill>
          <a:blip r:embed="rId1"/>
          <a:stretch/>
        </p:blipFill>
        <p:spPr>
          <a:xfrm>
            <a:off x="5079960" y="1739880"/>
            <a:ext cx="4235400" cy="31114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" descr=""/>
          <p:cNvPicPr/>
          <p:nvPr/>
        </p:nvPicPr>
        <p:blipFill>
          <a:blip r:embed="rId2"/>
          <a:stretch/>
        </p:blipFill>
        <p:spPr>
          <a:xfrm>
            <a:off x="533520" y="1689120"/>
            <a:ext cx="428616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5:16:52Z</dcterms:created>
  <dc:creator>Yuriy Khramtsov</dc:creator>
  <dc:description>khsoft@mail.ru, yuk@visocap.com
+7 777 261 7842, +7 727 356 0793</dc:description>
  <dc:language>en-US</dc:language>
  <cp:lastModifiedBy>User</cp:lastModifiedBy>
  <dcterms:modified xsi:type="dcterms:W3CDTF">2009-09-01T10:51:05Z</dcterms:modified>
  <cp:revision>1001</cp:revision>
  <dc:subject/>
  <dc:title>Риски: управлять или избегать</dc:title>
</cp:coreProperties>
</file>