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844-DC16-427B-B590-7EC05AE1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445968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857-5B49-4ABB-8A8F-FEAA4AF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646-B64C-4E4F-BE13-A4618B15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3700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9680"/>
            <a:ext cx="24840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4BC-EDF4-4F7D-BD85-B5769BE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6CB-F096-4E7D-A6E1-ACDF563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497-B1EE-4E05-A917-F0DDBE4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6BB-CB93-4FF0-97C6-19A0967D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F65-7913-4C24-B95F-99D9DE4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3DF-ABF6-4DD0-B85F-648705A4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4F5-9F5E-4D25-92A4-C7C00DF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445968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321-2881-4FBD-A3E4-9D06CEA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2637000"/>
            <a:ext cx="37648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4459680"/>
            <a:ext cx="771516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719-C0F6-4E31-B21B-C947E54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7e9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6483-33FB-4CDE-8E4C-5BFE3ADFB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920" y="2492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ссийский финансовый рынок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фолты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икризисное регулирование.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775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27e95"/>
                </a:solidFill>
                <a:latin typeface="Arial"/>
              </a:rPr>
              <a:t>Лялин С.В., генеральный директор </a:t>
            </a:r>
            <a:r>
              <a:rPr b="0" i="1" lang="en-US" sz="2800" spc="-1" strike="noStrike">
                <a:solidFill>
                  <a:srgbClr val="527e95"/>
                </a:solidFill>
                <a:latin typeface="Arial"/>
              </a:rPr>
              <a:t>Cbond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Дефолты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2285640"/>
            <a:ext cx="7715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июня 2008 по июль 2009 по оферте и по погашению дефолтнули 73 эмитента по номинальному объему облигаций 152.6 млрд.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% от количества эмит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% от номинального объема ры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7e95"/>
                </a:solidFill>
                <a:latin typeface="Arial"/>
              </a:rPr>
              <a:t>Помесячная динамика дефолтов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00080" y="2500200"/>
            <a:ext cx="60800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Виды дефолтов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2285640"/>
            <a:ext cx="8643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з объявления дефолта». Реструктуризация заблаговременно, ДО момента погашения или оф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олт + реструктуризация. Реструктуризация ПОСЛЕ наступления дефол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идалово». Дефолт без попыток реструктуризации или реструктуризация на неприемлем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вый вид бизнеса – реструктур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1268280"/>
            <a:ext cx="8429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527e95"/>
                </a:solidFill>
                <a:latin typeface="Arial"/>
              </a:rPr>
              <a:t>Важно: отсутствует юридическая процедура реструктуризации займов!</a:t>
            </a:r>
            <a:endParaRPr b="1" lang="en-US" sz="34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2428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института «представителя облигационе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цедуры собрания держателей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цедуры «свопа», обмена бумаг на новый вы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роект ФСФР о внесении изменений в законодательную базу, вводящий эти поня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6"/>
          <p:cNvSpPr/>
          <p:nvPr/>
        </p:nvSpPr>
        <p:spPr>
          <a:xfrm>
            <a:off x="2857680" y="4143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7"/>
          <p:cNvSpPr/>
          <p:nvPr/>
        </p:nvSpPr>
        <p:spPr>
          <a:xfrm>
            <a:off x="3500280" y="414324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8"/>
          <p:cNvSpPr/>
          <p:nvPr/>
        </p:nvSpPr>
        <p:spPr>
          <a:xfrm>
            <a:off x="4071960" y="4143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263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e95"/>
                </a:solidFill>
                <a:latin typeface="Arial"/>
              </a:rPr>
              <a:t>Cbonds</a:t>
            </a:r>
            <a:endParaRPr b="1" lang="en-US" sz="36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нкт-Петербург, Пироговская наб., д.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812) 336-97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cbonds-group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1267920"/>
            <a:ext cx="885816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7e95"/>
                </a:solidFill>
                <a:latin typeface="Arial"/>
              </a:rPr>
              <a:t>1998: Кризис государственных финансов</a:t>
            </a:r>
            <a:endParaRPr b="1" lang="en-US" sz="32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320" y="1857240"/>
            <a:ext cx="8429400" cy="15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лт по государственным облига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лт по большинству субфедераль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ая девальвация ру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ых корпоративных обязательств почти не было, те что были частично испол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1432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97a0"/>
                </a:solidFill>
                <a:latin typeface="Arial"/>
              </a:rPr>
              <a:t>2008… Кризис корпоративных фин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57160" y="4714920"/>
            <a:ext cx="73580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язательства государства и субъектов выполня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енная девалвация руб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фолты по корпоративным обязательств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2008 – стресс-тест для российских регуляторов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итализация рынка а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иаграмма 3" descr=""/>
          <p:cNvPicPr/>
          <p:nvPr/>
        </p:nvPicPr>
        <p:blipFill>
          <a:blip r:embed="rId1"/>
          <a:stretch/>
        </p:blipFill>
        <p:spPr>
          <a:xfrm>
            <a:off x="1571760" y="3357720"/>
            <a:ext cx="5500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Корпоративные облигации (август 2008)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11 млрд.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69 эми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2 эмит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7e95"/>
                </a:solidFill>
                <a:latin typeface="Arial"/>
              </a:rPr>
              <a:t>Динамика рынка корпоративных облигаций</a:t>
            </a:r>
            <a:endParaRPr b="1" lang="en-US" sz="4400" spc="-1" strike="noStrike">
              <a:solidFill>
                <a:srgbClr val="527e95"/>
              </a:solidFill>
              <a:latin typeface="Arial"/>
            </a:endParaRPr>
          </a:p>
        </p:txBody>
      </p:sp>
      <p:pic>
        <p:nvPicPr>
          <p:cNvPr id="53" name="month_graph_image" descr="http://www.cbonds.info/index/graph.php?gamma=orange&amp;typeId=58&amp;periodicity=1"/>
          <p:cNvPicPr/>
          <p:nvPr/>
        </p:nvPicPr>
        <p:blipFill>
          <a:blip r:embed="rId1"/>
          <a:stretch/>
        </p:blipFill>
        <p:spPr>
          <a:xfrm>
            <a:off x="571680" y="2714760"/>
            <a:ext cx="6053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События сентября 2008 г.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х 2 крупных инвестбанков (КИТ-Финанс, Связь-Бан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ич рынка РЕПО, опасность системного эф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вал рынка акций (с 01.08 по 17.09 – на 4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львация руб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Антикризисные меры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2143080"/>
            <a:ext cx="77151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изация КИТ-Финанса и Связь-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учная» расшивка рынка РЕ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тервенции» на рынке акций (175 млрд. 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ая приостановка торгов ак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т «коротких прода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95"/>
                </a:solidFill>
                <a:latin typeface="Arial"/>
              </a:rPr>
              <a:t>Антикризисные меры (продолжение)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637000"/>
            <a:ext cx="8472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е маржинальной торго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накачивание ликвидности от ЦБ – расширение ломбардного списка, беззалоговое 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мер неоднозн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к концу 2008 г. «пожар» потуш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e95"/>
                </a:solidFill>
                <a:latin typeface="Arial"/>
              </a:rPr>
              <a:t>PRO &amp; Contra</a:t>
            </a:r>
            <a:endParaRPr b="1" lang="en-US" sz="4000" spc="-1" strike="noStrike">
              <a:solidFill>
                <a:srgbClr val="527e9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2286000"/>
          <a:ext cx="8429760" cy="422928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1016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рная приостановка тор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волатильности, па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ок рынка на зарубежные площа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ние коротких продаж и маржинальн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волати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ние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 госинтервенции на фондовый ры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ая поддер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становили обв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0:47Z</dcterms:created>
  <dc:creator>Kuschilop</dc:creator>
  <dc:description/>
  <dc:language>en-US</dc:language>
  <cp:lastModifiedBy>Сергей</cp:lastModifiedBy>
  <dcterms:modified xsi:type="dcterms:W3CDTF">2009-08-31T13:00:48Z</dcterms:modified>
  <cp:revision>52</cp:revision>
  <dc:subject/>
  <dc:title>Слайд 1</dc:title>
</cp:coreProperties>
</file>