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DA2-AD48-4ADF-9322-670650FB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CDA9-60EB-46CD-B1E4-3CFEA1A58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A9E-6DD1-4297-933E-7B5595C4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D47-EF20-4239-BA24-A57AA44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9F6-AC03-4C29-8873-CB2D30D8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21D-FE9D-4366-990C-59E38B14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D2A-C648-450B-A6D4-5DE4CC0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FDA-95FE-4694-ADDB-2C15AA2E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203-7878-41DD-9595-9AE20486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8DE-7E16-4218-9F8D-613F8A5F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8EB-D07B-44FC-84A7-6874BFA3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8D5-21A4-4758-B587-31B8A5B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782-BE9D-412C-9F2F-2F5C6C3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A30-015D-4763-BF68-5F4D4E5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71E9-1616-4DB7-B395-CC19C14BC2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О "Товарная биржа "ЕТС"     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C2E2-674C-4684-B12C-7CAF69482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ts.k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оварная биржа «ЕТ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50" name="Line 6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24000" y="6308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6920" y="1155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аст срочны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ый сек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ое ценообраз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ерный региональный контракт на зе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складскими запас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заключение «длинных» контрактов по фиксированным ценам либо «по формул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сообществу и инвестор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чок в развитии структурных продук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битраж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ликвидности на фондовом рынке за счет арбитраж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ы хеджирования для коллективных и частных инвести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е внедрение интернет - трейдин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6920" y="1155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к обсуж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уск профессиональных участников фондового рынка к торгам на товарных бир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ем необходимым разрешить допуск брокеров/дилеров профессиональных участников РЦБ к торгам поставочными срочными контрактами на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торговли производными финансовыми инструментам вне зависимости от базового актива на товарных бир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ирование и лицензиро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 бирж в Казахст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ообложение срочных контр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109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491920"/>
            <a:ext cx="8612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О «Товарная биржа «ЕТС»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ts.kz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л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7 727 244 578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акс: +7 727 244 5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TS_Logo"/>
          <p:cNvPicPr/>
          <p:nvPr/>
        </p:nvPicPr>
        <p:blipFill>
          <a:blip r:embed="rId2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О «Товарная биржа «ЕТ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24000" y="6308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012000" y="6021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26920" y="206064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Региональный финансовый центр города Алматы (РФЦА) и ОАО "Фондовая биржа РТС" учредили в г. Алматы товарную биржу АО "Евразийская торговая система" (ЕТС).  Капитализация биржи составляет 10 млн. долларов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Открытие торгов на ЕТС состоялось в марте 2009 года. Товарная биржа ориентирована на проведение спотовых торгов товарами , а также на проведение срочных торгов поставочными и расчетными контрактами под различные базовые активы. Торги проводятся анонимно с электронном виде с возможностью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6120" y="115560"/>
            <a:ext cx="51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онная струк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012000" y="6237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324000" y="6524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7" descr=""/>
          <p:cNvPicPr/>
          <p:nvPr/>
        </p:nvPicPr>
        <p:blipFill>
          <a:blip r:embed="rId2"/>
          <a:stretch/>
        </p:blipFill>
        <p:spPr>
          <a:xfrm>
            <a:off x="353880" y="1066680"/>
            <a:ext cx="843624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и тор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66" name="Line 4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324000" y="6308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012000" y="6021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14240" y="1928880"/>
            <a:ext cx="784872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торгов сельскохозяйственной продук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срочных торгов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расчетные и поставоч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торгов нефтепродуктами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 ГСМ, дизтопливо,мазу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торгов металлами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промышленные, драгоце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специализированных торгов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аукционы, интервен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ламенты тор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72" name="Line 4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324000" y="659772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012000" y="63086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55640" y="1582560"/>
            <a:ext cx="784872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Двойной встречный анонимный аукцион со 100 % предварительным депонированием активов и расчетами по сделкам в Т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Адресные сделки со 100 % предварительным депонированием активов и расчетами в Т+0, Т+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Сделки с обратным выкупом в режиме анонимного аукциона либо в режиме адресных заявок с участием оффтейк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Классический регламент. Выставление котировок, расчеты без депонирования средств, установление обязательств по расчетам при заключении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Анонимные аукционы, адресные сделки и сделки на срочном рынке с частичным депонированием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00680" y="115560"/>
            <a:ext cx="49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спективы и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лижайши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Гарантийного фонда ЕТС. Создание центрального контр агента – ТОО «Клиринговый центр «ЕТС» ( Сентябрь 200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лноценного технического центра с установкой торговых систем ЕТС (Сентябрь 200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кции срочного рынка (Сентябрь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 торгов фьючерсами с поставкой на з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еднесрочны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кции металлов в режиме классической торгов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кции нефтепродуктов в режиме классической торговли; (ГСМ, дизтопливо, маз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уск торгов с частичным предварительным депонир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уск торгов фьючерсами на нефть и золото (расчет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79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324000" y="666900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012000" y="63817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00680" y="115560"/>
            <a:ext cx="49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я срочного ры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9680" y="128592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то сдел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полноценный технический центр на базе ЕТС в г. Ал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действие и высокое качество проведения торгов, современные торговые системы, терминалы, шлю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Клиринговый центр Е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ое юр. лицо центральный контрагент по сделкам. Гарант исполнения обязательств по сделкам. Снятие рисков на участников тор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Гарантийный фонд Клирингового 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гарантии исполнения обязательств по сдел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Line 7"/>
          <p:cNvSpPr/>
          <p:nvPr/>
        </p:nvSpPr>
        <p:spPr>
          <a:xfrm>
            <a:off x="142920" y="107172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000840" y="6429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85840" y="6715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00680" y="115560"/>
            <a:ext cx="49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я срочного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рамет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и тор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нимный аукци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заключения адресных сдел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ринговый центр – центральный контра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рисков и расчет Гарантийного обеспечения под открытые позиции в ходе тор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и системы управления рис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йное обеспечение определяется в % от расчетной це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а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- Ставка Гарантийного обеспечения определяется волатильностью цены контра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вышении волатильности изменение ставки Гарантийного обеспечения будет осуществляться 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тор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оценка р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расчетных цен, гарантийного обеспечения, расчеты по вариационной марже будут проводится 1 или 2 раза в д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я срочного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86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стр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ьючерсные контракты на зерно (поставочные) –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ентябрь 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й фьючерсный контракт на золото –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Октябрь 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й фьючерсный контракт на нефть –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Ноябрь 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ближайшей перспективе, при наличие интереса и соглас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е контракты на курсы тенге к доллару, евро, рублю и т.д.;    ( с возможностью постав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е контракты на фондовые и товарные индек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очные или расчетные фьючерсные контракты на «голубые фиш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е фьючерсные контракты на нефть, нефтерпродукты, металлы (при необходимости с постав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ционы, опционы на фьючерсы под различные базовые акт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Line 7"/>
          <p:cNvSpPr/>
          <p:nvPr/>
        </p:nvSpPr>
        <p:spPr>
          <a:xfrm>
            <a:off x="142920" y="10000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4:15:16Z</dcterms:created>
  <dc:creator>1</dc:creator>
  <dc:description/>
  <dc:language>en-US</dc:language>
  <cp:lastModifiedBy>Your User Name</cp:lastModifiedBy>
  <dcterms:modified xsi:type="dcterms:W3CDTF">2009-09-04T09:19:18Z</dcterms:modified>
  <cp:revision>70</cp:revision>
  <dc:subject/>
  <dc:title>Слайд 1</dc:title>
</cp:coreProperties>
</file>