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2C02-6E6B-42D5-9EDE-EBFB8D95C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C9B1-4AD0-4D66-82FD-1E1EBF59CA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47F-2856-4FEF-A05E-F1D93434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E870-6D01-4095-921D-E557E00F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CEC-DDC2-4D84-9787-2723FC31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3C90-1D2A-42C0-A519-FDBA49FA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5A4-79E9-48F9-9090-79545D98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12C-24F5-467D-963A-E4CE3FEE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634A-4D40-41FD-A7FA-3303F8A7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456-8625-4FBE-9DC4-73E2BA4C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83B-02A3-44FF-A704-C965F96A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151-91C3-4F16-81FA-194071B7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E86-036D-4DCC-BA22-1EC6EC21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7D0-9769-42DD-AB2E-132B76CF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48A2-148D-482D-951F-1F98DC3157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О "Товарная биржа "ЕТС"     2009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7075-3721-4C9D-9A6C-F78E4E3CB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ts.kz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ционерное Об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Товарная биржа «ЕТ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50" name="Line 6"/>
          <p:cNvSpPr/>
          <p:nvPr/>
        </p:nvSpPr>
        <p:spPr>
          <a:xfrm>
            <a:off x="179280" y="126828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324000" y="630864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6920" y="11556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даст срочный ры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ьный сек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зрачное ценообразо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керный региональный контракт на зер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е управление складскими запас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заключение «длинных» контрактов по фиксированным ценам либо «по формул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ому сообществу и инвестор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чок в развитии структурных продук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битраж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 ликвидности на фондовом рынке за счет арбитраже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менты хеджирования для коллективных и частных инвести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окое внедрение интернет - трейдин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179280" y="126828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012000" y="64533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324000" y="674208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6920" y="11556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 к обсужд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уск профессиональных участников фондового рынка к торгам на товарных бирж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читаем необходимым разрешить допуск брокеров/дилеров профессиональных участников РЦБ к торгам поставочными срочными контрактами на това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торговли производными финансовыми инструментам вне зависимости от базового актива на товарных бирж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ирование и лицензиро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и бирж в Казахст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гообложение срочных контра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109" name="Line 7"/>
          <p:cNvSpPr/>
          <p:nvPr/>
        </p:nvSpPr>
        <p:spPr>
          <a:xfrm>
            <a:off x="179280" y="126828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012000" y="64533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324000" y="674208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2491920"/>
            <a:ext cx="8612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О «Товарная биржа «ЕТС»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ets.kz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л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7 727 244 5780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акс: +7 727 244 57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ETS_Logo"/>
          <p:cNvPicPr/>
          <p:nvPr/>
        </p:nvPicPr>
        <p:blipFill>
          <a:blip r:embed="rId2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114" name="Line 6"/>
          <p:cNvSpPr/>
          <p:nvPr/>
        </p:nvSpPr>
        <p:spPr>
          <a:xfrm>
            <a:off x="179280" y="126828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012000" y="64533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324000" y="674208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О «Товарная биржа «ЕТ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>
            <a:off x="179280" y="141300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24000" y="630864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012000" y="60213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826920" y="2060640"/>
            <a:ext cx="763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Региональный финансовый центр города Алматы (РФЦА) и ОАО "Фондовая биржа РТС" учредили в г. Алматы товарную биржу АО "Евразийская торговая система" (ЕТС).  Капитализация биржи составляет 10 млн. долларов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Открытие торгов на ЕТС состоялось в марте 2009 года. Товарная биржа ориентирована на проведение спотовых торгов товарами , а также на проведение срочных торгов поставочными и расчетными контрактами под различные базовые активы. Торги проводятся анонимно с электронном виде с возможностью удаленного досту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86120" y="115560"/>
            <a:ext cx="51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онная структу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60" name="Line 7"/>
          <p:cNvSpPr/>
          <p:nvPr/>
        </p:nvSpPr>
        <p:spPr>
          <a:xfrm>
            <a:off x="179280" y="126828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012000" y="62373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324000" y="652464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7" descr=""/>
          <p:cNvPicPr/>
          <p:nvPr/>
        </p:nvPicPr>
        <p:blipFill>
          <a:blip r:embed="rId2"/>
          <a:stretch/>
        </p:blipFill>
        <p:spPr>
          <a:xfrm>
            <a:off x="353880" y="1066680"/>
            <a:ext cx="843624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ции тор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66" name="Line 4"/>
          <p:cNvSpPr/>
          <p:nvPr/>
        </p:nvSpPr>
        <p:spPr>
          <a:xfrm>
            <a:off x="179280" y="141300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324000" y="630864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012000" y="60213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14240" y="1928880"/>
            <a:ext cx="784872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Секция торгов сельскохозяйственной продук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Секция срочных торгов </a:t>
            </a:r>
            <a:r>
              <a:rPr b="1" lang="ru-RU" sz="1600" spc="-1" strike="noStrike">
                <a:solidFill>
                  <a:srgbClr val="262626"/>
                </a:solidFill>
                <a:latin typeface="Arial"/>
              </a:rPr>
              <a:t>(расчетные и поставочн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Секция торгов нефтепродуктами </a:t>
            </a:r>
            <a:r>
              <a:rPr b="1" lang="ru-RU" sz="1600" spc="-1" strike="noStrike">
                <a:solidFill>
                  <a:srgbClr val="262626"/>
                </a:solidFill>
                <a:latin typeface="Arial"/>
              </a:rPr>
              <a:t>( ГСМ, дизтопливо,мазу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Секция торгов металлами </a:t>
            </a:r>
            <a:r>
              <a:rPr b="1" lang="ru-RU" sz="1600" spc="-1" strike="noStrike">
                <a:solidFill>
                  <a:srgbClr val="262626"/>
                </a:solidFill>
                <a:latin typeface="Arial"/>
              </a:rPr>
              <a:t>(промышленные, драгоценн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Секция специализированных торгов </a:t>
            </a:r>
            <a:r>
              <a:rPr b="1" lang="ru-RU" sz="1600" spc="-1" strike="noStrike">
                <a:solidFill>
                  <a:srgbClr val="262626"/>
                </a:solidFill>
                <a:latin typeface="Arial"/>
              </a:rPr>
              <a:t>(аукционы, интервен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ламенты тор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72" name="Line 4"/>
          <p:cNvSpPr/>
          <p:nvPr/>
        </p:nvSpPr>
        <p:spPr>
          <a:xfrm>
            <a:off x="179280" y="141300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324000" y="659772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012000" y="63086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55640" y="1582560"/>
            <a:ext cx="7848720" cy="61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Двойной встречный анонимный аукцион со 100 % предварительным депонированием активов и расчетами по сделкам в Т+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Адресные сделки со 100 % предварительным депонированием активов и расчетами в Т+0, Т+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Сделки с обратным выкупом в режиме анонимного аукциона либо в режиме адресных заявок с участием оффтейк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Классический регламент. Выставление котировок, расчеты без депонирования средств, установление обязательств по расчетам при заключении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Анонимные аукционы, адресные сделки и сделки на срочном рынке с частичным депонированием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00680" y="115560"/>
            <a:ext cx="498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спективы и пл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лижайшие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Гарантийного фонда ЕТС. Создание центрального контр агента – ТОО «Клиринговый центр «ЕТС» ( Сентябрь 2009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полноценного технического центра с установкой торговых систем ЕТС (Сентябрь 2009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ие Секции срочного рынка (Сентябрь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уск торгов фьючерсами с поставкой на з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реднесрочные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ие секции металлов в режиме классической торгов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ие секции нефтепродуктов в режиме классической торговли; (ГСМ, дизтопливо, маз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уск торгов с частичным предварительным депониро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уск торгов фьючерсами на нефть и золото (расчет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79" name="Line 7"/>
          <p:cNvSpPr/>
          <p:nvPr/>
        </p:nvSpPr>
        <p:spPr>
          <a:xfrm>
            <a:off x="179280" y="126828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324000" y="666900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012000" y="638172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00680" y="115560"/>
            <a:ext cx="498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ция срочного ры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9680" y="1285920"/>
            <a:ext cx="8286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то сдел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 полноценный технический центр на базе ЕТС в г. Алм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действие и высокое качество проведения торгов, современные торговые системы, терминалы, шлю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 Клиринговый центр ЕТ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ьное юр. лицо центральный контрагент по сделкам. Гарант исполнения обязательств по сделкам. Снятие рисков на участников тор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 Гарантийный фонд Клирингового цен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ые гарантии исполнения обязательств по сдел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85" name="Line 7"/>
          <p:cNvSpPr/>
          <p:nvPr/>
        </p:nvSpPr>
        <p:spPr>
          <a:xfrm>
            <a:off x="142920" y="107172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6000840" y="6429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>
            <a:off x="285840" y="671508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00680" y="115560"/>
            <a:ext cx="498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ция срочного ры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арамет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ки торг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онимный аукци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заключения адресных сдел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ринговый центр – центральный контраг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рисков и расчет Гарантийного обеспечения под открытые позиции в ходе торг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ки системы управления рис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антийное обеспечение определяется в % от расчетной це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ак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% - Ставка Гарантийного обеспечения определяется волатильностью цены контрак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вышении волатильности изменение ставки Гарантийного обеспечения будет осуществляться 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ходе торг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оценка рис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расчетных цен, гарантийного обеспечения, расчеты по вариационной марже будут проводится 1 или 2 раза в ден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91" name="Line 7"/>
          <p:cNvSpPr/>
          <p:nvPr/>
        </p:nvSpPr>
        <p:spPr>
          <a:xfrm>
            <a:off x="179280" y="126828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324000" y="674208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012000" y="64533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71600" y="-36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ция срочного ры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78688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стру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ьючерсные контракты на зерно (поставочные) –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Сентябрь 200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ный фьючерсный контракт на золото –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Октябрь 200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ный фьючерсный контракт на нефть –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Ноябрь 200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ближайшей перспективе, при наличие интереса и соглас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ные контракты на курсы тенге к доллару, евро, рублю и т.д.;    ( с возможностью постав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ные контракты на фондовые и товарные индек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вочные или расчетные фьючерсные контракты на «голубые фишк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ные фьючерсные контракты на нефть, нефтерпродукты, металлы (при необходимости с поставко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ционы, опционы на фьючерсы под различные базовые акти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ETS_Logo"/>
          <p:cNvPicPr/>
          <p:nvPr/>
        </p:nvPicPr>
        <p:blipFill>
          <a:blip r:embed="rId1"/>
          <a:stretch/>
        </p:blipFill>
        <p:spPr>
          <a:xfrm>
            <a:off x="179280" y="115920"/>
            <a:ext cx="3328920" cy="792000"/>
          </a:xfrm>
          <a:prstGeom prst="rect">
            <a:avLst/>
          </a:prstGeom>
          <a:ln w="0">
            <a:noFill/>
          </a:ln>
        </p:spPr>
      </p:pic>
      <p:sp>
        <p:nvSpPr>
          <p:cNvPr id="97" name="Line 7"/>
          <p:cNvSpPr/>
          <p:nvPr/>
        </p:nvSpPr>
        <p:spPr>
          <a:xfrm>
            <a:off x="142920" y="1000080"/>
            <a:ext cx="8640720" cy="0"/>
          </a:xfrm>
          <a:prstGeom prst="line">
            <a:avLst/>
          </a:prstGeom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6012000" y="64533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АО «Товарная биржа «ЕТС» 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324000" y="6742080"/>
            <a:ext cx="86407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4:15:16Z</dcterms:created>
  <dc:creator>1</dc:creator>
  <dc:description/>
  <dc:language>en-US</dc:language>
  <cp:lastModifiedBy>Your User Name</cp:lastModifiedBy>
  <dcterms:modified xsi:type="dcterms:W3CDTF">2009-09-04T09:19:18Z</dcterms:modified>
  <cp:revision>70</cp:revision>
  <dc:subject/>
  <dc:title>Слайд 1</dc:title>
</cp:coreProperties>
</file>