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8A2D-42A4-425F-90CE-8267ECB58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DBB9-0A56-4640-9768-06B13C75A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1EDC-BBBA-4F30-91A0-C45477DF5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6EDE-E6FF-4598-BFC3-19BDB30DE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18A2-BE08-4B9D-AA33-643D53C90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F928-068C-453E-86E6-0E0FC11C2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95B3-5BE3-468B-94EB-0667967A3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2A78-ECCD-45D2-8A00-5AF461F59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D6CB-9723-42E9-AD80-420CE6368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3465-0BCD-4D83-819B-7A9F44371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5023-1EDA-49D5-82D9-C51E76DB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9B5A-5088-4E6F-BD04-6E643023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B8927-2DE5-4769-B40A-4B080EE2B4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99800" y="3642840"/>
            <a:ext cx="6929640" cy="82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Calibri"/>
              </a:rPr>
              <a:t>IT </a:t>
            </a:r>
            <a:r>
              <a:rPr b="0" lang="ru-RU" sz="3900" spc="-1" strike="noStrike">
                <a:solidFill>
                  <a:srgbClr val="ffffff"/>
                </a:solidFill>
                <a:latin typeface="Calibri"/>
              </a:rPr>
              <a:t>на службе финансов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289440" y="6215040"/>
            <a:ext cx="305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4061"/>
                </a:solidFill>
                <a:latin typeface="Calibri"/>
              </a:rPr>
              <a:t>Pavel Pronchenko, Issyk Kul, September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28640" y="356760"/>
            <a:ext cx="5257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WTE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ет на Казахстанском рын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0 %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захстанская комп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0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сококвалифицированных специалис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сятки республиканских проек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коло 25 производи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O 9001:2000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ртифика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289440" y="6215040"/>
            <a:ext cx="305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4061"/>
                </a:solidFill>
                <a:latin typeface="Calibri"/>
              </a:rPr>
              <a:t>Pavel Pronchenko, Issyk Kul, September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9000" y="356760"/>
            <a:ext cx="55720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EWTECH &amp; MICROSOF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ода вмес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5 Microsoft Certified engine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ld Certified Partner (5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мпетенций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C competence (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вая в Казахста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R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артне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1/07/0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5" descr="Gold_Partner_rgb_80_10_5_11 copy.jpg"/>
          <p:cNvPicPr/>
          <p:nvPr/>
        </p:nvPicPr>
        <p:blipFill>
          <a:blip r:embed="rId2"/>
          <a:stretch/>
        </p:blipFill>
        <p:spPr>
          <a:xfrm>
            <a:off x="642960" y="4714920"/>
            <a:ext cx="7715160" cy="1406520"/>
          </a:xfrm>
          <a:prstGeom prst="rect">
            <a:avLst/>
          </a:prstGeom>
          <a:ln w="0">
            <a:noFill/>
          </a:ln>
        </p:spPr>
      </p:pic>
      <p:sp>
        <p:nvSpPr>
          <p:cNvPr id="49" name="TextBox 6"/>
          <p:cNvSpPr/>
          <p:nvPr/>
        </p:nvSpPr>
        <p:spPr>
          <a:xfrm>
            <a:off x="289440" y="6215040"/>
            <a:ext cx="305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4061"/>
                </a:solidFill>
                <a:latin typeface="Calibri"/>
              </a:rPr>
              <a:t>Pavel Pronchenko, Issyk Kul, September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9000" y="356760"/>
            <a:ext cx="55720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ОРГИ СЕГОДН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иент приходит ног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писывает бумажный прика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гистратор оформляет сдел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ранит документы в архив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289440" y="6215040"/>
            <a:ext cx="305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4061"/>
                </a:solidFill>
                <a:latin typeface="Calibri"/>
              </a:rPr>
              <a:t>Pavel Pronchenko, Issyk Kul, September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9000" y="356760"/>
            <a:ext cx="55720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ОРГИ ЗАВТР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иент заполняет форму 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тернет-портал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писывает электронной подпись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гистратор оформляет сдел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ранит документ в электронном ви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289440" y="6215040"/>
            <a:ext cx="305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4061"/>
                </a:solidFill>
                <a:latin typeface="Calibri"/>
              </a:rPr>
              <a:t>Pavel Pronchenko, Issyk Kul, September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28760" y="25718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254061"/>
                </a:solidFill>
                <a:latin typeface="Calibri"/>
              </a:rPr>
              <a:t>Спасибо за внимани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285840" y="6215040"/>
            <a:ext cx="296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4061"/>
                </a:solidFill>
                <a:latin typeface="Calibri"/>
              </a:rPr>
              <a:t>Pavel Pronchenko, Almaty, September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05:58:47Z</dcterms:created>
  <dc:creator>Pronchenko</dc:creator>
  <dc:description/>
  <dc:language>en-US</dc:language>
  <cp:lastModifiedBy>Omarova</cp:lastModifiedBy>
  <dcterms:modified xsi:type="dcterms:W3CDTF">2008-09-17T09:39:29Z</dcterms:modified>
  <cp:revision>62</cp:revision>
  <dc:subject/>
  <dc:title>Слайд 1</dc:title>
</cp:coreProperties>
</file>