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4C3-7780-4EB9-839B-0D3339B7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991-C65E-46BD-B4E6-DE82A821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18B-A63B-427C-830A-22C015F2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9FD-5581-4168-A8F0-168AD287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D55-9B67-452E-B37B-EC5CBAED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BA5-9D5A-48B6-BE29-9BAD56E3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A27-ACFA-48B4-9C4A-0E57005C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3A9-2AAC-4588-BBE2-61918614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8CB-1994-447E-88D3-5EB67D85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269-5B6F-4D9D-8204-FAA0D7B7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2CD-6773-4650-AEBE-3EFB252D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C3F-4284-426B-BF0D-E34E9CAD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2C07-DAB6-40FE-B14F-FA86D20E2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99800" y="3642840"/>
            <a:ext cx="692964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alibri"/>
              </a:rPr>
              <a:t>IT </a:t>
            </a:r>
            <a:r>
              <a:rPr b="0" lang="ru-RU" sz="3900" spc="-1" strike="noStrike">
                <a:solidFill>
                  <a:srgbClr val="ffffff"/>
                </a:solidFill>
                <a:latin typeface="Calibri"/>
              </a:rPr>
              <a:t>на службе финансов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8640" y="356760"/>
            <a:ext cx="5257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T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 на Казахстанском ры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 %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захстанская комп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оквалифицированных специалис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ки республиканских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25 произв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 9001:200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тифик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900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TECH &amp; MICROSO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да в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Microsoft Certified engin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 Certified Partner (5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етенци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C competence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в Казахст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тн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/07/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Gold_Partner_rgb_80_10_5_11 copy.jpg"/>
          <p:cNvPicPr/>
          <p:nvPr/>
        </p:nvPicPr>
        <p:blipFill>
          <a:blip r:embed="rId2"/>
          <a:stretch/>
        </p:blipFill>
        <p:spPr>
          <a:xfrm>
            <a:off x="642960" y="4714920"/>
            <a:ext cx="7715160" cy="140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900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РГИ СЕГОД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ент приходит но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писывает бумажный прик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стратор оформляет сдел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анит документы в архи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900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РГИ ЗАВТ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ент заполняет форму 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-порт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писывает электронной подпис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стратор оформляет сдел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анит документ в электронном ви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760" y="25718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54061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85840" y="621504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Almaty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5:58:47Z</dcterms:created>
  <dc:creator>Pronchenko</dc:creator>
  <dc:description/>
  <dc:language>en-US</dc:language>
  <cp:lastModifiedBy>Omarova</cp:lastModifiedBy>
  <dcterms:modified xsi:type="dcterms:W3CDTF">2008-09-17T09:39:29Z</dcterms:modified>
  <cp:revision>62</cp:revision>
  <dc:subject/>
  <dc:title>Слайд 1</dc:title>
</cp:coreProperties>
</file>