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280189-5E6F-43A3-ACD2-C1163DA95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C865D7-6103-422A-B5D0-D6DAF50DF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 этом много говорили, но проблемы почему – то не решаются. Поэтому еще раз и с учетом кризи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238641-BA65-4C76-A3B6-F0D82E2FC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зис сильно повлиял на рынок коллективных инвестиций, причем негативно. Активы ПИФов пострадали от снижения стоимости активов, дефолтов, ухода пайщиков. Количество фондом уменьшилось и пока оживления не видно. Хотя дно уже пройдено, потому что в 2009 году мы наблюдаем рост активов, но пока только от роста стоимости активов. Новых денег в ПИФы не приход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21A955-E41F-4EFA-BA66-C0CB93F43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закрывшихся УК были и одни из лидеров рынка ПИФов (Аим) и продвинутые российские компании (КИТ Форт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из 7000 казахстанцев, только 1 является пайщиком фонда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 свою очередь может привести к закрытию фондов, которые не соответствуют данному требова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дерутся за депозиты, а можно их перенаправить в ПИФ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651FB8-C828-4E78-B1AF-ED54B2FEC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юс 40 Акционерных инвестиционных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поднимался вопрос о том, что закрытые фонды являются  по сути оффшорными структурами, через которые пайщики фондов получают огромные доходы без выплаты налогов. Во многом подтверждением является статистика активов фондов, но у нас нет статистики по вопросу: сколько ПИФов имеют по одному – двум пайщикам,  их активность на рынке ценных бумаг. Большую долю среди ПИФов как по активам (296 939 млн тенге из 299 444 млн тенге), так и по количеству (77% рынка ПИФов) занимают закрытые фон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ство по налогообложению изменилось, но не в лучшую стор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C5462F-E3F2-46D7-82BF-70CCCBCB1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юс 40 Акционерных инвестиционных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 очень часто поднимается вопрос о том, что закрытые фонды являются  по сути оффшорными структурами, через которые пайщики фондов получают огромные доходы без выплаты налогов. Во многом подтверждением является статистика активов фондов, но у нас нет статистики по вопросу: сколько ПИФов имеют по одному – двум пайщикам,  их активность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этим возникает вопрос об пересмотре налоговых льгот для частных инвестиционных фон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19E8C-D2C1-435D-A13D-7B1D09ADD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ысл биржевой торговли па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ключается в предоставление возможности инвестору приобрести или продать паи, в случаях когда УК не осуществляет выкуп или размещение дополнительных паев. В процессе биржевой торговли формируются рыночные цены на ПИФы, что придаст дополнительную надежность и прозрачность институту коллективных инвестиций и инвесторы смогут оценивать стоимость своих вложений на основании биржевых котировок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ющая ситу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захстане сложилась практика, что большинство закрытых фондов предоставляет  своим пайщикам возможность выхода. На первых порах становления этого нового для Казахстана института такая практика была оправдана и УК предусматривали выход  чтобы привлечь потенциальных пайщиков в закрытые фон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дейно, закрытые ПИФы -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весто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рисков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ектов, выход которых должен осуществляться после реализации проекта. Поэтому существующая на данный момент практика выхода из закрытого фонда лишает смысла биржевую торговлю паями. Если УК предоставляет возможность выхода в определенные промежутки времени, то в условиях зачаточного рынка паев, биржевая торговля едва ли будет востреб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ий момент в республике нет достаточного количества фондов, отвечающих требованиям листинга и инвесторов способных создать биржевой рынок паев. Для активизации рынка важно не столько количество фондов в Республике, а число пайщиков и потенциальных инвесторов, готовых войти в фон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4E32F4-1179-4CF1-866E-5613A321B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ADFEF4-2349-4D6E-A219-9FD58B679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ысл биржевой торговли паям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возможности инвестору приобрести или продать свои паи, в случаях, когда Управляющая Компания не осуществляет выкуп или размещение дополнительных п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ющая ситу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закрытых фондов предоставляют своим пайщикам возможность выхода. Даная практика снижает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ржевой торговли па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ыт России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3 года две биржи (ММВБ и МФБ) включают в листинг инвестиционные паевые фонды, после более шести лет существования фон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12B-8343-4EB6-A8FE-BE349CC4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5C0-D179-48E7-9803-1D33C4EF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AAD-2885-4FB4-A852-38C6E9BF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2B9-D9E5-4E30-A4F7-3E0A8E0B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7CC-72C7-4143-88AD-503D2C53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9C4-6C56-424A-8E00-3B32834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91B-771B-4427-9F0E-532203E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4D6-9C8B-45D2-A1CA-C45AEF04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FB6-F470-4B9E-88D5-F8865A7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3E9-2300-4EBA-B060-6AB6C07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F80-74F8-4A3A-B4F9-D80ADCDE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72A-30F2-4562-B40C-75F6021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D75B-EFA2-4D56-90F7-085F2612B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entras.k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7"/>
          <p:cNvSpPr/>
          <p:nvPr/>
        </p:nvSpPr>
        <p:spPr>
          <a:xfrm>
            <a:off x="539640" y="476280"/>
            <a:ext cx="7848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143080" y="1844640"/>
            <a:ext cx="574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ерспективы развития  ПИФов в Казахстане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ерезагрузка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" name="Picture 12" descr="Conf5"/>
          <p:cNvPicPr/>
          <p:nvPr/>
        </p:nvPicPr>
        <p:blipFill>
          <a:blip r:embed="rId1"/>
          <a:stretch/>
        </p:blipFill>
        <p:spPr>
          <a:xfrm>
            <a:off x="755640" y="213372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4356000" y="4143240"/>
            <a:ext cx="4105440" cy="28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Жанна Нуралина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Директор Департамента брокерских услуг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АО «Сентрас Секьюритиз»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ентябрь, 2009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539640" y="476280"/>
            <a:ext cx="0" cy="865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684360" y="6453360"/>
            <a:ext cx="7848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8532720" y="5587920"/>
            <a:ext cx="0" cy="865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360" y="1628640"/>
            <a:ext cx="4680000" cy="432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aramond"/>
              </a:rPr>
              <a:t>АО «СЕНТРАС СЕКЬЮРИТИ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2920" y="2204640"/>
            <a:ext cx="4032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Казахстан, Алматы,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500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ул.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анаса 32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Бизнес Центр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AT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, офис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Тел.: +7 727 259 88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Факс: +7 727 259 88 8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aramond"/>
              </a:rPr>
              <a:t>mail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Garamond"/>
              </a:rPr>
              <a:t>Вниманию: Нуралиной Жан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aramond"/>
              </a:rPr>
              <a:t>e-mail: ZNuralina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56000" y="139680"/>
            <a:ext cx="45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3300"/>
                </a:solidFill>
                <a:latin typeface="Garamond"/>
              </a:rPr>
              <a:t>КОНТАКТНАЯ ИНФОРМАЦИЯ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Picture 7" descr="Conf5"/>
          <p:cNvPicPr/>
          <p:nvPr/>
        </p:nvPicPr>
        <p:blipFill>
          <a:blip r:embed="rId2"/>
          <a:stretch/>
        </p:blipFill>
        <p:spPr>
          <a:xfrm>
            <a:off x="108000" y="6167520"/>
            <a:ext cx="576360" cy="57456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>
            <a:off x="2627280" y="54936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Статистик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40000" y="765000"/>
            <a:ext cx="65530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1" marL="623880" indent="-360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" name="Picture 7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8" name="Line 9"/>
          <p:cNvSpPr/>
          <p:nvPr/>
        </p:nvSpPr>
        <p:spPr>
          <a:xfrm>
            <a:off x="2700360" y="765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79280" y="1407960"/>
            <a:ext cx="1944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Кризис существенно повлиял на ПИФы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Хочется верить, что дно уже пройдено.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643120" y="1857240"/>
            <a:ext cx="590400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ктивы ПИФов в текущем году показывают положительную динамику, за первое полугодие 2009 года они выросли на 67,8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реимущ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величение активов произошло в закрытых фондах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643120" y="928800"/>
          <a:ext cx="5918400" cy="1143000"/>
        </p:xfrm>
        <a:graphic>
          <a:graphicData uri="http://schemas.openxmlformats.org/drawingml/2006/table">
            <a:tbl>
              <a:tblPr/>
              <a:tblGrid>
                <a:gridCol w="1663920"/>
                <a:gridCol w="85068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инвестиционных фон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ПИФ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627280" y="3068640"/>
          <a:ext cx="5918400" cy="1143000"/>
        </p:xfrm>
        <a:graphic>
          <a:graphicData uri="http://schemas.openxmlformats.org/drawingml/2006/table">
            <a:tbl>
              <a:tblPr/>
              <a:tblGrid>
                <a:gridCol w="1663560"/>
                <a:gridCol w="85104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ктивы инвестиционных фондов (млн. тенге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ктивы ПИФ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 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8 5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 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4 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9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5 8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 4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0 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6 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5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3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8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27280" y="4653000"/>
          <a:ext cx="5918400" cy="1120680"/>
        </p:xfrm>
        <a:graphic>
          <a:graphicData uri="http://schemas.openxmlformats.org/drawingml/2006/table">
            <a:tbl>
              <a:tblPr/>
              <a:tblGrid>
                <a:gridCol w="1663560"/>
                <a:gridCol w="85104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пайщ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4.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4.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6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3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1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51"/>
          <p:cNvSpPr/>
          <p:nvPr/>
        </p:nvSpPr>
        <p:spPr>
          <a:xfrm>
            <a:off x="6750000" y="5734080"/>
            <a:ext cx="194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29080" y="26028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Первые результа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340000" y="765000"/>
            <a:ext cx="65530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1" marL="623880" indent="-360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7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68" name="Line 9"/>
          <p:cNvSpPr/>
          <p:nvPr/>
        </p:nvSpPr>
        <p:spPr>
          <a:xfrm>
            <a:off x="2700360" y="765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79280" y="1407960"/>
            <a:ext cx="194472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ПИФы – неотъемлемый инструмент привлечения денег населения на рынок ценных бумаг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700360" y="981000"/>
            <a:ext cx="5904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Тенденция к уменьшению числа пайщиков и ПИФов может сохраниться, в том числе в связи с уменьшение числа УК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Пайщики уходили преимущественно из ОПИФ и ИПИФ – как самых розничных и «настоящих» ПИФов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На 01 июля 2009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г. (данные АФН) лишь 10 ОПИФ и ИПИФ соответствовали требованиям по минимальному размеру активов (50 тыс. МРП)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ПИФы не получили должного развития до кризиса, а сейчас стоят на грани вымирания.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04360" y="4508280"/>
            <a:ext cx="9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7868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 чему мы приш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ПИФ и ИПИФ являются основными источниками аккум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редств населения и привлечения его на фондовый ры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случаем массового закрытия фондов существует опасность т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что функциональное назначение закона об ИФ ослабеет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будет служить интересам отдельных частных инвес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Главная идея закона РК об инвестиционных фондах - развивать рынок коллективных инвести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а основу рынка коллективных инвестиций должны составля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розничные»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инвест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Необходимы изменения законодательства РК по вопросам коллективных инвест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onf5"/>
          <p:cNvPicPr/>
          <p:nvPr/>
        </p:nvPicPr>
        <p:blipFill>
          <a:blip r:embed="rId1"/>
          <a:stretch/>
        </p:blipFill>
        <p:spPr>
          <a:xfrm>
            <a:off x="108000" y="6093000"/>
            <a:ext cx="576360" cy="574560"/>
          </a:xfrm>
          <a:prstGeom prst="rect">
            <a:avLst/>
          </a:prstGeom>
          <a:ln w="0">
            <a:noFill/>
          </a:ln>
        </p:spPr>
      </p:pic>
      <p:cxnSp>
        <p:nvCxnSpPr>
          <p:cNvPr id="74" name="Прямая со стрелкой 6"/>
          <p:cNvCxnSpPr/>
          <p:nvPr/>
        </p:nvCxnSpPr>
        <p:spPr>
          <a:xfrm flipH="1">
            <a:off x="4857480" y="220788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9"/>
          <p:cNvCxnSpPr/>
          <p:nvPr/>
        </p:nvCxnSpPr>
        <p:spPr>
          <a:xfrm flipH="1">
            <a:off x="4857480" y="364932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1"/>
          <p:cNvCxnSpPr/>
          <p:nvPr/>
        </p:nvCxnSpPr>
        <p:spPr>
          <a:xfrm flipH="1">
            <a:off x="4857480" y="5159160"/>
            <a:ext cx="21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Последстви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771640" y="893880"/>
            <a:ext cx="5545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ИФ = оффшорная зона????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сновные изменения налогообложения пайщиков и ПИФов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льготы сохранились только для открытых ПИФов и отменены для рисковых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тменены льготы по дивидендам и от прироста при выкупе УК акций АИФРИ;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свобожден от налогообложения прирост стоимости акций и долей в ТОО (не связанных с недропользованием и недвижимостью)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се в ПИФы?!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Где налоговое планирование и стимулирование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и налоговые льго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4" name="Line 10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2771640" y="836640"/>
            <a:ext cx="554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Наша позиция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алоговые льготы нужны, но они должны быть стимулятором, а не первопричиной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- налоговые льготы должны предоставляться для развития рынка ценных бумаг и коллективного инвестирования, т.е. налоговая нагрузка должна быть различна, в том числе для частных и коллективных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а правильная идентификация причин создания фонда, мы не против частных фондов - они должны быть, но должны создаваться не ради налоговых льгот, а ради реализации проектов и здесь тоже нужны льгот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о правильное разграничение фондов финансовых инструментов и проектов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24000" y="1628640"/>
            <a:ext cx="1763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Налоговые льготы инвестиционных фондов должны развивать рынок ценных бумаг, но не служить для оптимизации налогов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и налоговые льго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1571760"/>
            <a:ext cx="19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Необходимы законодательные изменения по части регулирования деятельности  закрытых ПИФов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771640" y="949320"/>
            <a:ext cx="5545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Только закрытые и интервальные не рисковые фонды могут быть допущены на биржу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Биржевая торговля паями невостребована пока УК будут также выкупать паи у своих пайщик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ичины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извращение идеи закрытых фондов в связи с затрудненностью инвестирования активов открытых и интервальных ПИФ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Листинговые требования к паям ПИФов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обходимо облегчить требования законодательства к активам открытых и интервальных фондов (рейтинги понизились, надо вернуть все на свои места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26028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на торговой площадк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95" name="Line 4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85840" y="157176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Реклама – двигатель прогресса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2771640" y="1065240"/>
            <a:ext cx="5545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одажи ПИФов через трансфер – агентов, страховые компании и прочих помощников не эффективн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ФЦА проводит мероприятия по продвижению ПИФ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о разрешить рекламу «розничных» фондов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771640" y="26028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родвижение ПИФов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771640" y="3357720"/>
            <a:ext cx="568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ы должны продвигать и развивать ПИФы, потому что они – главный инструмент повышения финансовой грамотности населения и привлечения инвестиций населения на рынок ценных бумаг.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4"/>
          <p:cNvSpPr/>
          <p:nvPr/>
        </p:nvSpPr>
        <p:spPr>
          <a:xfrm>
            <a:off x="262728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Picture 5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2556000" y="907920"/>
            <a:ext cx="5832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вести понятие розничных и частных фондов, фондов финансовых инструментов и проектов, различать их правовое положение и налоговые льгот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смотреть лимиты по открытым и интервальным фондам (понижение рейтингов создает трудности для инвестирования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Запретить выход пайщиков из закрытых фондов (для вновь создаваемых фондов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овершенствовать законодательную базу для развития биржевой торговли паями: пересмотреть листинговое требование о наличии положительной динамики доходности, срок существования фонда, рейтинговая оценка акций, входящих в состав активов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Упростить для УК администрирование фондов в части предоставления отчетов (в частности это касается полугодового отчета о размещении паев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50920" y="13366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00360" y="18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ВЫВОДЫ И ПРЕДЛОЖЕ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7:49Z</dcterms:created>
  <dc:creator>Вадим Червяков</dc:creator>
  <dc:description/>
  <dc:language>en-US</dc:language>
  <cp:lastModifiedBy>User</cp:lastModifiedBy>
  <dcterms:modified xsi:type="dcterms:W3CDTF">2009-09-04T05:20:30Z</dcterms:modified>
  <cp:revision>341</cp:revision>
  <dc:subject/>
  <dc:title>Слайд 1</dc:title>
</cp:coreProperties>
</file>