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A3E-F29F-4B71-8EAB-D7397565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5BE-38D1-46C9-8BC8-C22BD6E5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383-3473-4789-ACA3-A9D2D2A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A49-DA7A-4F25-8932-83B6F5CE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904-A56C-4CCE-8397-0566860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3B2-2012-4A9F-AB4E-8D0E5DA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F02-B9DC-4656-B97D-77A2C18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FA2-0B22-4AE2-80F4-F5151F2C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764640"/>
            <a:ext cx="74898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8BD-820E-42B9-9BFB-DCC24C1A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E26-1B4C-4BA6-BC39-3D8200F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9A6-649E-4EB2-862A-624B54C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220-21B3-44E0-A7A8-18FC770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5640" y="6244920"/>
            <a:ext cx="147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2872-832F-469E-A266-5D661DCB1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gradFill rotWithShape="0">
            <a:gsLst>
              <a:gs pos="0">
                <a:srgbClr val="9db5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84280" cy="22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52"/>
          <p:cNvSpPr/>
          <p:nvPr/>
        </p:nvSpPr>
        <p:spPr>
          <a:xfrm>
            <a:off x="971640" y="3284640"/>
            <a:ext cx="7667640" cy="73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58"/>
          <p:cNvSpPr/>
          <p:nvPr/>
        </p:nvSpPr>
        <p:spPr>
          <a:xfrm>
            <a:off x="900000" y="1628640"/>
            <a:ext cx="8066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65"/>
          <p:cNvSpPr/>
          <p:nvPr/>
        </p:nvSpPr>
        <p:spPr>
          <a:xfrm>
            <a:off x="1077840" y="3500280"/>
            <a:ext cx="8066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лты и рейтинговые аг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67" descr=""/>
          <p:cNvPicPr/>
          <p:nvPr/>
        </p:nvPicPr>
        <p:blipFill>
          <a:blip r:embed="rId1"/>
          <a:stretch/>
        </p:blipFill>
        <p:spPr>
          <a:xfrm>
            <a:off x="1619280" y="1482840"/>
            <a:ext cx="66978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эмитентов на биржах Казахстана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1116000" y="836640"/>
          <a:ext cx="355284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836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5"/>
          <p:cNvGraphicFramePr/>
          <p:nvPr/>
        </p:nvGraphicFramePr>
        <p:xfrm>
          <a:off x="5003640" y="765000"/>
          <a:ext cx="3552840" cy="32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765000"/>
                    <a:ext cx="35528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7"/>
          <p:cNvSpPr/>
          <p:nvPr/>
        </p:nvSpPr>
        <p:spPr>
          <a:xfrm>
            <a:off x="1187280" y="4508640"/>
            <a:ext cx="7490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95 эмитентов выпустивших облигации на КФБ 30 компаний имеют либо индивидуальный рейтинг, либо рейтинг выпус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российском рынке из 400 эмитентов индивидуальный рейтинг и/или рейтинг выпуска имеют 66 комп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выпусков (эмиссий) на биржах Казахстана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187280" y="1052640"/>
          <a:ext cx="355284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5"/>
          <p:cNvGraphicFramePr/>
          <p:nvPr/>
        </p:nvGraphicFramePr>
        <p:xfrm>
          <a:off x="4932360" y="1052640"/>
          <a:ext cx="3552840" cy="320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1042920" y="4724280"/>
            <a:ext cx="75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й ситуация выглядит с рейтингом выпусков. На КФБ из 304 выпусков (в том числе заявленных) 40 эмиссий имеют рейтинг. На ММВБ из 578 выпусков отрейтигованы 186 эмисс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Объемы выпусков облигаций в Казахстане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116000" y="494172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енежном выражении ситуация в Казахстане и России с объемами отрейтингованных эмиссий выглядит почти одинаковой. Более 60% от общего объема выпуска на КФБ и ММВБ имеют рейт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476360" y="83664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83664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выпусков облигаций в Казахстане и России допустивших дефолт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332000" y="90792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6"/>
          <p:cNvSpPr/>
          <p:nvPr/>
        </p:nvSpPr>
        <p:spPr>
          <a:xfrm>
            <a:off x="1116000" y="5084640"/>
            <a:ext cx="7489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рынке Казахстана около 5% от общего количества выпусков допустили дефолт. В России доля более существенная и составляет почти 25%. Менее трагичной ситуация выглядит если рассматривать долю дефолтов в денежном выражении. На КФБ она равна 3%, на ММВБ – 1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Количество дефолтов на казахстанской и российской биржах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1403280" y="90792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6"/>
          <p:cNvSpPr/>
          <p:nvPr/>
        </p:nvSpPr>
        <p:spPr>
          <a:xfrm>
            <a:off x="1116000" y="5013360"/>
            <a:ext cx="748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КФБ из 16 компаний, имеющих проблемы с выплатами, 4 имели рейтинг. На ММВБ из 147 эмитентов, допустивших дефолт лишь 11 имели рейтин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489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дефолтов с рейтингом в общем объеме дефолтов*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258920" y="476280"/>
          <a:ext cx="68198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68198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1187280" y="4581360"/>
            <a:ext cx="74901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*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читывались также выпуски не имеющие рейтинга, но рейтинг был присвоен компании, выпустившей облиг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42920" y="4941720"/>
            <a:ext cx="7489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енежном выражении на КФБ почти 50% от общего объема дефолтов имели рейтинг. Однако, необходимо учесть тот факт, что 67% от объема дефолтных выпусков, имеющих рейтинг, приходится на один выпуск, который рейтинговой оценки не имел. Рейтинг был лишь у самого эмите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Текущие оценки рейтинговых агентств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1403280" y="105264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042920" y="5013360"/>
            <a:ext cx="748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екущий момент на КФБ из 40 выпусков или эмитентов с оценкой от рейтинговых агентств лишь 14 имеют инвестиционный уровень. В России из 168 отрейтингованных эмиссий или эмитентов, инвестиционный уровень есть у 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484280"/>
            <a:ext cx="70567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Спасибо за внимание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!</a:t>
            </a:r>
            <a:br>
              <a:rPr sz="4800"/>
            </a:b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71640" y="981000"/>
            <a:ext cx="6516720" cy="71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328040" y="3533760"/>
            <a:ext cx="630576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ейтинговое Агентство «Эксперт Р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Казахстан»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727) 296-47-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ww.raexpertkz.kz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ww.raexper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8:47:26Z</dcterms:created>
  <dc:creator>zemcov</dc:creator>
  <dc:description/>
  <dc:language>en-US</dc:language>
  <cp:lastModifiedBy>User</cp:lastModifiedBy>
  <dcterms:modified xsi:type="dcterms:W3CDTF">2009-08-28T09:02:59Z</dcterms:modified>
  <cp:revision>362</cp:revision>
  <dc:subject/>
  <dc:title>Слайд 1</dc:title>
</cp:coreProperties>
</file>