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024-F819-4747-BF9F-B31EC81F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5B2-88FD-42B1-86CF-D8E8B373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4CC-63F4-4446-BC8E-FAD560BD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F66-A0DA-41C3-B910-1B09D4C3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E53-7447-4DD5-82FE-1FB51010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6FE-5AD2-44DB-BEBC-91D27A02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177-FFC1-469A-B59A-08DB1EF9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07C-5625-460D-B15D-3643ABF1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764640"/>
            <a:ext cx="748980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982-77E0-42D9-BB8F-CE120891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AEA-E1BC-4652-BF2C-BE29CA3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CE5-0563-4BAF-9FE1-D831A6D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34F-2DFB-434F-A9B6-524F446F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489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15640" y="6244920"/>
            <a:ext cx="1474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D13A-11F9-41F7-9F2C-0AFB0A01A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gradFill rotWithShape="0">
            <a:gsLst>
              <a:gs pos="0">
                <a:srgbClr val="9db5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584280" cy="22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52"/>
          <p:cNvSpPr/>
          <p:nvPr/>
        </p:nvSpPr>
        <p:spPr>
          <a:xfrm>
            <a:off x="971640" y="3284640"/>
            <a:ext cx="7667640" cy="73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58"/>
          <p:cNvSpPr/>
          <p:nvPr/>
        </p:nvSpPr>
        <p:spPr>
          <a:xfrm>
            <a:off x="900000" y="1628640"/>
            <a:ext cx="8066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65"/>
          <p:cNvSpPr/>
          <p:nvPr/>
        </p:nvSpPr>
        <p:spPr>
          <a:xfrm>
            <a:off x="1077840" y="3500280"/>
            <a:ext cx="8066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олты и рейтинговые аген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067" descr=""/>
          <p:cNvPicPr/>
          <p:nvPr/>
        </p:nvPicPr>
        <p:blipFill>
          <a:blip r:embed="rId1"/>
          <a:stretch/>
        </p:blipFill>
        <p:spPr>
          <a:xfrm>
            <a:off x="1619280" y="1482840"/>
            <a:ext cx="66978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оля эмитентов на биржах Казахстана и России с рейтингом и без (корпоративный сектор)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48" name="Object 10"/>
          <p:cNvGraphicFramePr/>
          <p:nvPr/>
        </p:nvGraphicFramePr>
        <p:xfrm>
          <a:off x="1116000" y="836640"/>
          <a:ext cx="3552840" cy="32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836640"/>
                    <a:ext cx="35528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5"/>
          <p:cNvGraphicFramePr/>
          <p:nvPr/>
        </p:nvGraphicFramePr>
        <p:xfrm>
          <a:off x="5003640" y="765000"/>
          <a:ext cx="3552840" cy="321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765000"/>
                    <a:ext cx="355284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17"/>
          <p:cNvSpPr/>
          <p:nvPr/>
        </p:nvSpPr>
        <p:spPr>
          <a:xfrm>
            <a:off x="1187280" y="4508640"/>
            <a:ext cx="7490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95 эмитентов выпустивших облигации на КФБ 30 компаний имеют либо индивидуальный рейтинг, либо рейтинг выпуск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российском рынке из 400 эмитентов индивидуальный рейтинг и/или рейтинг выпуска имеют 66 комп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оля выпусков (эмиссий) на биржах Казахстана и России с рейтингом и без (корпоративный сектор)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1187280" y="1052640"/>
          <a:ext cx="3552840" cy="32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052640"/>
                    <a:ext cx="35528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5"/>
          <p:cNvGraphicFramePr/>
          <p:nvPr/>
        </p:nvGraphicFramePr>
        <p:xfrm>
          <a:off x="4932360" y="1052640"/>
          <a:ext cx="3552840" cy="320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052640"/>
                    <a:ext cx="35528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7"/>
          <p:cNvSpPr/>
          <p:nvPr/>
        </p:nvSpPr>
        <p:spPr>
          <a:xfrm>
            <a:off x="1042920" y="4724280"/>
            <a:ext cx="75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ой ситуация выглядит с рейтингом выпусков. На КФБ из 304 выпусков (в том числе заявленных) 40 эмиссий имеют рейтинг. На ММВБ из 578 выпусков отрейтигованы 186 эмисс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Объемы выпусков облигаций в Казахстане и России с рейтингом и без (корпоративный сектор)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116000" y="494172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денежном выражении ситуация в Казахстане и России с объемами отрейтингованных эмиссий выглядит почти одинаковой. Более 60% от общего объема выпуска на КФБ и ММВБ имеют рейт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476360" y="836640"/>
          <a:ext cx="681984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836640"/>
                    <a:ext cx="68198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оля выпусков облигаций в Казахстане и России допустивших дефолт (корпоративный сектор)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332000" y="907920"/>
          <a:ext cx="681984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07920"/>
                    <a:ext cx="68198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6"/>
          <p:cNvSpPr/>
          <p:nvPr/>
        </p:nvSpPr>
        <p:spPr>
          <a:xfrm>
            <a:off x="1116000" y="5084640"/>
            <a:ext cx="7489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рынке Казахстана около 5% от общего количества выпусков допустили дефолт. В России доля более существенная и составляет почти 25%. Менее трагичной ситуация выглядит если рассматривать долю дефолтов в денежном выражении. На КФБ она равна 3%, на ММВБ – 12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Количество дефолтов на казахстанской и российской биржах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1403280" y="907920"/>
          <a:ext cx="681984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68198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6"/>
          <p:cNvSpPr/>
          <p:nvPr/>
        </p:nvSpPr>
        <p:spPr>
          <a:xfrm>
            <a:off x="1116000" y="5013360"/>
            <a:ext cx="7489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КФБ из 16 компаний, имеющих проблемы с выплатами, 4 имели рейтинг. На ММВБ из 147 эмитентов, допустивших дефолт лишь 11 имели рейтин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489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оля дефолтов с рейтингом в общем объеме дефолтов*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72" name="Object 3"/>
          <p:cNvGraphicFramePr/>
          <p:nvPr/>
        </p:nvGraphicFramePr>
        <p:xfrm>
          <a:off x="1258920" y="476280"/>
          <a:ext cx="681984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76280"/>
                    <a:ext cx="68198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6"/>
          <p:cNvSpPr/>
          <p:nvPr/>
        </p:nvSpPr>
        <p:spPr>
          <a:xfrm>
            <a:off x="1187280" y="4581360"/>
            <a:ext cx="74901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*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читывались также выпуски не имеющие рейтинга, но рейтинг был присвоен компании, выпустившей облиг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042920" y="4941720"/>
            <a:ext cx="7489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денежном выражении на КФБ почти 50% от общего объема дефолтов имели рейтинг. Однако, необходимо учесть тот факт, что 67% от объема дефолтных выпусков, имеющих рейтинг, приходится на один выпуск, который рейтинговой оценки не имел. Рейтинг был лишь у самого эмитен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489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Текущие оценки рейтинговых агентств.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1403280" y="1052640"/>
          <a:ext cx="681984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52640"/>
                    <a:ext cx="68198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>
            <a:off x="1042920" y="5013360"/>
            <a:ext cx="7489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текущий момент на КФБ из 40 выпусков или эмитентов с оценкой от рейтинговых агентств лишь 14 имеют инвестиционный уровень. В России из 168 отрейтингованных эмиссий или эмитентов, инвестиционный уровень есть у 6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484280"/>
            <a:ext cx="705672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Спасибо за внимание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!</a:t>
            </a:r>
            <a:br>
              <a:rPr sz="4800"/>
            </a:b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971640" y="981000"/>
            <a:ext cx="6516720" cy="71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7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328040" y="3533760"/>
            <a:ext cx="630576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7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ейтинговое Агентство «Эксперт Р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Казахстан»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(727) 296-47-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www.raexpertkz.kz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ww.raexper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8:47:26Z</dcterms:created>
  <dc:creator>zemcov</dc:creator>
  <dc:description/>
  <dc:language>en-US</dc:language>
  <cp:lastModifiedBy>User</cp:lastModifiedBy>
  <dcterms:modified xsi:type="dcterms:W3CDTF">2009-08-28T09:02:59Z</dcterms:modified>
  <cp:revision>362</cp:revision>
  <dc:subject/>
  <dc:title>Слайд 1</dc:title>
</cp:coreProperties>
</file>