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1432-D18F-475E-AA69-EA843E8D7B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45DF-CCF7-492C-806E-BE837348DD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1D5-F634-460E-8766-ED1D7A9F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EF9-4E4C-4A78-A815-9EDB1BC6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D94-A504-4CF5-B279-48F2F969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BA9-8F7F-4048-B12A-857B3582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C4F-B3FD-40E0-ACDB-836004DD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869-479F-4186-B2DE-4451C826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1FD-5C0F-42FE-AD4D-FE27B511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D6C6-2AC2-4375-809A-A7D174D8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193-B148-4851-A8EE-F4281539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B18-55DF-4CBF-B202-3CA84385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57AC-AB3A-4F61-A273-DF7BA920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4A8-D4C1-43ED-9349-55634A7C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8162-11C1-4ECC-81E5-41B84F384F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Рисунок 4" descr="PR_rus_1.jpg"/>
          <p:cNvPicPr/>
          <p:nvPr/>
        </p:nvPicPr>
        <p:blipFill>
          <a:blip r:embed="rId1"/>
          <a:stretch/>
        </p:blipFill>
        <p:spPr>
          <a:xfrm>
            <a:off x="71280" y="490680"/>
            <a:ext cx="9144000" cy="5867280"/>
          </a:xfrm>
          <a:prstGeom prst="rect">
            <a:avLst/>
          </a:prstGeom>
          <a:ln w="0">
            <a:noFill/>
          </a:ln>
        </p:spPr>
      </p:pic>
      <p:grpSp>
        <p:nvGrpSpPr>
          <p:cNvPr id="51" name="Прямоугольник 5"/>
          <p:cNvGrpSpPr/>
          <p:nvPr/>
        </p:nvGrpSpPr>
        <p:grpSpPr>
          <a:xfrm>
            <a:off x="407880" y="3767040"/>
            <a:ext cx="4602240" cy="1017720"/>
            <a:chOff x="407880" y="3767040"/>
            <a:chExt cx="4602240" cy="1017720"/>
          </a:xfrm>
        </p:grpSpPr>
        <p:pic>
          <p:nvPicPr>
            <p:cNvPr id="52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407880" y="3767040"/>
              <a:ext cx="46022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28760" y="3786120"/>
              <a:ext cx="457200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ынок ценных бумаг Казахстана: перспективы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Прямоугольник 6"/>
          <p:cNvSpPr/>
          <p:nvPr/>
        </p:nvSpPr>
        <p:spPr>
          <a:xfrm>
            <a:off x="500040" y="2994120"/>
            <a:ext cx="842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III Ежегодная конференция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Казахстанской фондовой биржи по финансовому рынк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pic>
        <p:nvPicPr>
          <p:cNvPr id="123" name="Диаграмма 4" descr=""/>
          <p:cNvPicPr/>
          <p:nvPr/>
        </p:nvPicPr>
        <p:blipFill>
          <a:blip r:embed="rId2"/>
          <a:stretch/>
        </p:blipFill>
        <p:spPr>
          <a:xfrm>
            <a:off x="208080" y="3638520"/>
            <a:ext cx="4583160" cy="2755800"/>
          </a:xfrm>
          <a:prstGeom prst="rect">
            <a:avLst/>
          </a:prstGeom>
          <a:ln w="0">
            <a:noFill/>
          </a:ln>
        </p:spPr>
      </p:pic>
      <p:pic>
        <p:nvPicPr>
          <p:cNvPr id="124" name="Диаграмма 5" descr=""/>
          <p:cNvPicPr/>
          <p:nvPr/>
        </p:nvPicPr>
        <p:blipFill>
          <a:blip r:embed="rId3"/>
          <a:stretch/>
        </p:blipFill>
        <p:spPr>
          <a:xfrm>
            <a:off x="4280040" y="920880"/>
            <a:ext cx="4730760" cy="25286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571680" y="1120680"/>
            <a:ext cx="3500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оценивать рынок брокерских комиссий для проф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астников, то объем рынка не позволяет говорить о рентабельности брокерской деятельности. Так, даже расходы по оплате труда заметно превышают размер комиссионны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072040" y="3571920"/>
            <a:ext cx="3500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фоне сформированной базы институциональных инвесторов катализатором роста доходов компаний станет рынок частных инвестор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оценить рынок брокерских комиссий исходя из комиссии в 0,05% полугодовой объем комиссий не дотягивает до 0,57 млн.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7072200" y="3357720"/>
            <a:ext cx="20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2714760" y="6326280"/>
            <a:ext cx="20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3714840" y="29196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зические лица на фондовом рын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642960" y="954000"/>
            <a:ext cx="835812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новываясь на вышесказанном рынок ценных бумаг ожидают следующ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ерспективы в ближайшие 2-3 год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ынок акций: отсутствие новых инструментов из-за низкой инвесторской базы, рост капитализации с усилением доли 3 крупнейших компа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ынок облигаций: стабилизация процентных ставок. Отсутствие новых эмитентов, поскольку дефолты 2008-2009 будут помнить еще дол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начительно снижение количества брокерских компаний на фоне низкой рентабельности бизне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окальный рынок будет служить плацдармом для инвестиций в развитые рын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ндовый рынок будет выполнять «обслуживающую» функцию институциональных инвесторов с малым эффектом для экономики стра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3714840" y="24300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спективы РЦБ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"/>
          <p:cNvSpPr/>
          <p:nvPr/>
        </p:nvSpPr>
        <p:spPr>
          <a:xfrm>
            <a:off x="642960" y="952560"/>
            <a:ext cx="835812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ндовый рынок Казахстана может стать реальной альтернативой банковскому сектору страны, при этом он должен осуществлять 1 главную функцию – перераспределять капитал в экономике страны. Для этого необходим сильный первичный рынок акций и облигац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делать казахстанский рынок полноценным может только приток физических лиц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участие 0,3% населения (сравнение с Россией) в инвестиционном процессе приведет 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сту оборота рынка акций на 180%, доля физических лиц в обороте 70%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ст оборота облигаций на 117%; доля физических лиц может достичь до 50%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орот физических лиц в 8-20 млрд.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танет интересен для размещения акций крупных компа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блема в том, что даже до 0,3% от населения количество частных инвесторов должно вырасти в 10 ра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3714840" y="24300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спективы РЦБ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643800"/>
          </a:xfrm>
          <a:prstGeom prst="rect">
            <a:avLst/>
          </a:prstGeom>
          <a:ln w="0">
            <a:noFill/>
          </a:ln>
        </p:spPr>
      </p:pic>
      <p:grpSp>
        <p:nvGrpSpPr>
          <p:cNvPr id="137" name="Группа 9"/>
          <p:cNvGrpSpPr/>
          <p:nvPr/>
        </p:nvGrpSpPr>
        <p:grpSpPr>
          <a:xfrm>
            <a:off x="1357200" y="1916280"/>
            <a:ext cx="6572520" cy="2225880"/>
            <a:chOff x="1357200" y="1916280"/>
            <a:chExt cx="6572520" cy="2225880"/>
          </a:xfrm>
        </p:grpSpPr>
        <p:sp>
          <p:nvSpPr>
            <p:cNvPr id="138" name="TextBox 3"/>
            <p:cNvSpPr/>
            <p:nvPr/>
          </p:nvSpPr>
          <p:spPr>
            <a:xfrm>
              <a:off x="1357200" y="1916280"/>
              <a:ext cx="657252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Отсутствие инвесторов, из-за отсутствия ликвидного рынк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4"/>
            <p:cNvSpPr/>
            <p:nvPr/>
          </p:nvSpPr>
          <p:spPr>
            <a:xfrm>
              <a:off x="1357200" y="3773880"/>
              <a:ext cx="657252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Отсутствие ликвидного рынка, из-за отсутствия инвесторо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40" name="Прямая со стрелкой 6"/>
            <p:cNvCxnSpPr/>
            <p:nvPr/>
          </p:nvCxnSpPr>
          <p:spPr>
            <a:xfrm flipH="1">
              <a:off x="2856240" y="2274120"/>
              <a:ext cx="2160" cy="150120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1" name="Прямая со стрелкой 8"/>
            <p:cNvCxnSpPr/>
            <p:nvPr/>
          </p:nvCxnSpPr>
          <p:spPr>
            <a:xfrm flipV="1">
              <a:off x="6500160" y="2273760"/>
              <a:ext cx="2160" cy="150120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142" name="TextBox 10"/>
          <p:cNvSpPr/>
          <p:nvPr/>
        </p:nvSpPr>
        <p:spPr>
          <a:xfrm>
            <a:off x="3714840" y="2858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спективы РЦБК: пробл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"/>
          <p:cNvSpPr/>
          <p:nvPr/>
        </p:nvSpPr>
        <p:spPr>
          <a:xfrm>
            <a:off x="642960" y="1201680"/>
            <a:ext cx="857232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ля решения вышеприведенного замкнутого круга необходимы следующие мер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несение корректив в законодательств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ктивизация деятельности профессиональных участников рын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3714840" y="28584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спективы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ЦБК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шение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"/>
          <p:cNvSpPr/>
          <p:nvPr/>
        </p:nvSpPr>
        <p:spPr>
          <a:xfrm>
            <a:off x="642960" y="898560"/>
            <a:ext cx="8286840" cy="55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рмативные рамки, регулирующие манипулирования ценами заметно тормозят дальнейшее развитие рын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нипулирование ценами регламентируется Законом «О рынке ценных бумаг» и постановлением Правления Агентства Республики Казахстан по регулированию и надзору финансового рынка и финансовых организаций от 28 ноября 2008 года № 196 «Правила признания сделок, заключенных на организованном рынке ценных бумаг, как совершенных в целях манипулирования…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Тормозящими» развитие рынка ценных бумаг являются следующие огранич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дажа всех бумаг в течение 5 рабочих дней после покупки – подпадает под мониторинг, как сделка заключенная в целях манипулирования цен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. Сделка внутри одного брокера с отклонением в 3% от средневзвешенной доходности по облигациям и 30% от средневзвешенной цены по акциям – запреще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3"/>
          <p:cNvSpPr/>
          <p:nvPr/>
        </p:nvSpPr>
        <p:spPr>
          <a:xfrm>
            <a:off x="3699000" y="285840"/>
            <a:ext cx="48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спективы РЦБК: изменение законодатель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"/>
          <p:cNvSpPr/>
          <p:nvPr/>
        </p:nvSpPr>
        <p:spPr>
          <a:xfrm>
            <a:off x="642960" y="1192320"/>
            <a:ext cx="82152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чины вышеприведенных ограничений нам (и особенно нашим клиентам) не понят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анные нормы ограничивают торговлю ценными бумаг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этом обойти данные правила крупным инвесторам не слож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ля этого достаточно перевести бумаги в другую брокерскую компанию (пол дня) и заплатить за перевод (2-3 тыс. тенге.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оме того возникает конфликт интересов клиента и брокера, в случае если 2 клиента хотят провести сделку по доходности, отличной на 3% от средневзвешенной. Если брокер пропустит подобную сделку, то нарушит правила манипулирования, если не пропустит, то нарушит правила БД деятельности, поскольку поставит свои интересы выше интересов клиен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же касается и 5 дневного манипулирова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3699000" y="285840"/>
            <a:ext cx="48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спективы РЦБК: изменение законодатель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642960" y="1143000"/>
            <a:ext cx="828684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альнейшее развитие рынка напрямую зависит от активности профессиональных участник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сударство со своей стороны выполняет максимальную популяризацию рынка ценных бума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фессиональным участникам необходимо не делить зарождающийся рынок, а принимать участие в его рос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ТА Секьюритис планирует следующие шаги по активизации вторичного рынк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ать маркет-мейкером по всем ликвидным акция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ать проводником на рынке облигац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ы планируем внести в рынок больше ликвидности, как первый шаг в развитие рын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3714840" y="2919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спективы РЦБК: проф. участ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85840" y="1643040"/>
            <a:ext cx="8786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Делай что можешь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 тем что имеешь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там, где ты ест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</a:t>
            </a:r>
            <a:r>
              <a:rPr b="1" i="1" lang="ru-RU" sz="2100" spc="-1" strike="noStrike">
                <a:solidFill>
                  <a:srgbClr val="595959"/>
                </a:solidFill>
                <a:latin typeface="Verdana"/>
              </a:rPr>
              <a:t>Теодор Рузвель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1500120" y="505944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Verdana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57120" y="1727280"/>
            <a:ext cx="7929720" cy="34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кущее состояние РЦ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76400" indent="-2653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к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76400" indent="-2653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лиг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стояние профессиональных участ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удущее рынка – частный капит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спективы развития ры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714840" y="31428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Группа 10"/>
          <p:cNvGrpSpPr/>
          <p:nvPr/>
        </p:nvGrpSpPr>
        <p:grpSpPr>
          <a:xfrm>
            <a:off x="1714680" y="714240"/>
            <a:ext cx="5715000" cy="2428920"/>
            <a:chOff x="1714680" y="714240"/>
            <a:chExt cx="5715000" cy="2428920"/>
          </a:xfrm>
        </p:grpSpPr>
        <p:pic>
          <p:nvPicPr>
            <p:cNvPr id="60" name="Picture 2" descr=""/>
            <p:cNvPicPr/>
            <p:nvPr/>
          </p:nvPicPr>
          <p:blipFill>
            <a:blip r:embed="rId2"/>
            <a:stretch/>
          </p:blipFill>
          <p:spPr>
            <a:xfrm>
              <a:off x="1714680" y="714240"/>
              <a:ext cx="5715000" cy="24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Прямая соединительная линия 5"/>
            <p:cNvSpPr/>
            <p:nvPr/>
          </p:nvSpPr>
          <p:spPr>
            <a:xfrm flipH="1">
              <a:off x="3738600" y="2149920"/>
              <a:ext cx="3214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ая соединительная линия 7"/>
            <p:cNvSpPr/>
            <p:nvPr/>
          </p:nvSpPr>
          <p:spPr>
            <a:xfrm>
              <a:off x="3738600" y="2149920"/>
              <a:ext cx="0" cy="672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9"/>
            <p:cNvSpPr/>
            <p:nvPr/>
          </p:nvSpPr>
          <p:spPr>
            <a:xfrm>
              <a:off x="3798360" y="2194920"/>
              <a:ext cx="113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Декабрь 2006 г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" name="Диаграмма 11" descr=""/>
          <p:cNvPicPr/>
          <p:nvPr/>
        </p:nvPicPr>
        <p:blipFill>
          <a:blip r:embed="rId3"/>
          <a:stretch/>
        </p:blipFill>
        <p:spPr>
          <a:xfrm>
            <a:off x="1206360" y="4565520"/>
            <a:ext cx="6370920" cy="1871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12"/>
          <p:cNvSpPr/>
          <p:nvPr/>
        </p:nvSpPr>
        <p:spPr>
          <a:xfrm>
            <a:off x="571680" y="3143160"/>
            <a:ext cx="814356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ризис вернул капитализацию рынка акций Казахстана к концу 2006 года.  С учетом существующих прогнозов восстановление до исторических максимумов произойдет нескор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личество ликвидных акций на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ASE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должает оставаться низким. Так более 70% капитализации рынка приходится на 3 инструмента. А количество инструментов в локальном индексе продолжает оставаться низки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3786120" y="28584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ынок ак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7358040" y="1671480"/>
            <a:ext cx="142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7358040" y="4857840"/>
            <a:ext cx="142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Диаграмма 8" descr=""/>
          <p:cNvPicPr/>
          <p:nvPr/>
        </p:nvPicPr>
        <p:blipFill>
          <a:blip r:embed="rId2"/>
          <a:stretch/>
        </p:blipFill>
        <p:spPr>
          <a:xfrm>
            <a:off x="1279440" y="781200"/>
            <a:ext cx="6370560" cy="2224080"/>
          </a:xfrm>
          <a:prstGeom prst="rect">
            <a:avLst/>
          </a:prstGeom>
          <a:ln w="0">
            <a:noFill/>
          </a:ln>
        </p:spPr>
      </p:pic>
      <p:pic>
        <p:nvPicPr>
          <p:cNvPr id="71" name="Диаграмма 10" descr=""/>
          <p:cNvPicPr/>
          <p:nvPr/>
        </p:nvPicPr>
        <p:blipFill>
          <a:blip r:embed="rId3"/>
          <a:stretch/>
        </p:blipFill>
        <p:spPr>
          <a:xfrm>
            <a:off x="1420920" y="3992400"/>
            <a:ext cx="6016680" cy="24019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2"/>
          <p:cNvSpPr/>
          <p:nvPr/>
        </p:nvSpPr>
        <p:spPr>
          <a:xfrm>
            <a:off x="714240" y="3071880"/>
            <a:ext cx="7715520" cy="12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едние месяцы характеризуются самыми низкими объемами торгов за последние 2 г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 3 компании, капитализация которых составляет более 70% рынка приходится 15,2% объема торгов и 51,9% сдело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714840" y="24300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ынок ак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7643880" y="1285920"/>
            <a:ext cx="1214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3429000" y="228600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тор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2000160" y="129528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3643200" y="572436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сд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2357280" y="471492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объем сд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TextBox 18" descr=""/>
          <p:cNvPicPr/>
          <p:nvPr/>
        </p:nvPicPr>
        <p:blipFill>
          <a:blip r:embed="rId4"/>
          <a:stretch/>
        </p:blipFill>
        <p:spPr>
          <a:xfrm>
            <a:off x="1206360" y="1133640"/>
            <a:ext cx="336600" cy="124920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19" descr=""/>
          <p:cNvPicPr/>
          <p:nvPr/>
        </p:nvPicPr>
        <p:blipFill>
          <a:blip r:embed="rId5"/>
          <a:stretch/>
        </p:blipFill>
        <p:spPr>
          <a:xfrm>
            <a:off x="7139160" y="920880"/>
            <a:ext cx="334800" cy="1461960"/>
          </a:xfrm>
          <a:prstGeom prst="rect">
            <a:avLst/>
          </a:prstGeom>
          <a:ln w="0">
            <a:noFill/>
          </a:ln>
        </p:spPr>
      </p:pic>
      <p:sp>
        <p:nvSpPr>
          <p:cNvPr id="81" name="TextBox 20"/>
          <p:cNvSpPr/>
          <p:nvPr/>
        </p:nvSpPr>
        <p:spPr>
          <a:xfrm>
            <a:off x="7643880" y="4386240"/>
            <a:ext cx="1214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TextBox 21" descr=""/>
          <p:cNvPicPr/>
          <p:nvPr/>
        </p:nvPicPr>
        <p:blipFill>
          <a:blip r:embed="rId6"/>
          <a:stretch/>
        </p:blipFill>
        <p:spPr>
          <a:xfrm>
            <a:off x="1316160" y="4065480"/>
            <a:ext cx="336600" cy="196380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22" descr=""/>
          <p:cNvPicPr/>
          <p:nvPr/>
        </p:nvPicPr>
        <p:blipFill>
          <a:blip r:embed="rId7"/>
          <a:stretch/>
        </p:blipFill>
        <p:spPr>
          <a:xfrm>
            <a:off x="7278840" y="3925800"/>
            <a:ext cx="3348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85" name="Диаграмма 16" descr=""/>
          <p:cNvPicPr/>
          <p:nvPr/>
        </p:nvPicPr>
        <p:blipFill>
          <a:blip r:embed="rId2"/>
          <a:stretch/>
        </p:blipFill>
        <p:spPr>
          <a:xfrm>
            <a:off x="1066680" y="3565440"/>
            <a:ext cx="5010120" cy="2438640"/>
          </a:xfrm>
          <a:prstGeom prst="rect">
            <a:avLst/>
          </a:prstGeom>
          <a:ln w="0">
            <a:noFill/>
          </a:ln>
        </p:spPr>
      </p:pic>
      <p:pic>
        <p:nvPicPr>
          <p:cNvPr id="86" name="Диаграмма 5" descr=""/>
          <p:cNvPicPr/>
          <p:nvPr/>
        </p:nvPicPr>
        <p:blipFill>
          <a:blip r:embed="rId3"/>
          <a:stretch/>
        </p:blipFill>
        <p:spPr>
          <a:xfrm>
            <a:off x="853920" y="706320"/>
            <a:ext cx="5722920" cy="2543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6715080" y="1143000"/>
            <a:ext cx="242892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смотря на дефолты количество сделок на рынке облигаций увеличивается. Причиной этому выступили высокие процентные став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вни дефолто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ин. сектор: 43,6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рп. сектор: 19,2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714840" y="21420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ынок облига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2214720" y="157176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изац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2714760" y="250020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тор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TextBox 12" descr=""/>
          <p:cNvPicPr/>
          <p:nvPr/>
        </p:nvPicPr>
        <p:blipFill>
          <a:blip r:embed="rId4"/>
          <a:stretch/>
        </p:blipFill>
        <p:spPr>
          <a:xfrm>
            <a:off x="920880" y="1352520"/>
            <a:ext cx="334800" cy="146376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13" descr=""/>
          <p:cNvPicPr/>
          <p:nvPr/>
        </p:nvPicPr>
        <p:blipFill>
          <a:blip r:embed="rId5"/>
          <a:stretch/>
        </p:blipFill>
        <p:spPr>
          <a:xfrm>
            <a:off x="6211800" y="1279440"/>
            <a:ext cx="335160" cy="146376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14" descr=""/>
          <p:cNvPicPr/>
          <p:nvPr/>
        </p:nvPicPr>
        <p:blipFill>
          <a:blip r:embed="rId6"/>
          <a:stretch/>
        </p:blipFill>
        <p:spPr>
          <a:xfrm>
            <a:off x="1133640" y="4065480"/>
            <a:ext cx="341280" cy="146376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15" descr=""/>
          <p:cNvPicPr/>
          <p:nvPr/>
        </p:nvPicPr>
        <p:blipFill>
          <a:blip r:embed="rId7"/>
          <a:stretch/>
        </p:blipFill>
        <p:spPr>
          <a:xfrm>
            <a:off x="5851440" y="4065480"/>
            <a:ext cx="336600" cy="1463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11"/>
          <p:cNvSpPr/>
          <p:nvPr/>
        </p:nvSpPr>
        <p:spPr>
          <a:xfrm>
            <a:off x="2214720" y="414324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объем сд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2928960" y="528624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сд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4286160" y="3143160"/>
            <a:ext cx="20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4714920" y="5929200"/>
            <a:ext cx="20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100" name="Диаграмма 5" descr=""/>
          <p:cNvPicPr/>
          <p:nvPr/>
        </p:nvPicPr>
        <p:blipFill>
          <a:blip r:embed="rId2"/>
          <a:stretch/>
        </p:blipFill>
        <p:spPr>
          <a:xfrm>
            <a:off x="1279440" y="1066680"/>
            <a:ext cx="6443640" cy="3511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642960" y="478620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ровни процентных ставок на вторичном рынке облигаций продолжаются оставаться высокими. Подобный уровень процентных ставок делает маловероятным размещение новых выпусков ценных бума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3714840" y="21420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ынок облига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929120" y="4429080"/>
            <a:ext cx="20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642960" y="785880"/>
            <a:ext cx="7929720" cy="64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урный рост фондового рынка в 2005-2007 годах вызвал открытие новых брокерских компаний и компаний по управлению активами, общее количество которых превышало 5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этом ожидания многих участников о дальнейшем развитии рынка не оправдалис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изис заставил акционеров некоторых компаний по другому посмотреть на инвестиционный бизнес, что приводит к постепенному снижению профессиональных участни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 начала года 13 брокерских компаний были лишены или добровольно сдали лиценз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это не предел…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зменения пруденциальных нормативов говорят за то, что еще 9 компаний находятся на стадии закрыт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 1 июля произойдет рост требований к минимальному капиталу брокеров в 2 раза. 12 компаний вряд ли смогут увеличить капита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3714840" y="24300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рокерские компа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108" name="Диаграмма 3" descr=""/>
          <p:cNvPicPr/>
          <p:nvPr/>
        </p:nvPicPr>
        <p:blipFill>
          <a:blip r:embed="rId2"/>
          <a:stretch/>
        </p:blipFill>
        <p:spPr>
          <a:xfrm>
            <a:off x="4565520" y="706320"/>
            <a:ext cx="4584960" cy="2756160"/>
          </a:xfrm>
          <a:prstGeom prst="rect">
            <a:avLst/>
          </a:prstGeom>
          <a:ln w="0">
            <a:noFill/>
          </a:ln>
        </p:spPr>
      </p:pic>
      <p:pic>
        <p:nvPicPr>
          <p:cNvPr id="109" name="Диаграмма 4" descr=""/>
          <p:cNvPicPr/>
          <p:nvPr/>
        </p:nvPicPr>
        <p:blipFill>
          <a:blip r:embed="rId3"/>
          <a:stretch/>
        </p:blipFill>
        <p:spPr>
          <a:xfrm>
            <a:off x="281160" y="3706920"/>
            <a:ext cx="4510080" cy="26146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428760" y="1214280"/>
            <a:ext cx="3857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новным стимулом дальнейшего развития фондового рынка является частный капита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чиной этому выступает сформированность консервативной институциональной баз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5000760" y="3500280"/>
            <a:ext cx="3857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текущий момент физические лица уже являются весомой составляющего локального фондового рынк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ля физических лиц на рынке акций составляет около 20%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несмотря на это кризис и низкий выбор инструментов снизили активность «физиков» более чем в 4 раз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2928960" y="6072120"/>
            <a:ext cx="20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3714840" y="24300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рокерские компа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pic>
        <p:nvPicPr>
          <p:cNvPr id="115" name="Диаграмма 2" descr=""/>
          <p:cNvPicPr/>
          <p:nvPr/>
        </p:nvPicPr>
        <p:blipFill>
          <a:blip r:embed="rId2"/>
          <a:stretch/>
        </p:blipFill>
        <p:spPr>
          <a:xfrm>
            <a:off x="4565520" y="993600"/>
            <a:ext cx="4584960" cy="2756160"/>
          </a:xfrm>
          <a:prstGeom prst="rect">
            <a:avLst/>
          </a:prstGeom>
          <a:ln w="0">
            <a:noFill/>
          </a:ln>
        </p:spPr>
      </p:pic>
      <p:pic>
        <p:nvPicPr>
          <p:cNvPr id="116" name="Диаграмма 3" descr=""/>
          <p:cNvPicPr/>
          <p:nvPr/>
        </p:nvPicPr>
        <p:blipFill>
          <a:blip r:embed="rId3"/>
          <a:stretch/>
        </p:blipFill>
        <p:spPr>
          <a:xfrm>
            <a:off x="133200" y="3352680"/>
            <a:ext cx="4975200" cy="27561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357120" y="1071720"/>
            <a:ext cx="36435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оме того, значимость физических лиц для отечественного рынка можно оценить после сравнения с основными институциональными инвесторами – пенсионными фонд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072040" y="4091040"/>
            <a:ext cx="36432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если на рынке акций физические лица активнее пенсионных фондов, то рынок облигаций продолжает оставаться малоизведанным для частных инвестор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6500880" y="3571920"/>
            <a:ext cx="20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2071800" y="6072120"/>
            <a:ext cx="20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Данные: ИА Ирбис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Анализ: БТА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3714840" y="29196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зические лица на фондовом рын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9:15:11Z</dcterms:created>
  <dc:creator>d_orazayev</dc:creator>
  <dc:description/>
  <dc:language>en-US</dc:language>
  <cp:lastModifiedBy>User</cp:lastModifiedBy>
  <dcterms:modified xsi:type="dcterms:W3CDTF">2009-09-02T12:13:34Z</dcterms:modified>
  <cp:revision>171</cp:revision>
  <dc:subject/>
  <dc:title>Слайд 1</dc:title>
</cp:coreProperties>
</file>