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87F-AF56-4D0B-84FC-AAEB63A9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43040" y="263304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DC6-CC9F-41BD-B816-D7790B7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1F1-90AB-48A5-AE8B-9153FD0C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6180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0200" y="160020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4304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6180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0200" y="2633040"/>
            <a:ext cx="220788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56A-8B16-4A83-B47D-9C17F1EB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7608-8FAF-462E-8733-3A838CF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7FE-7983-45D8-999E-8653B6E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A922-D15F-41B3-996B-EF9A4DF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396-4893-48D8-BE15-39F0A0BC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71440" y="261720"/>
            <a:ext cx="635796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39D-2E8F-496C-9E52-D6403FE4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E46-A7C3-4A2E-B27E-9E65C74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263304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718-E0DF-4E39-90CC-ED58D4D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304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346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43040" y="2633040"/>
            <a:ext cx="68580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8D1-894B-4F3A-9369-A0DF68E0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Resmi_Presentation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71440" y="261720"/>
            <a:ext cx="63579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643040" y="1600200"/>
            <a:ext cx="6858000" cy="19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67000" y="35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70c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D050-B6E4-40CC-92E3-14997998A09B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Resmi_Presentation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2050920" y="3159000"/>
            <a:ext cx="70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Bookman Old Style"/>
              </a:rPr>
              <a:t>Поиск внутренних резервов: первичное размещение и выведение на рынок новых инструм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050920" y="5734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Bookman Old Style"/>
              </a:rPr>
              <a:t>Сентябрь, 2008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1979640" y="47181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Подготовлено АО Инвестиционный Финансовый Дом «</a:t>
            </a:r>
            <a:r>
              <a:rPr b="0" lang="en-US" sz="1800" spc="-1" strike="noStrike">
                <a:solidFill>
                  <a:srgbClr val="003399"/>
                </a:solidFill>
                <a:latin typeface="Bookman Old Style"/>
              </a:rPr>
              <a:t>Resmi</a:t>
            </a: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Прогнозы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79280" y="1125360"/>
            <a:ext cx="6553080" cy="372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Факторы, влияющие на дальнейшее качественное развитие рынка ценных бумаг Казахста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Появление новых категорий допуска на организованной торговой площадке, изменения в листинговых правил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Планы Правительства РК по дальнейшей активизации фондового рын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37E7-648F-4430-A628-3B04BFDF134A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Контакты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7" name="Схема 4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624360" cy="302400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8F9-91F0-48DA-B3B0-CA5D75997B6C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2924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ookman Old Style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7FB5-6058-4F55-B4D9-CF9A1524A009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36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Bookman Old Style"/>
              </a:rPr>
              <a:t>IPO</a:t>
            </a:r>
            <a:r>
              <a:rPr b="0" lang="ru-RU" sz="1800" spc="-1" strike="noStrike">
                <a:solidFill>
                  <a:srgbClr val="003399"/>
                </a:solidFill>
                <a:latin typeface="Bookman Old Style"/>
              </a:rPr>
              <a:t> казахстанских эмитентов – история вопроса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643040" y="1600200"/>
            <a:ext cx="68580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044B-865D-42BC-85E0-C434192560F2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11280" y="765000"/>
          <a:ext cx="8136000" cy="3222720"/>
        </p:xfrm>
        <a:graphic>
          <a:graphicData uri="http://schemas.openxmlformats.org/drawingml/2006/table">
            <a:tbl>
              <a:tblPr/>
              <a:tblGrid>
                <a:gridCol w="2016000"/>
                <a:gridCol w="1970280"/>
                <a:gridCol w="912600"/>
                <a:gridCol w="3237120"/>
              </a:tblGrid>
              <a:tr h="249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омп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Площад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Объем привлечен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захмы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,32 млрд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136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zakhG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Д КазМунайГ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,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рд. долл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зкоммерцба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80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ШалкияЦи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родный Банк Казахст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8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hagala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лн. долл. СШ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льянс Бан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Kazakhstan Kaga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млн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NR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037 млрд. долл.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азахтеле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17,1 млрд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К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 513 </a:t>
                      </a:r>
                      <a:r>
                        <a:rPr b="0" lang="ru-RU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лн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cacbcc"/>
                    </a:solidFill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МРЭ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K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cacb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775,8 млн. 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cacb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757600" y="4292640"/>
          <a:ext cx="419076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7600" y="4292640"/>
                    <a:ext cx="41907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35280" y="1844640"/>
            <a:ext cx="66974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Согласно планам Правительства РК в целях развития внутреннего фондового рынка часть акций компаний, входящих в АО «Холдинг по управлению государственными активами «Самрук», должна быть предложена рын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На сегодняшний день акции трех компаний, контролируемых государством, были предложены населению и институциональным инвесторам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2E8-A2A2-4999-BEF7-21F009529A70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189000"/>
            <a:ext cx="63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ookman Old Style"/>
              </a:rPr>
              <a:t>АО «Казахтелек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1341360"/>
            <a:ext cx="662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2006 - март 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 в два этапа: «народное» размещение и размещение на бирже среди накопительных пенсионных фондов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вый этап был реализован за счет привлечения трансфер-агентской сети АО «Казпочта», через которую были собраны заявки от населения Республики на покупку акций, т.н. «народное размещ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17,1 млрд тен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вое «народное» размещение в рамках реализации гос. программы по развитию фондового рынк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FA9-AD95-4D6B-AB91-456FF9ABDD7D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333360"/>
            <a:ext cx="6624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Bookman Old Style"/>
              </a:rPr>
              <a:t>АО «Казахстанская ипотечная комп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989000"/>
            <a:ext cx="6481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март 200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, проведенное методом специализированных торгов на СТП РФ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2 513 млн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тенг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4B46-6282-4819-B3A2-2C51DE893B13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9120" y="3246480"/>
            <a:ext cx="77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мещение акций  компаний, входящих в АО «Холдинг «Самру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260280"/>
            <a:ext cx="6266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АО «Мангистауская распределительная электросетевая ко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486080"/>
            <a:ext cx="65516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Сроки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май-июль 2008 г.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Техника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Размещение простых акций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два этапа: «народное» размещение и размещение на бирже посредством специализированных торгов среди широкого круга лиц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На первом этапе, также как и при размещении акций АО «Казахтелеком», были использованы трансфер-агентские пункты АО «Казпочты», действующие на территории Мангистауской облас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Bookman Old Style"/>
              </a:rPr>
              <a:t>Объем привлечения: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775,8 млн тен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0DD-38BE-463F-866E-7F0B29B69612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" y="313920"/>
            <a:ext cx="187344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Bookman Old Style"/>
              </a:rPr>
              <a:t>Размещение акций  компаний,  контролируемых государством</a:t>
            </a:r>
            <a:endParaRPr b="0" lang="en-US" sz="15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5280" y="261720"/>
            <a:ext cx="669744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ookman Old Style"/>
              </a:rPr>
              <a:t>Новые инструменты на казахстанском фондовом рынке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1125360"/>
            <a:ext cx="6480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Сертификаты на акции Renaissance Capital Holdings Limited – (долговой секто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Акции класса «Е» Russia Renaissance Fund SPC</a:t>
            </a:r>
            <a:r>
              <a:rPr b="0" lang="en-US" sz="24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ценные бумаги инвест. фонд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 algn="just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остые акции акционерного инвестиционного фонда недвижимости «Великая Стена» (ценные бумаги инвест. фон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" indent="180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9640" y="5227560"/>
            <a:ext cx="6840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880" indent="169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Остановимся подробней на последнем инструменте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F7B-A6B2-49C0-AFDA-A577D7F93041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Bookman Old Style"/>
              </a:rPr>
              <a:t>Ценные бумаги инвестиционных фондов недвижимости как новый инструмент в долевом секторе рынка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2" name="Rectangle 3"/>
          <p:cNvGraphicFramePr/>
          <p:nvPr/>
        </p:nvGraphicFramePr>
        <p:xfrm>
          <a:off x="2340000" y="3429000"/>
          <a:ext cx="5400720" cy="23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3429000"/>
                    <a:ext cx="5400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52360" y="162864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man Old Style"/>
              </a:rPr>
              <a:t>Инструм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1628640"/>
            <a:ext cx="6697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6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Инструмент коллективного финансирования, позволяющий опосредованно инвестировать в объекты недвижим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6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Ключевое преимущество - стабильный денежный поток, генерируемым активами фонда. Не менее 90% от чистого дохода направляется на выплату дивидендов. В итоге – инвесторы получают стабильный и прогнозируемый дох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3364-94B2-4DC9-A578-699CCEEBDA8B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5800680"/>
            <a:ext cx="48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Bookman Old Style"/>
              </a:rPr>
              <a:t>Рост количества фондов недвижимости на мировом ры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71440" y="262080"/>
            <a:ext cx="635796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Bookman Old Style"/>
              </a:rPr>
              <a:t>Акционерный инвестиционный фонд недвижимости «Великая Стена»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924280"/>
            <a:ext cx="19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Bookman Old Style"/>
              </a:rPr>
              <a:t>Техника размещ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2997360"/>
            <a:ext cx="669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редполагаемая инвесторская база – пенсионные накопительные фонды, ПИФы, частные лиц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мещение проводилось методом закрытой подписки, инвесторам предлагались акции, находящиеся в собственности основного акционера (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SPO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Bookman Old Style"/>
              </a:rPr>
              <a:t>Структура инвесторов на текущий момент: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пенсионные фонды, паевые фонды, физические л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197000"/>
            <a:ext cx="6697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О «АИФН «Великая Стена» был зарегистрирован в апреле 2008 г. В июне 2008 г. акции Фонда прошли листинг на Казахстанской фондовой бирж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ыночная капитализация Фонда на 05.09.2008 г. по данным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KASE –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4 293 млн тен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867360" y="35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C7AB-9C2B-48FB-9BDF-0F41E5A41F38}" type="slidenum">
              <a:rPr b="0" lang="ru-RU" sz="1400" spc="-1" strike="noStrike">
                <a:solidFill>
                  <a:srgbClr val="0070c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0:10:52Z</dcterms:created>
  <dc:creator>Andrey</dc:creator>
  <dc:description/>
  <dc:language>en-US</dc:language>
  <cp:lastModifiedBy>Omarova</cp:lastModifiedBy>
  <dcterms:modified xsi:type="dcterms:W3CDTF">2008-09-17T08:27:57Z</dcterms:modified>
  <cp:revision>44</cp:revision>
  <dc:subject/>
  <dc:title>Слайд 1</dc:title>
</cp:coreProperties>
</file>