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304-3E15-49AE-B7C9-582093E1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C4D-4925-4D1B-AD66-20812D40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746-BB9F-45D1-8D4C-64481C5F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63A-46AF-45A1-A138-07B1CB5A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561-BB98-4926-89C9-2906673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541-F6BF-4AC1-B8DB-DF0FAAB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DC6-4A20-4484-9C8D-BEE833E8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EF8-95C0-454A-BC34-A4F4B484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441-5DAA-4017-8D90-C0CC8341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0CC-CF85-4C00-98C3-A2DB6A15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74A-E37C-4827-A3AF-C30F63C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BE0-CFC9-4E1D-B495-1761D406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4013-9052-474D-85BF-A2DA1652A0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реимущества выхода компаний на фондовый рын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ая возможность привлечения капитала для более прогрессивного развития бизнеса компа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уск ценных бумаг является одной из наиболее доступных форм привлечения капит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При выходе на фондовый ры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атус компании возрастает, компания становится более узнаваемой и котируем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ка показывает, что помимо привлеченных дополнительных средств, компания становится более успешной и привлекательной как для новых инвесторов, так и для имеющихся партнеров по бизнес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B27-33A0-4F0A-AA20-C614BBB16F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государственных ценных бума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государственные ценные бумаги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ускаются и могут обращаться эмиссионные государственные ценные бумаги, выпущенные в соответствии с законодательством Республики Казахстан и других государств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т, которых осуществляется в системе учета центрального депозитар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которым имеется маркет-мейкер (или будет маркет-мейкер после допуска данных ценных бумаг к обращению на фондовой бирж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меющих суверенные долгосрочные кредитные рейтинговые оценки в иностранной валюте не ниже «В-» (по классификации рейтинговых агентств Standard &amp; Poor's или Fitch) или «В3» (по классификации рейтингового агентства Moody'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836-DFC4-43A0-91D6-C8D8DAD755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ценных бумаг международных финансовых организаци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ценные бумаги международных финансовых организаций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ускаются и могут обращаться эмиссионные ценные бумаги международных финансовых организац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т, которых осуществляется в системе учета центрального депозита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которым имеется маркет-мейкер (или будет маркет-мейкер после допуска данных ценных бумаг к обращению на фондовой бирж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CB2-D260-4DD1-926F-8B921E29FE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депозитарных распис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 «депозитарные расписки» допускаются депозитарные расписки, базовым активом которых являются негосударственные ценные бумаги, выпущенные в соответствии с законодательством других, помимо Республики Казахстан, государ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бования применяются по отношению к базовому активу и его эмитен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A3D-0B84-4543-9DDA-9C08786071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производных ценных бум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бования устанавливаются внутренними документами организатора торгов, которые подлежат согласованию с АФН и АРД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F14-0B9A-4AA6-9638-CF85A310E9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нные бумаги, допускаемые по упрощенной процедур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листинга по наивысшей категории на одной из фондовых бирж, входящих в перечень фондовых бирж, признаваемых АРД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крытие эмитентами информации осуществляется на официальных сайтах соответствующих фондовых бирж и в соответствии с договором о раскрытии информации, заключенным между организатором торгов и инициатором листинга или эмитен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маркет-мейк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252-8A70-4C2D-AC86-7A82F27F18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6280" y="14724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имущества эмиссии финансовых инструментов перед банковским займом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действующие условия на СТП РФЦ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197000"/>
          <a:ext cx="9143640" cy="5659200"/>
        </p:xfrm>
        <a:graphic>
          <a:graphicData uri="http://schemas.openxmlformats.org/drawingml/2006/table">
            <a:tbl>
              <a:tblPr/>
              <a:tblGrid>
                <a:gridCol w="3046680"/>
                <a:gridCol w="3048480"/>
                <a:gridCol w="3048480"/>
              </a:tblGrid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миссия финансовых инструм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ковский зай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г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ассмотрения заявки и получение зай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Проспекта эмиссии ЦБ в АФН в течение 30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о листинге принимается в течение 10 дней (по условию 1 или 2) и 20 дней (по условию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1 до 3 дн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ъем привлекаемых средств, сроки выплаты процентов определяются эмитентом самостоятельно в зависимости от стратегии развития и конъюнктуры рынка капита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долга (дополнительные издерж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 финансового консульта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, юридические, страховые и аудитор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% от выпу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 – 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возмещения затрат эмитента на первый 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ступительного листингового сб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кре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ог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озит юридического или физического л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ловию 1 или 2 -100 кратный размер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ловию 3– 0.025% от величины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не менее 100-и не более 4000-кратного размера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ммарной установленной цены их разме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ммарной номинальной стоим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сутствие биржевых комиссий (если размещение происходит в течении первых 3 месяцев со дня включения в листинг фондовой бирж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льг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 за досрочное погашение кре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ABD-F291-4CA6-B374-73052EDC2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раструктура РЦ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E43-9C63-44FD-8BD5-72F00B35F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сть разработки новых листинговых прави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динение торговых площад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S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СТП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ривлечения компаний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на фондовый рын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ение спектра финансовых инстр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ликвид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оптимальной структуры листинга с учетом пожеланий участников рынка и рекомендаций консультан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стандартов, принятых на международных фондовых рынках, с учетом специфики РЦБ Казахста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чение новых участников рынка, в том числе иностранных инвесторов, профессиональных участников и эмит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ение возможностей инвестирования для розничных инвесто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8BD-E6DD-4074-B940-A3D94B5956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ая структур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инг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712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4880" y="13636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4880" y="13636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4581360"/>
          <a:ext cx="8424720" cy="1094040"/>
        </p:xfrm>
        <a:graphic>
          <a:graphicData uri="http://schemas.openxmlformats.org/drawingml/2006/table">
            <a:tbl>
              <a:tblPr/>
              <a:tblGrid>
                <a:gridCol w="1871640"/>
                <a:gridCol w="2160720"/>
                <a:gridCol w="2303280"/>
                <a:gridCol w="2089080"/>
              </a:tblGrid>
              <a:tr h="276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государствен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дународные ценные бумаги Республики Казахстан (еврооблига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Правительства Республики Казах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Национального Банка Республики Казах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местных исполнительных орг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8360" y="1844640"/>
          <a:ext cx="3924360" cy="1440000"/>
        </p:xfrm>
        <a:graphic>
          <a:graphicData uri="http://schemas.openxmlformats.org/drawingml/2006/table">
            <a:tbl>
              <a:tblPr/>
              <a:tblGrid>
                <a:gridCol w="939600"/>
                <a:gridCol w="1003320"/>
                <a:gridCol w="952560"/>
                <a:gridCol w="1028880"/>
              </a:tblGrid>
              <a:tr h="428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фициальный спис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68360" y="1484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1484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П РФ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35360" y="1844640"/>
          <a:ext cx="4216680" cy="1822320"/>
        </p:xfrm>
        <a:graphic>
          <a:graphicData uri="http://schemas.openxmlformats.org/drawingml/2006/table">
            <a:tbl>
              <a:tblPr/>
              <a:tblGrid>
                <a:gridCol w="1297080"/>
                <a:gridCol w="1519200"/>
                <a:gridCol w="14004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листинговые ценные бума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«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стинг на признаваемой Агентство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ир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ичие рейтинговых оценок, признанных Агентством 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митент должен соответствовать установленным требов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8360" y="3789360"/>
          <a:ext cx="8424720" cy="638280"/>
        </p:xfrm>
        <a:graphic>
          <a:graphicData uri="http://schemas.openxmlformats.org/drawingml/2006/table">
            <a:tbl>
              <a:tblPr/>
              <a:tblGrid>
                <a:gridCol w="2671560"/>
                <a:gridCol w="2997360"/>
                <a:gridCol w="275580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Нелистинговые ценные бума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ценные бумаги международных финансовых организац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Иностранные государственные ценные бума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A29-8ADC-4736-9E0F-6BBF85368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вая структура официального списк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П РФ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1773360"/>
          <a:ext cx="8208720" cy="1184040"/>
        </p:xfrm>
        <a:graphic>
          <a:graphicData uri="http://schemas.openxmlformats.org/drawingml/2006/table">
            <a:tbl>
              <a:tblPr/>
              <a:tblGrid>
                <a:gridCol w="1944360"/>
                <a:gridCol w="1151280"/>
                <a:gridCol w="1116000"/>
                <a:gridCol w="1404720"/>
                <a:gridCol w="1368360"/>
                <a:gridCol w="12240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а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долгов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Blue chi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категор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Mid c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Start-u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ценных бумаг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 рейтинговой оцен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и ценных бумаг без рейтинговой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д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под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4000" y="3284640"/>
          <a:ext cx="8208720" cy="1003320"/>
        </p:xfrm>
        <a:graphic>
          <a:graphicData uri="http://schemas.openxmlformats.org/drawingml/2006/table">
            <a:tbl>
              <a:tblPr/>
              <a:tblGrid>
                <a:gridCol w="1944360"/>
                <a:gridCol w="2232360"/>
                <a:gridCol w="1439640"/>
                <a:gridCol w="1374840"/>
                <a:gridCol w="12175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Сектор ценных бумаг инвестиционных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ценных бумаг международных финансовы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государствен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производ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депозитарных распи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2B3-4207-41C9-A2C4-7ACC31261D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акц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1628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8424720" cy="4565520"/>
        </p:xfrm>
        <a:graphic>
          <a:graphicData uri="http://schemas.openxmlformats.org/drawingml/2006/table">
            <a:tbl>
              <a:tblPr/>
              <a:tblGrid>
                <a:gridCol w="1936800"/>
                <a:gridCol w="2228760"/>
                <a:gridCol w="2190600"/>
                <a:gridCol w="2068560"/>
              </a:tblGrid>
              <a:tr h="281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атегор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lue сhi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d-сa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art 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рег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2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дарт финансовой отч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RS / GA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 соответствующий квалификационным требованиям установленным в приказе АРД РФ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ая отчет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 или на последнюю дат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ый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из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6 месяцев после лист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6 месяцев после лист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600 МРП за каждый из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х последни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каждый из 2-х последних лет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жна быть положитель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акций в свободном обращен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ree float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аты открытия торгов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- по истечении 6-ти месяце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- по истечении 6-ти месяце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 - по истечении 1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- по истечении 1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 - по истечении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- по истечении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екс корпоративного у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т мейк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68360" y="6093000"/>
            <a:ext cx="842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государственных организаций, требование по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ee float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ставляет: по 1 категории 5% - по истечении 6-ти месяцев и 10% - по    истечении 1 года, по 2-ой категории 5% - по истечении 6-ти месяце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50E-F3A9-4CCD-A27F-664BD80EBC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долговых ценных бум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54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65560" y="9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78240" y="1187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1460520"/>
          <a:ext cx="8785440" cy="52657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710000"/>
                <a:gridCol w="1414440"/>
                <a:gridCol w="1268280"/>
                <a:gridCol w="1463760"/>
              </a:tblGrid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с рейтинговой оцен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без рейтинговой оц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лговые ценные бумаги, в том числе выпущенные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S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кьюритизированные долговые ценные бумаги выпущенные СФ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под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под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фраструктурные ценные бума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йтинговая оцен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андарт финансовой отч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FRS / GA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ор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тветствующий квалификационным требованиям, установленным в приказе АРД РФ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нансовая отчет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2 года (при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V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меняется к гарант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декс корпоративного у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ркет мейк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осударственная рег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бственный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0 000 МРП за последний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м прода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00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000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т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 600 МРП за каждый из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 последний завершенный год должна быть положитель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28E-17E0-4458-A162-BF492603E6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инвестиционных фондо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700280"/>
          <a:ext cx="8229600" cy="4432320"/>
        </p:xfrm>
        <a:graphic>
          <a:graphicData uri="http://schemas.openxmlformats.org/drawingml/2006/table">
            <a:tbl>
              <a:tblPr/>
              <a:tblGrid>
                <a:gridCol w="3325680"/>
                <a:gridCol w="2490840"/>
                <a:gridCol w="2413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инвестиционных фондов (ИФ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кции индексных фонд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ET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рок существ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1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андарт финансовой отчет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FRS / GA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бственный капитал 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0 000 МР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ор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тветствующий квалификационным требованиям, установленным в приказе АРД РФ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фол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сутствие фа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ркет-мейк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ктивы ИФ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при первичном листинге вступает в силу через 3 месяца после листинга пае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 000 МРП за последний завершенный финансовый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инимальное количество пайщиков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при первичном листинге вступает в силу через 3 месяца после листинга пае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вестиционная деклар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ртфель фон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уется из ЦБ обращающихся на признаваемых АРД РФЦА бирж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392-98E9-4DE7-9AC7-BAB3AB6D4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32:55Z</dcterms:created>
  <dc:creator>User</dc:creator>
  <dc:description/>
  <dc:language>en-US</dc:language>
  <cp:lastModifiedBy>Omarova</cp:lastModifiedBy>
  <dcterms:modified xsi:type="dcterms:W3CDTF">2008-09-17T08:18:52Z</dcterms:modified>
  <cp:revision>161</cp:revision>
  <dc:subject/>
  <dc:title>Слайд 1</dc:title>
</cp:coreProperties>
</file>