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7EA8-A22D-4646-8148-AA9D4D9B3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8E68-D7B3-42DB-AC27-44E5D0914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0BED-F23F-4520-BF82-1A1CCB840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7992-BEF4-461E-9657-320CEFE0A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48FF-A0B3-4283-9E4D-3028AEE60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F111-8B84-452C-B3A0-22C224B74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2C07-B355-4F79-A21F-97D947F5E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9D86-EA8F-41E0-A161-21F2972F5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79280" y="274320"/>
            <a:ext cx="6985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1E7B-F5DA-4B71-BCF0-5B546DAE3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92D3-9A19-47E5-ABFD-6A27E05E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3775-105E-4F0D-9210-3EC631CA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A613-4F14-4EA9-8DD0-081AE80E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BFC06-C051-4CD5-B68E-2B7A21015DA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Преимущества выхода компаний на фондовый рыно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12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полнительная возможность привлечения капитала для более прогрессивного развития бизнеса компан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12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пуск ценных бумаг является одной из наиболее доступных форм привлечения капитал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12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При выходе на фондовый рынок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статус компании возрастает, компания становится более узнаваемой и котируемо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12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актика показывает, что помимо привлеченных дополнительных средств, компания становится более успешной и привлекательной как для новых инвесторов, так и для имеющихся партнеров по бизнес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020E-4142-4F88-8E28-F56AB8529DB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ектор государственных ценных бумаг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 обращению в секторе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«государственные ценные бумаги»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допускаются и могут обращаться эмиссионные государственные ценные бумаги, выпущенные в соответствии с законодательством Республики Казахстан и других государств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361800"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учет, которых осуществляется в системе учета центрального депозитари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361800"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о которым имеется маркет-мейкер (или будет маркет-мейкер после допуска данных ценных бумаг к обращению на фондовой бирже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361800"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меющих суверенные долгосрочные кредитные рейтинговые оценки в иностранной валюте не ниже «В-» (по классификации рейтинговых агентств Standard &amp; Poor's или Fitch) или «В3» (по классификации рейтингового агентства Moody'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1D8E-93BA-4C00-BF8F-0BEC9319A3B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ектор ценных бумаг международных финансовых организаций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0" algn="just">
              <a:spcBef>
                <a:spcPts val="451"/>
              </a:spcBef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 обращению в сектор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«ценные бумаги международных финансовых организаций»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допускаются и могут обращаться эмиссионные ценные бумаги международных финансовых организаций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0">
              <a:spcBef>
                <a:spcPts val="451"/>
              </a:spcBef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361800"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учет, которых осуществляется в системе учета центрального депозитар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0">
              <a:spcBef>
                <a:spcPts val="451"/>
              </a:spcBef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361800"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о которым имеется маркет-мейкер (или будет маркет-мейкер после допуска данных ценных бумаг к обращению на фондовой бирже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55F0-3BEF-4B06-B3D9-0390CF2279F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ектор депозитарных расписо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361800"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 обращению в секторе «депозитарные расписки» допускаются депозитарные расписки, базовым активом которых являются негосударственные ценные бумаги, выпущенные в соответствии с законодательством других, помимо Республики Казахстан, государст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361800"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требования применяются по отношению к базовому активу и его эмитент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905B-809E-4790-9168-FD7DC1D40B1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ектор производных ценных бумаг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Требования устанавливаются внутренними документами организатора торгов, которые подлежат согласованию с АФН и АРД РФЦ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4000-0A54-44B6-B1B0-76075E24F6B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Ценные бумаги, допускаемые по упрощенной процедур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аличие листинга по наивысшей категории на одной из фондовых бирж, входящих в перечень фондовых бирж, признаваемых АРД РФЦ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аскрытие эмитентами информации осуществляется на официальных сайтах соответствующих фондовых бирж и в соответствии с договором о раскрытии информации, заключенным между организатором торгов и инициатором листинга или эмитент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аличие маркет-мейке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BFF2-D6DA-4DE3-A7F8-C62BF39C2DA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16280" y="147240"/>
            <a:ext cx="698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еимущества эмиссии финансовых инструментов перед банковским займом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действующие условия на СТП РФЦА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0" y="1197000"/>
          <a:ext cx="9143640" cy="5659200"/>
        </p:xfrm>
        <a:graphic>
          <a:graphicData uri="http://schemas.openxmlformats.org/drawingml/2006/table">
            <a:tbl>
              <a:tblPr/>
              <a:tblGrid>
                <a:gridCol w="3046680"/>
                <a:gridCol w="3048480"/>
                <a:gridCol w="3048480"/>
              </a:tblGrid>
              <a:tr h="262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миссия финансовых инструмен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нковский зай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26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иг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 рассмотрения заявки и получение займ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9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истрация Проспекта эмиссии ЦБ в АФН в течение 30 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ение о листинге принимается в течение 10 дней (по условию 1 или 2) и 20 дней (по условию 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т 1 до 3 дней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1меся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став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-1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-2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Объем привлекаемых средств, сроки выплаты процентов определяются эмитентом самостоятельно в зависимости от стратегии развития и конъюнктуры рынка капитал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луживание долга (дополнительные издержки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5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уги финансового консультан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овые, юридические, страховые и аудиторские услуг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6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2% от выпус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4 – 0.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удиторские услуг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ло 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Возможность возмещения затрат эмитента на первый ауди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мер вступительного листингового сбор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ение креди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лог имуществ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позит юридического или физического лиц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условию 1 или 2 -100 кратный размер МР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условию 3– 0.025% от величины</a:t>
                      </a: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٭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не менее 100-и не более 4000-кратного размера МР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٭</a:t>
                      </a: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суммарной установленной цены их размещ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٭</a:t>
                      </a: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суммарной номинальной стоимост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5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Отсутствие биржевых комиссий (если размещение происходит в течении первых 3 месяцев со дня включения в листинг фондовой биржи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овые льгот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рафы за досрочное погашение креди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0328-980B-4D04-85CE-205EC014D82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79280" y="-36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нфраструктура РЦБ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9738-2693-4F0A-8DB8-FA5727D0782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обходимость разработки новых листинговых правил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ъединение торговых площадок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ASE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СТП РФЦ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здание условий для привлечения компаний </a:t>
            </a: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на фондовый рыно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ширение спектра финансовых инструмент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вышение ликвидност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здание оптимальной структуры листинга с учетом пожеланий участников рынка и рекомендаций консультантов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недрение стандартов, принятых на международных фондовых рынках, с учетом специфики РЦБ Казахстан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влечение новых участников рынка, в том числе иностранных инвесторов, профессиональных участников и эмитент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ширение возможностей инвестирования для розничных инвестор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CF6B-5370-41D5-9F13-023B6EED44D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7640" y="2599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тарая структура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истинг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04880" y="71280"/>
            <a:ext cx="4991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4880" y="1363680"/>
            <a:ext cx="4991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04880" y="1363680"/>
            <a:ext cx="4991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68360" y="4581360"/>
          <a:ext cx="8424720" cy="1094040"/>
        </p:xfrm>
        <a:graphic>
          <a:graphicData uri="http://schemas.openxmlformats.org/drawingml/2006/table">
            <a:tbl>
              <a:tblPr/>
              <a:tblGrid>
                <a:gridCol w="1871640"/>
                <a:gridCol w="2160720"/>
                <a:gridCol w="2303280"/>
                <a:gridCol w="2089080"/>
              </a:tblGrid>
              <a:tr h="27648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ектор государственных ценных бума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международные ценные бумаги Республики Казахстан (еврооблигации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ценные бумаги Правительства Республики Казахста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ценные бумаги Национального Банка Республики Казахста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ценные бумаги местных исполнительных орган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468360" y="1844640"/>
          <a:ext cx="3924360" cy="1440000"/>
        </p:xfrm>
        <a:graphic>
          <a:graphicData uri="http://schemas.openxmlformats.org/drawingml/2006/table">
            <a:tbl>
              <a:tblPr/>
              <a:tblGrid>
                <a:gridCol w="939600"/>
                <a:gridCol w="1003320"/>
                <a:gridCol w="952560"/>
                <a:gridCol w="1028880"/>
              </a:tblGrid>
              <a:tr h="42876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фициальный список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452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атегория 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атегория 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6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А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блиг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А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блиг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468360" y="148428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859280" y="1484280"/>
            <a:ext cx="38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П РФ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635360" y="1844640"/>
          <a:ext cx="4216680" cy="1822320"/>
        </p:xfrm>
        <a:graphic>
          <a:graphicData uri="http://schemas.openxmlformats.org/drawingml/2006/table">
            <a:tbl>
              <a:tblPr/>
              <a:tblGrid>
                <a:gridCol w="1297080"/>
                <a:gridCol w="1519200"/>
                <a:gridCol w="1400400"/>
              </a:tblGrid>
              <a:tr h="2764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ектор листинговые ценные бума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атегория «С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 услов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 услов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 услов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листинг на признаваемой Агентством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ирж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личие рейтинговых оценок, признанных Агентством 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эмитент должен соответствовать установленным требовани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468360" y="3789360"/>
          <a:ext cx="8424720" cy="638280"/>
        </p:xfrm>
        <a:graphic>
          <a:graphicData uri="http://schemas.openxmlformats.org/drawingml/2006/table">
            <a:tbl>
              <a:tblPr/>
              <a:tblGrid>
                <a:gridCol w="2671560"/>
                <a:gridCol w="2997360"/>
                <a:gridCol w="2755800"/>
              </a:tblGrid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ектор «Нелистинговые ценные бумаги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ектор «ценные бумаги международных финансовых организаций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ектор «Иностранные государственные ценные бумаги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24FB-A5B9-4D3E-91DE-D37D62B75DA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овая структура официального списка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ТП РФЦ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24000" y="1773360"/>
          <a:ext cx="8208720" cy="1184040"/>
        </p:xfrm>
        <a:graphic>
          <a:graphicData uri="http://schemas.openxmlformats.org/drawingml/2006/table">
            <a:tbl>
              <a:tblPr/>
              <a:tblGrid>
                <a:gridCol w="1944360"/>
                <a:gridCol w="1151280"/>
                <a:gridCol w="1116000"/>
                <a:gridCol w="1404720"/>
                <a:gridCol w="1368360"/>
                <a:gridCol w="1224000"/>
              </a:tblGrid>
              <a:tr h="2764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ектор ак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ектор долговых ценных бума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 категор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(Blue chip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 категор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(Mid ca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 категор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(Start-u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атегория ценных бумаг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 рейтинговой оценк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атегории ценных бумаг без рейтинговой оцен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одкатегор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 подкатегор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324000" y="3284640"/>
          <a:ext cx="8208720" cy="1003320"/>
        </p:xfrm>
        <a:graphic>
          <a:graphicData uri="http://schemas.openxmlformats.org/drawingml/2006/table">
            <a:tbl>
              <a:tblPr/>
              <a:tblGrid>
                <a:gridCol w="1944360"/>
                <a:gridCol w="2232360"/>
                <a:gridCol w="1439640"/>
                <a:gridCol w="1374840"/>
                <a:gridCol w="1217520"/>
              </a:tblGrid>
              <a:tr h="100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Сектор ценных бумаг инвестиционных фон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ектор ценных бумаг международных финансовых организ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ектор государственных ценных бума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ектор производных ценных бума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ектор депозитарных распис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6520-5091-430B-905E-328E1C4A8F6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2560" y="2599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ектор акци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796000" y="1628640"/>
            <a:ext cx="26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68360" y="1557360"/>
          <a:ext cx="8424720" cy="4565520"/>
        </p:xfrm>
        <a:graphic>
          <a:graphicData uri="http://schemas.openxmlformats.org/drawingml/2006/table">
            <a:tbl>
              <a:tblPr/>
              <a:tblGrid>
                <a:gridCol w="1936800"/>
                <a:gridCol w="2228760"/>
                <a:gridCol w="2190600"/>
                <a:gridCol w="2068560"/>
              </a:tblGrid>
              <a:tr h="28116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категор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категор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категор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lue сhip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d-сap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start up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сударственная регистрац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менее 3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менее 2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андарт финансовой отчет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RS / GAA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уди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удитор соответствующий квалификационным требованиям установленным в приказе АРД РФЦ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нансовая отчетность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г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г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год или на последнюю дату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бственный капита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МР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1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МР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МР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питализац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МРП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рез 6 месяцев после листинг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1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МР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рез 6 месяцев после листинг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стая прибыл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 600 МРП за каждый из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х последних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 каждый из 2-х последних лет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лжна быть положительно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94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о акций в свободном обращени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free float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 даты открытия торгов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- по истечении 6-ти месяце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%- по истечении 6-ти месяце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% - по истечении 1 г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 - по истечении 1 г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7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% - по истечении 2-х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%- по истечении 2-х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екс корпоративного управл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ркет мейке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"/>
          <p:cNvSpPr/>
          <p:nvPr/>
        </p:nvSpPr>
        <p:spPr>
          <a:xfrm>
            <a:off x="468360" y="6093000"/>
            <a:ext cx="842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для государственных организаций, требование по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free float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составляет: по 1 категории 5% - по истечении 6-ти месяцев и 10% - по    истечении 1 года, по 2-ой категории 5% - по истечении 6-ти месяцев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D4CA-3058-41FE-ACC3-0A27D4BE4E5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ектор долговых ценных бумаг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92000" y="1600200"/>
            <a:ext cx="55436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65560" y="9381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78240" y="11872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79280" y="1460520"/>
          <a:ext cx="8785440" cy="5265720"/>
        </p:xfrm>
        <a:graphic>
          <a:graphicData uri="http://schemas.openxmlformats.org/drawingml/2006/table">
            <a:tbl>
              <a:tblPr/>
              <a:tblGrid>
                <a:gridCol w="1463760"/>
                <a:gridCol w="1465200"/>
                <a:gridCol w="1710000"/>
                <a:gridCol w="1414440"/>
                <a:gridCol w="1268280"/>
                <a:gridCol w="1463760"/>
              </a:tblGrid>
              <a:tr h="2462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Ценные бумаги с рейтинговой оценко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Ценные бумаги без рейтинговой оцен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Долговые ценные бумаги, в том числе выпущенные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SP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екьюритизированные долговые ценные бумаги выпущенные СФ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 подкатегор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 подкатегор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инфраструктурные ценные бумаг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ейтинговая оценк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3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тандарт финансовой отчет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IFRS / GAA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Ауди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Аудитор,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оответствующий квалификационным требованиям, установленным в приказе АРД РФЦ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7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Финансовая отчетность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не менее чем за 2 года (при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PV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рименяется к гаранту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не менее чем за 2 г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не менее чем за 1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Кодекс корпоративного управл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Маркет мейке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Государственная регистрац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 г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 г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обственный капита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0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00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МР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40 000 МРП за последний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Объем прода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0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000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МР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4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000 МР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703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Чистая прибыл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5 600 МРП за каждый из 2-х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За последний завершенный год должна быть положительно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BC27-82E2-41EB-85CF-BDE44DBAA3B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ектор инвестиционных фондов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68360" y="1700280"/>
          <a:ext cx="8229600" cy="4432320"/>
        </p:xfrm>
        <a:graphic>
          <a:graphicData uri="http://schemas.openxmlformats.org/drawingml/2006/table">
            <a:tbl>
              <a:tblPr/>
              <a:tblGrid>
                <a:gridCol w="3325680"/>
                <a:gridCol w="2490840"/>
                <a:gridCol w="2413080"/>
              </a:tblGrid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Ценные бумаги инвестиционных фондов (ИФ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Акции индексных фондов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(ET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рок существов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менее 1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тандарт финансовой отчетност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IFRS / GAA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обственный капитал У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00 000 МРП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6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Ауди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Аудитор,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оответствующий квалификационным требованиям, установленным в приказе АРД РФЦ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Дефол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отсутствие факт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Маркет-мейке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+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+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9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Активы ИФ </a:t>
                      </a: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(при первичном листинге вступает в силу через 3 месяца после листинга паев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15 000 МРП за последний завершенный финансовый г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8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Минимальное количество пайщиков </a:t>
                      </a: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(при первичном листинге вступает в силу через 3 месяца после листинга паев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Не менее 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3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Инвестиционная декларац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+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+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96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ортфель фон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ируется из ЦБ обращающихся на признаваемых АРД РФЦА биржа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5755-7372-406F-960D-775E9A67CF8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05:32:55Z</dcterms:created>
  <dc:creator>User</dc:creator>
  <dc:description/>
  <dc:language>en-US</dc:language>
  <cp:lastModifiedBy>Omarova</cp:lastModifiedBy>
  <dcterms:modified xsi:type="dcterms:W3CDTF">2008-09-17T08:18:52Z</dcterms:modified>
  <cp:revision>161</cp:revision>
  <dc:subject/>
  <dc:title>Слайд 1</dc:title>
</cp:coreProperties>
</file>