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435-BDE1-41F8-A35F-29E7002D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60" y="3702600"/>
            <a:ext cx="90072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5C4-F8AA-4824-A746-438C7196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560" y="370260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70260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CB5-0CDB-4BD2-B746-ECDE9A8E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8160" y="105228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3760" y="105228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560" y="370260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8160" y="370260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3760" y="370260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723-7C53-4605-9344-FD7D2986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A2C-9A7D-45DB-83ED-1DE40DC5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76A-AC11-49C6-8D9B-CCC4B3F7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43952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052280"/>
            <a:ext cx="43952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3BD-6DD6-4CEE-879E-C164F8D9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BA9-FBF8-46E8-A69E-C152CF1A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640" y="-360"/>
            <a:ext cx="893772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5A2-B093-4381-AEAA-0EFE4EED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052280"/>
            <a:ext cx="43952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60" y="370260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5C3-2F83-442C-9F8F-AD39C3A8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43952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70260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D3F-5D21-46F3-91AE-AF2A06F4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560" y="3702600"/>
            <a:ext cx="90072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08D-9E1F-4134-B1AB-6679D6E2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13520"/>
            <a:ext cx="9144000" cy="75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Myriad Pro Light SemiCond"/>
              </a:rPr>
              <a:t>Click to edit the title text format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75b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Click to edit the outline text format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601"/>
              </a:spcBef>
              <a:buClr>
                <a:srgbClr val="33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Second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2" marL="804960" indent="-173160">
              <a:spcBef>
                <a:spcPts val="601"/>
              </a:spcBef>
              <a:buClr>
                <a:srgbClr val="3333cc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Third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3" marL="1168560" indent="-184320">
              <a:spcBef>
                <a:spcPts val="601"/>
              </a:spcBef>
              <a:buClr>
                <a:srgbClr val="0075b9"/>
              </a:buClr>
              <a:buFont typeface="Myriad Pro Light Semi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Fourth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4" marL="1521000" indent="-173160">
              <a:spcBef>
                <a:spcPts val="601"/>
              </a:spcBef>
              <a:buClr>
                <a:srgbClr val="0075b9"/>
              </a:buClr>
              <a:buFont typeface="Myriad Pro Light Semi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Fifth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5" marL="1521000" indent="-173160">
              <a:spcBef>
                <a:spcPts val="601"/>
              </a:spcBef>
              <a:buClr>
                <a:srgbClr val="0075b9"/>
              </a:buClr>
              <a:buFont typeface="Myriad Pro Light Semi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Sixth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6" marL="1521000" indent="-173160">
              <a:spcBef>
                <a:spcPts val="601"/>
              </a:spcBef>
              <a:buClr>
                <a:srgbClr val="0075b9"/>
              </a:buClr>
              <a:buFont typeface="Myriad Pro Light Semi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Seventh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5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5b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1240" y="6300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Myriad Pro Light SemiC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Pro Light SemiCond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75000" y="6300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Myriad Pro Light Semi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45F2-76C9-43C6-9C7C-C9AB558D20FB}" type="slidenum">
              <a:rPr b="0" lang="en-US" sz="1800" spc="-1" strike="noStrike">
                <a:solidFill>
                  <a:srgbClr val="ffffff"/>
                </a:solidFill>
                <a:latin typeface="Myriad Pro Light SemiCond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4920" y="1030320"/>
            <a:ext cx="9001080" cy="0"/>
          </a:xfrm>
          <a:prstGeom prst="line">
            <a:avLst/>
          </a:prstGeom>
          <a:ln w="9360">
            <a:solidFill>
              <a:srgbClr val="007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5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kcbank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info@nkcbank.ru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NC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89000"/>
            <a:ext cx="2057400" cy="63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3716280"/>
            <a:ext cx="68407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меститель Председателя Правления, член Правления - </a:t>
            </a:r>
            <a:endParaRPr b="0" lang="en-US" sz="1800" spc="-1" strike="noStrike">
              <a:solidFill>
                <a:srgbClr val="0075b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рчев Александр Михайлович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нтябрь 2009</a:t>
            </a:r>
            <a:endParaRPr b="0" lang="en-US" sz="1800" spc="-1" strike="noStrike">
              <a:solidFill>
                <a:srgbClr val="0075b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1F5-8C2E-4EA5-B950-2E934D9A1A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правление риском инвестиций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8912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еханизмы управления риском инвестиций: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тандарты надежности (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tandards for creditworthiness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 для объектов размещения денежных средств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зарубежные банки: рейтинг (S&amp;P, Moody’s или Fitch) не ниже A-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ценные бумаги иностранных эмитентов: только долговые       обязательства с рейтингом не ниже АА-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российские банки: рейтинг не ниже странового минус одна ступень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ценные бумаги российских эмитентов: только долговые обязательства в соответствии со стандартами надежности Банка России (входящие в Ломбардный список Банка России)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оритет ликвидности и надежности объектов инвестирования над их доходностью. Определена максимальная срочность инструментов, разрешенных для инвестирования.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граничения на концентрацию рисков в отдельных инструментах, стимулирующие диверсификацию объектов инвестирования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апрет на ряд активных операций (розничное кредитование, открытие валютных позиций с целью извлечения дохода, др.)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709-3B17-49D8-8F9A-0B6E00D586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еханизмы управления кредитным риском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стема требований к участникам клиринга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счеты с участниками клиринга по принципу «Платеж против платежа» |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yment versus payment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VP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еспечение сделок (механизм предварительного депонирования |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margin requirements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граничение максимального размера кредитного риска посредством установленных границ допустимых однодневных курсовых колебаний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ополнительная торговая сессия с участием Банка России и ликвидация непоставки в день ее возникновения (механизм замещения дефолтера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еспечение сделок участников Фонда покрытия рисков, заключенных сверх внесенного ими предварительного обеспечения - за счет средств Фонда, в пределах лимитов, установленных на этих участников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азмер потенциального убытка НКЦ в случае дефолта одного из участников биржевого валютного рынка, на котором НКЦ выполняет роль центрального контрагента, зависит от размера неисполненного обязательства и от разницы между курсом сделки, по которой был допущен дефолт, и курсом, по которому эта сделка будет ликвидирована.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602-551F-4F62-8BF6-61C5333AF4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еспечение прозрачности в деятельности НКЦ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90075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ля обеспечения прозрачности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parency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 своей деятельности в качестве ССР НКЦ раскрывает на сайте: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ила и регламенты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ules and regulations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, связанные с деятельностью НКЦ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нформацию о системе управления рисками НКЦ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нформацию о тарифах для участников рынка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инансовую отчетность НКЦ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став акционеров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C38-AEBE-425C-9C51-4F9D2268E6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1dab"/>
                </a:solidFill>
                <a:latin typeface="Arial"/>
              </a:rPr>
              <a:t>Финансовые ресурсы НКЦ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89834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67040" indent="-167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питал НКЦ (на 01.08.09) 4,135 млрд. руб.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out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94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lions EURO)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-167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арантия ЗАО ММВБ в сумме 2,6 млрд. руб.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out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57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lions EURO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-167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онд покрытия рисков, созданный за счет средств его участников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out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14,4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lions US dollars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-167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понированные под заключение биржевых валютных сделок денежные средства участников клиринга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-167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миты кредитования на НКЦ, установленные Банком России, расчетными банками и иными банками (резервные ресурсы, которые могут быть использованы при необходимости)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08F-8537-49A0-AF67-90E55C54C6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егулирование, наблюдение и контроль за деятельностью НКЦ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8983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нутренний контроль и регулирование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авление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едседатель Правления НКЦ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яд специальных Комитетов (Комитет по рискам, Комитет по управлению активами, Бюджетный комитет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лужба внутреннего контроля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онтроль внутри группы ММВБ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еративный контроль со стороны материнской компании, ЗАО ММВБ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евизионная комиссия НКЦ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нешний контроль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аблюдательный совет НКЦ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щее собрание акционеров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егулирующий надзорный орган: проверки деятельности НКЦ Банком России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дтверждение отчетности НКЦ независимой аудиторской компанией. В 2007-2008 годах отчетность НКЦ подтверждалась компанией Deloitte &amp; Touche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488-5145-4290-98F1-E01F65D143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Myriad Pro Light SemiCond"/>
              </a:rPr>
              <a:t>Основные пути развития деятельности НКЦ</a:t>
            </a:r>
            <a:r>
              <a:rPr b="0" lang="en-US" sz="2800" spc="-1" strike="noStrike">
                <a:solidFill>
                  <a:srgbClr val="003399"/>
                </a:solidFill>
                <a:latin typeface="Myriad Pro Light SemiCond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218-64F3-43D9-9E16-0E23204143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Совершенствование системы управления рисками НКЦ в соответствии с международными стандартами.</a:t>
            </a:r>
            <a:r>
              <a:rPr b="0" lang="en-US" sz="2400" spc="-1" strike="noStrike">
                <a:solidFill>
                  <a:srgbClr val="003399"/>
                </a:solidFill>
                <a:latin typeface="Myriad Pro Light SemiCond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Myriad Pro Light SemiCond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оведенная  самооценка на предмет соответствия Рекомендациям, разработанным Комитетом по платежным и расчетным системам при Банке Международных Расчетов и Техническим Комитетом Международной организации Комиссий по ценным бумагам для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Центральных Контрагентов  (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PSS/IOSCO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mmendations)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оказала, что деятельность НКЦ как центрального контрагента в целом соответствует принятым международным стандартам;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НКЦ внедряет в практику работы  проведение на постоянной основе стресс тестирования с целью оценки влияния на деятельность НКЦ следующих рисков: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кредитного риска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валютного риска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риска ликвидности; 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процентного риска; 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ценового (фондового) риска; 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риск, связанные с исполнением обязательств по клирингу.   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НКЦ будет постоянно увеличивать собственный капитал с тем, чтобы отвечать по этому параметру растущим потребностям рынка. В ближайшее время планируется увеличить совокупный капитал до 6, 135 млрд. руб., а в 2011 году  довести его до уровня, превышающего 9 млрд. рублей.  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B6C-C6DB-466B-B2E2-40B40B5F31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спространение клиринговой деятельности НКЦ на другие биржевые рынки ММВБ</a:t>
            </a:r>
            <a:endParaRPr b="0" lang="en-US" sz="24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90075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51200" indent="-151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существление клиринга с выполнением функций центрального контрагента по сделкам с акциями, корпоративными, региональными и государственными облигациями с предварительным частичным депонированием средств и с расчетами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51200" indent="-151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спространение схемы клиринга с центральным контрагентом на рынок РЕПО.</a:t>
            </a: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51200" indent="-151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недрение механизма клиринга с центральным контрагентом на срочном рынке.</a:t>
            </a: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51200" indent="-151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ведение неттинга после клиринга по парам рубль/долл., рубль/евро, евро/долл.</a:t>
            </a: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51200" indent="-151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инамическое отслеживание позиций участников клиринга</a:t>
            </a: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6C8-1EFD-461C-8BE4-69E105742F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Myriad Pro Light SemiCond"/>
              </a:rPr>
              <a:t>Международный проект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75b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5b9"/>
                </a:solidFill>
                <a:latin typeface="Myriad Pro Light SemiCond"/>
              </a:rPr>
              <a:t>Подготовлены изменения в Правила клиринга, позволяющие зарубежным банкам стран ЕврАзЭс участвовать в торгах и клиринге биржевого валютного рынка для согласования в Банке России.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601"/>
              </a:spcBef>
              <a:buClr>
                <a:srgbClr val="0075b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5b9"/>
                </a:solidFill>
                <a:latin typeface="Myriad Pro Light SemiCond"/>
              </a:rPr>
              <a:t>Ожидается формирование единых требований к участникам и условий допуска к торгам и клирингу на валютных рынках стран ЕврАзЭс. 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95E-D0F8-4862-B13D-633AE3078F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ЗАО АКБ «Национальный Клиринговый Центр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360" y="206064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yriad Pro Light SemiCond"/>
              </a:rPr>
              <a:t>Благодарим за внимание!</a:t>
            </a:r>
            <a:endParaRPr b="0" lang="en-US" sz="2800" spc="-1" strike="noStrike">
              <a:solidFill>
                <a:srgbClr val="0075b9"/>
              </a:solidFill>
              <a:latin typeface="Myriad Pro Light SemiC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213000"/>
            <a:ext cx="763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ш адрес:   Россия, 125009, Москва, 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ольшой Кисловский переулок, 13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лефон:      +7 (495)  782 97 94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         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info@nkcbank.ru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ttp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//www.nkcbank.ru 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1dab"/>
                </a:solidFill>
                <a:latin typeface="Tahoma"/>
              </a:rPr>
              <a:t>ЗАО АКБ </a:t>
            </a:r>
            <a:br>
              <a:rPr sz="2800"/>
            </a:br>
            <a:r>
              <a:rPr b="1" lang="en-US" sz="2800" spc="-1" strike="noStrike">
                <a:solidFill>
                  <a:srgbClr val="421dab"/>
                </a:solidFill>
                <a:latin typeface="Tahoma"/>
              </a:rPr>
              <a:t>«Национальный Клиринговый Центр»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ата создания: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24 октября 2005 года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рганизационно – правовая форма: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крытое акционерное общество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сновной вид деятельности: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казание клиринговых услуг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частникам финансового рынка.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труктура акционерного капитала: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О «Московская межбанковская валютная биржа»        -    99,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729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П «Национальный депозитарный центр» -      0,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71 %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Уставный капитал: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ставный капитал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 7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5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млн. руб.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(на 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.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.09г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~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9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лн. евро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ъем собственных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редств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5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млн.руб.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(на 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.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.09г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~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лн. евро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люта баланса: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673 040 млн.руб.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(на 01.08.09г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~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млрд. евро)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Лицензии: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а осуществление банковских операций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фессионального участника рынка ценных бумаг на осуществление клиринговой деятельности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421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ата начала операционной деятельности: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0 декабря 2007 года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06E-7785-44CC-A3ED-083841C5FF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96472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1dab"/>
                </a:solidFill>
                <a:latin typeface="Arial"/>
              </a:rPr>
              <a:t>Клиринговая деятельность  </a:t>
            </a:r>
            <a:br>
              <a:rPr sz="2800"/>
            </a:br>
            <a:r>
              <a:rPr b="1" lang="en-US" sz="2800" spc="-1" strike="noStrike">
                <a:solidFill>
                  <a:srgbClr val="421dab"/>
                </a:solidFill>
                <a:latin typeface="Arial"/>
              </a:rPr>
              <a:t>ЗАО АКБ«Национальный Клиринговый Центр» на валютном рынке ММВБ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892-E5ED-4721-93B3-9C7DCD265F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1dab"/>
                </a:solidFill>
                <a:latin typeface="Arial"/>
              </a:rPr>
              <a:t>Схема организации клиринга с участием НКЦ на валютном рынке ММВБ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268280"/>
            <a:ext cx="1630440" cy="4753080"/>
          </a:xfrm>
          <a:prstGeom prst="flowChartAlternateProcess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Участник торгов</a:t>
            </a:r>
            <a:r>
              <a:rPr b="1" lang="en-US" sz="1400" spc="-1" strike="noStrike">
                <a:solidFill>
                  <a:srgbClr val="0075b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Участник клиринга</a:t>
            </a:r>
            <a:endParaRPr b="0" lang="en-US" sz="14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68280"/>
            <a:ext cx="40464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5b9"/>
                </a:solidFill>
                <a:latin typeface="Tahoma"/>
              </a:rPr>
              <a:t>                          </a:t>
            </a:r>
            <a:r>
              <a:rPr b="0" lang="en-US" sz="1200" spc="-1" strike="noStrike">
                <a:solidFill>
                  <a:srgbClr val="0075b9"/>
                </a:solidFill>
                <a:latin typeface="Tahoma"/>
              </a:rPr>
              <a:t>     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МВБ </a:t>
            </a:r>
            <a:endParaRPr b="0" lang="en-US" sz="14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Торговые функции: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Регистрация заявок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Сверка заявок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Регистрация сделок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Формирование и направления выписок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из реестра сделок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3284640"/>
            <a:ext cx="3992400" cy="186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5b9"/>
                </a:solidFill>
                <a:latin typeface="Tahoma"/>
              </a:rPr>
              <a:t>                                           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5b9"/>
                </a:solidFill>
                <a:latin typeface="Tahoma"/>
              </a:rPr>
              <a:t>                                           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5b9"/>
                </a:solidFill>
                <a:latin typeface="Tahoma"/>
              </a:rPr>
              <a:t>                             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КЦ</a:t>
            </a:r>
            <a:endParaRPr b="0" lang="en-US" sz="14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Клиринговые функции: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Контроль параметров ЕТС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Ведение позиций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Расчет лимитов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Контроль обеспеченности заявок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Зачет обязательств по итогам торгов, вычисление нетто –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обязательств и нетто -требований участников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Расчет и удержание блокированных средств участников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Формирование и направление биржевых свидетельств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Контроль исполнения обязательств на основе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PVP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5b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5157720"/>
            <a:ext cx="3892680" cy="733320"/>
          </a:xfrm>
          <a:prstGeom prst="upArrowCallout">
            <a:avLst>
              <a:gd name="adj1" fmla="val 132720"/>
              <a:gd name="adj2" fmla="val 132707"/>
              <a:gd name="adj3" fmla="val 16667"/>
              <a:gd name="adj4" fmla="val 66660"/>
            </a:avLst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Фонд покрытия рисков НКЦ</a:t>
            </a:r>
            <a:endParaRPr b="0" lang="en-US" sz="9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Фонды ММВБ </a:t>
            </a:r>
            <a:endParaRPr b="0" lang="en-US" sz="9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Банк России</a:t>
            </a:r>
            <a:r>
              <a:rPr b="0" lang="en-US" sz="900" spc="-1" strike="noStrike">
                <a:solidFill>
                  <a:srgbClr val="0075b9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2781360"/>
            <a:ext cx="1168560" cy="480960"/>
          </a:xfrm>
          <a:prstGeom prst="upDownArrow">
            <a:avLst>
              <a:gd name="adj1" fmla="val 48315"/>
              <a:gd name="adj2" fmla="val 20074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Акцепт 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сделок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6360" y="2781360"/>
            <a:ext cx="860400" cy="479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Реестр 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сделок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2781360"/>
            <a:ext cx="1231920" cy="509400"/>
          </a:xfrm>
          <a:prstGeom prst="upDownArrow">
            <a:avLst>
              <a:gd name="adj1" fmla="val 48315"/>
              <a:gd name="adj2" fmla="val 20074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Контроль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обеспечен-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ности заявок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1125360"/>
            <a:ext cx="2952720" cy="598680"/>
          </a:xfrm>
          <a:prstGeom prst="rightArrow">
            <a:avLst>
              <a:gd name="adj1" fmla="val 50000"/>
              <a:gd name="adj2" fmla="val 123301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Направление заявок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1628640"/>
            <a:ext cx="2952720" cy="1195560"/>
          </a:xfrm>
          <a:prstGeom prst="leftArrow">
            <a:avLst>
              <a:gd name="adj1" fmla="val 50000"/>
              <a:gd name="adj2" fmla="val 6174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Информация о сделках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выписка из реестра 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сделок)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3068640"/>
            <a:ext cx="2952720" cy="760320"/>
          </a:xfrm>
          <a:prstGeom prst="rightArrow">
            <a:avLst>
              <a:gd name="adj1" fmla="val 50000"/>
              <a:gd name="adj2" fmla="val 97088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Предварительное депони-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рование 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3716280"/>
            <a:ext cx="2952720" cy="1095480"/>
          </a:xfrm>
          <a:prstGeom prst="leftArrow">
            <a:avLst>
              <a:gd name="adj1" fmla="val 50000"/>
              <a:gd name="adj2" fmla="val 67384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Отчет о блок. средствах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Извещение о расчете коммис.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НКЦ, Биржевое свидетельство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4797360"/>
            <a:ext cx="2952720" cy="879480"/>
          </a:xfrm>
          <a:prstGeom prst="leftRightArrow">
            <a:avLst>
              <a:gd name="adj1" fmla="val 50000"/>
              <a:gd name="adj2" fmla="val 66836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Перечисление денежных средств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003-B1D8-451C-AB25-023CF9E9B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920" y="270792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Myriad Pro Light SemiCond"/>
              </a:rPr>
              <a:t>Роль института центрального контрагента на финансовом рынке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700-0885-4D2B-BBD6-34A4A32968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Центральный контрагент в условиях  рыночной нестабильности. Российский опыт </a:t>
            </a:r>
            <a:r>
              <a:rPr b="0" lang="en-US" sz="2800" spc="-1" strike="noStrike">
                <a:solidFill>
                  <a:srgbClr val="003399"/>
                </a:solidFill>
                <a:latin typeface="Myriad Pro Light SemiCond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Myriad Pro Light SemiCond"/>
              </a:rPr>
              <a:t>Опыт НКЦ</a:t>
            </a:r>
            <a:r>
              <a:rPr b="0" lang="ru-RU" sz="1800" spc="-1" strike="noStrike">
                <a:solidFill>
                  <a:srgbClr val="003399"/>
                </a:solidFill>
                <a:latin typeface="Myriad Pro Light SemiCond"/>
              </a:rPr>
              <a:t>: 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349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НКЦ с момента начала деятельности является одним из важных  элементов сохранения стабильности на биржевом валютном рынке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349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в период высокой волатильности финансовых рынков  НКЦ  стал стабилизатором  валютного рынка, не допустив не одного случая неисполнения своих обязательств перед добросовестными участниками; 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349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НКЦ для поддержания стабильности на биржевом валютном рынке: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осуществляет мониторинг финансового состояния участников, ситуации на рынке и действий регуляторов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изменяет нормативы депонирования на валютные торги на ЕТС различными инструментами в тесном взаимодействии с ЦБ РФ, исходя из текущей конъюнктуры рынка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своевременно прекращает/изменяет условия клирингового обслуживания банков в случае существенного ухудшения финансового состояния и/или отзыва лицензий,  неоднократного нарушения установленных сроков расчетов.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349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Myriad Pro Light SemiCond"/>
              </a:rPr>
              <a:t>Коллапс рынка РЕПО в период острой фазы кризиса произошел в том числе и из - за отсутствия на этом рынке центрального контрагента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F4E-7CD5-4A15-8206-F987CD824A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Роль ЦК на мировом финансовом рынке </a:t>
            </a:r>
            <a:br>
              <a:rPr sz="2800"/>
            </a:br>
            <a:r>
              <a:rPr b="1" lang="en-US" sz="28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По оценки Банка Финляндии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51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Myriad Pro Light SemiCond"/>
              </a:rPr>
              <a:t>Главная цель создания и использования института ЦК -  минимизация рыночных рисков и оптимизация издержек посттрейдинга для участников рынка.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451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Myriad Pro Light SemiCond"/>
              </a:rPr>
              <a:t>Деятельность ЦК на финансо рынке: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400"/>
              </a:spcBef>
              <a:buClr>
                <a:srgbClr val="003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yriad Pro Light SemiCond"/>
              </a:rPr>
              <a:t>  </a:t>
            </a: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приводит к сужению торговых спредов, что в свою очередь   стимулирует рост торговой активности;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400"/>
              </a:spcBef>
              <a:buClr>
                <a:srgbClr val="003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  </a:t>
            </a: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снижает кредитный риск контрагентов по сделке;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400"/>
              </a:spcBef>
              <a:buClr>
                <a:srgbClr val="003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  </a:t>
            </a: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позволяет участникам снижать издержки, тем самым повышая доходность от этих    операций;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400"/>
              </a:spcBef>
              <a:buClr>
                <a:srgbClr val="003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способствует снижению операций бэк-офиса участников, тем самым минимизировать операционные риски.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Myriad Pro Light SemiCond"/>
              </a:rPr>
              <a:t>  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Myriad Pro Light SemiCond"/>
              </a:rPr>
              <a:t>   </a:t>
            </a:r>
            <a:r>
              <a:rPr b="0" i="1" lang="ru-RU" sz="1800" spc="-1" strike="noStrike">
                <a:solidFill>
                  <a:srgbClr val="333399"/>
                </a:solidFill>
                <a:latin typeface="Myriad Pro Light SemiCond"/>
              </a:rPr>
              <a:t>По оценке Европейской Ассоциации Центральных Контрагентов (</a:t>
            </a:r>
            <a:r>
              <a:rPr b="0" i="1" lang="en-US" sz="1800" spc="-1" strike="noStrike">
                <a:solidFill>
                  <a:srgbClr val="333399"/>
                </a:solidFill>
                <a:latin typeface="Myriad Pro Light SemiCond"/>
              </a:rPr>
              <a:t>EACH)</a:t>
            </a:r>
            <a:r>
              <a:rPr b="0" i="1" lang="ru-RU" sz="1800" spc="-1" strike="noStrike">
                <a:solidFill>
                  <a:srgbClr val="333399"/>
                </a:solidFill>
                <a:latin typeface="Myriad Pro Light SemiCond"/>
              </a:rPr>
              <a:t> все  Центральные Контрагенты обеспечили выполнение своих обязательств в период острой фазы кризиса.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C29-D8E5-4311-98B0-C0C603FE7F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920" y="1915920"/>
            <a:ext cx="893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сновные элементы системы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правления рисками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3E2-7F0E-426C-A823-60540179B5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1dab"/>
                </a:solidFill>
                <a:latin typeface="Arial"/>
              </a:rPr>
              <a:t>Участники клиринга на валютном рынке ММВБ и предъявляемые к ним требования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0597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Количество участников на 01.08.2009: 527 участник клиринга.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Участники клиринга  должны соответствовать следующим требованиям: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меть лицензию Банка России или иметь право на осуществление банковских операций со средствами в российских рублях и иностранной валюте на территории Российской Федерации. 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блюдать обязательные нормативы, установленные Банком России для кредитных организаций;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меть положительный финансовый результат деятельности;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 деятельности кредитной организации должны отсутствовать основания для осуществления мер по предупреждению банкротства и/или отзыва лицензии Банка России.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Для участия в Фонде покрытия рисков участники клиринга дополнительно должны: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меть собственные средства (капитал) в размере не менее 5 млн. евро;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нести взнос в Фонд в размере $60 000.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C9F-E293-4E30-86D4-22DDE3AABC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1:55:27Z</dcterms:created>
  <dc:creator/>
  <dc:description/>
  <dc:language>en-US</dc:language>
  <cp:lastModifiedBy>sarchev</cp:lastModifiedBy>
  <dcterms:modified xsi:type="dcterms:W3CDTF">2009-09-01T09:01:33Z</dcterms:modified>
  <cp:revision>71</cp:revision>
  <dc:subject/>
  <dc:title>Группа ММВ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