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1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6360" y="274680"/>
            <a:ext cx="726444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1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r_1"/>
          <p:cNvPicPr/>
          <p:nvPr/>
        </p:nvPicPr>
        <p:blipFill>
          <a:blip r:embed="rId2"/>
          <a:stretch/>
        </p:blipFill>
        <p:spPr>
          <a:xfrm>
            <a:off x="0" y="6146640"/>
            <a:ext cx="9144000" cy="71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54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66760">
              <a:spcBef>
                <a:spcPts val="4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80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1588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468360" y="6308640"/>
            <a:ext cx="828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2 сентября 2009 | Ситуация на мировом финансовом рынке: возможности и препятствия для казахстанских эмитентов | Антон Табах, CF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7"/>
          <p:cNvSpPr/>
          <p:nvPr/>
        </p:nvSpPr>
        <p:spPr>
          <a:xfrm>
            <a:off x="932040" y="6364440"/>
            <a:ext cx="333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528-7A92-4207-AB3D-D7D609E7F786}" type="slidenum">
              <a:rPr b="0" lang="en-US" sz="900" spc="-1" strike="noStrike">
                <a:solidFill>
                  <a:srgbClr val="002a5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2a54"/>
                </a:solidFill>
                <a:latin typeface="Arial"/>
              </a:rPr>
              <a:t>Ситуация на мировом финансовом рынке</a:t>
            </a:r>
            <a:br>
              <a:rPr sz="4100"/>
            </a:br>
            <a:r>
              <a:rPr b="0" lang="ru-RU" sz="3600" spc="-1" strike="noStrike">
                <a:solidFill>
                  <a:srgbClr val="002a54"/>
                </a:solidFill>
                <a:latin typeface="Arial"/>
              </a:rPr>
              <a:t>Возможности и препятствия для казахстанских эмитентов</a:t>
            </a:r>
            <a:endParaRPr b="0" lang="en-US" sz="36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4360" y="3584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a54"/>
                </a:solidFill>
                <a:latin typeface="Arial"/>
              </a:rPr>
              <a:t>2 сентября 2009</a:t>
            </a:r>
            <a:br>
              <a:rPr sz="1200"/>
            </a:br>
            <a:r>
              <a:rPr b="0" lang="ru-RU" sz="1200" spc="-1" strike="noStrike">
                <a:solidFill>
                  <a:srgbClr val="002a54"/>
                </a:solidFill>
                <a:latin typeface="Arial"/>
              </a:rPr>
              <a:t>Антон Табах, CFA, старший ана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456840"/>
            <a:ext cx="4121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налитическое управление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495) 258 05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ачальник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аоло Занибон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787 23 8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ратегический анализ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лавны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ингсмилл Бонд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+44 (207) 583 32 5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дрей Кузнец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ефть и газ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лег Максим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0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 Фэ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29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алерий Несте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Котик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1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горь Василье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елекоммуникации, ИТ и меди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вгений Голосно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4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на Лепетухин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ергей Донской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0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Стис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9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рина Лапшин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Ганел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Финансовый сектор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ндрю Кил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5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льга Весел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требительский сектор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иктория Сокол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6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Краснопе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8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италий Ча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258 05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788000" y="1323720"/>
            <a:ext cx="41209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Химическая промышленность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Стис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ирилл Казанл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омпании малой и средней капитализации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Ганел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Анализ рын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дежда Утенк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экономист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тон Струченевск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олговые бумаги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уководитель группы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Кудр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тон Табах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ей Булгак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66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катерина Сидор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краин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ман Заха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кономист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рина Пионтковская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вгений Гребенюк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итер Келле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Мартыненко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Цепенд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азахстан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урбек Жунисов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йнур Медеубае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Влияние глобального финансового кризиса на предпочтения инвесторов</a:t>
            </a:r>
            <a:br>
              <a:rPr sz="2800"/>
            </a:b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5" name="Rectangle 82"/>
          <p:cNvSpPr/>
          <p:nvPr/>
        </p:nvSpPr>
        <p:spPr>
          <a:xfrm>
            <a:off x="826920" y="1413000"/>
            <a:ext cx="7561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, начавшийся в середине 2007 года и усилившийся к концу 2008, привел к коллапсу внешних и внутренних рынков долгового капитала и существенному государственному вмешатель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ый долговой рынок окончательно закрылся для подавляющего большинства эмитентов развитых и развивающихся стран в конце прошлого лета. На вторичном сегменте доходности выросли до иррациональных уров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спрецедентные антикризисные меры, к которым прибегли монетарные власти по всему миру, смогли смягчить ситуацию на развитых рынках и способствовали ралли в апреле – июле 2009 года. К настоящему времени рынок стабилизировался, но волатильность по-прежнему очень выс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 не только к изменил фундаментальные параметры экономики, но и вызвал структурные сдвиги на рын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весторы стали требовать более высокие премии к стоимости долга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сместилось на высококачественные бумаги с короткой дюраци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секторов (в частности, металлургического и девелоперского) рынок закры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1" descr=""/>
          <p:cNvPicPr/>
          <p:nvPr/>
        </p:nvPicPr>
        <p:blipFill>
          <a:blip r:embed="rId1"/>
          <a:stretch/>
        </p:blipFill>
        <p:spPr>
          <a:xfrm>
            <a:off x="324000" y="2011320"/>
            <a:ext cx="420516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Мировая конъюнктура: долговой рынок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1722600"/>
            <a:ext cx="33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реды на межбанковском рынке, б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0880" y="419256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291280" y="1795320"/>
            <a:ext cx="33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намик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BI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59280" y="424332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JPMor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0" descr=""/>
          <p:cNvPicPr/>
          <p:nvPr/>
        </p:nvPicPr>
        <p:blipFill>
          <a:blip r:embed="rId2"/>
          <a:stretch/>
        </p:blipFill>
        <p:spPr>
          <a:xfrm>
            <a:off x="4759200" y="2082960"/>
            <a:ext cx="420552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3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4205160" cy="210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"/>
          <p:cNvPicPr/>
          <p:nvPr/>
        </p:nvPicPr>
        <p:blipFill>
          <a:blip r:embed="rId2"/>
          <a:stretch/>
        </p:blipFill>
        <p:spPr>
          <a:xfrm>
            <a:off x="4759200" y="2077920"/>
            <a:ext cx="4205520" cy="2103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Мировая конъюнктура: валютный рынок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55640" y="179388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рс “евро / доллар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0440" y="429264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24400" y="179388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рс “доллар / йен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0"/>
          <p:cNvSpPr/>
          <p:nvPr/>
        </p:nvSpPr>
        <p:spPr>
          <a:xfrm>
            <a:off x="4859280" y="429264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a54"/>
                </a:solidFill>
                <a:latin typeface="DaxlinePro-ExtraBold"/>
              </a:rPr>
              <a:t>Глобальный рынок корпоративного долга</a:t>
            </a:r>
            <a:endParaRPr b="0" lang="en-US" sz="25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47640" y="3429000"/>
            <a:ext cx="547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намика рынка еврооблигаций российских корпоративных эмит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выпусков еврооблигаций по отрас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826920" y="597060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 оценка Тройки Диало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0920" y="907920"/>
            <a:ext cx="4032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итуации мирового финансового кризиса в сентябре – октябре 2008 года произошел обвал цен еврооблигаций эмитентов с развивающихся рын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астились случаи реструктуризации обязательств на локальном и внешнем долговом рынк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мая по июнь на рынке долговых обязательств шло ралли, причем текущий уровень цен позволяет говорить о появлении “окна возможностей” для эмитентов высокого качества. В настоящий момент ситуация стабилизировала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427640" y="907920"/>
            <a:ext cx="439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ожидаем, что у высококачественных эмитентов сохранится “окно возможностей” для первичных размещений на внешнем рынке до конца осени. Ожидаемая доходность составляет 9-12%, объемы зависят от качества выпус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осом будут пользовать только новые выпуски, размещаемые компаниями с высоким кредитным качеств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ос на первичном рынке имеет высокую ценовую эластичность, т. е. его объем будет напрямую зависеть от премии к "справедливой" доходност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едитное качество эмитентов будет преимущественно оцениваться исходя из объемов и качества финансовых потоков, а не из стоимости активов, динамики бизнеса, перспектив роста и п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204920" y="542916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1204920" y="518940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204920" y="495468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1204920" y="472140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204920" y="448632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204920" y="424656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1204920" y="401148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1751040" y="5524560"/>
            <a:ext cx="169920" cy="1396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2003400" y="5568840"/>
            <a:ext cx="165240" cy="954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2251080" y="5454720"/>
            <a:ext cx="171360" cy="2095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2505240" y="5511960"/>
            <a:ext cx="169560" cy="1522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2757600" y="5524560"/>
            <a:ext cx="171360" cy="1396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011400" y="5479920"/>
            <a:ext cx="171360" cy="1843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3265560" y="5581800"/>
            <a:ext cx="169920" cy="824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3517920" y="5386320"/>
            <a:ext cx="171360" cy="277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3772080" y="5607000"/>
            <a:ext cx="171360" cy="572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4024440" y="5170320"/>
            <a:ext cx="164880" cy="493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272120" y="5278320"/>
            <a:ext cx="171360" cy="385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4525920" y="5367240"/>
            <a:ext cx="171360" cy="2970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5032440" y="5429160"/>
            <a:ext cx="171360" cy="2350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5286240" y="5638680"/>
            <a:ext cx="171720" cy="2556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5538960" y="4835520"/>
            <a:ext cx="171360" cy="8287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5792760" y="5607000"/>
            <a:ext cx="165240" cy="572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6546960" y="5543640"/>
            <a:ext cx="171360" cy="1206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1243080" y="5651640"/>
            <a:ext cx="171360" cy="1260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1496880" y="5518080"/>
            <a:ext cx="171720" cy="146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1751040" y="5373720"/>
            <a:ext cx="169920" cy="150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2003400" y="5530680"/>
            <a:ext cx="165240" cy="38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2251080" y="5435640"/>
            <a:ext cx="171360" cy="190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2505240" y="5361120"/>
            <a:ext cx="169560" cy="150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2757600" y="5448240"/>
            <a:ext cx="171360" cy="7632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3011400" y="5342040"/>
            <a:ext cx="171360" cy="1378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4024440" y="4816440"/>
            <a:ext cx="164880" cy="3538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4272120" y="4892760"/>
            <a:ext cx="171360" cy="3855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9"/>
          <p:cNvSpPr/>
          <p:nvPr/>
        </p:nvSpPr>
        <p:spPr>
          <a:xfrm>
            <a:off x="4525920" y="4960800"/>
            <a:ext cx="171360" cy="4064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4778280" y="5518080"/>
            <a:ext cx="171720" cy="146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5032440" y="5176800"/>
            <a:ext cx="171360" cy="2523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2"/>
          <p:cNvSpPr/>
          <p:nvPr/>
        </p:nvSpPr>
        <p:spPr>
          <a:xfrm>
            <a:off x="5538960" y="4657680"/>
            <a:ext cx="171360" cy="177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3"/>
          <p:cNvSpPr/>
          <p:nvPr/>
        </p:nvSpPr>
        <p:spPr>
          <a:xfrm>
            <a:off x="5792760" y="5354640"/>
            <a:ext cx="165240" cy="2523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6546960" y="5119560"/>
            <a:ext cx="171360" cy="4240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5"/>
          <p:cNvSpPr/>
          <p:nvPr/>
        </p:nvSpPr>
        <p:spPr>
          <a:xfrm>
            <a:off x="1243080" y="5607000"/>
            <a:ext cx="171360" cy="446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6"/>
          <p:cNvSpPr/>
          <p:nvPr/>
        </p:nvSpPr>
        <p:spPr>
          <a:xfrm>
            <a:off x="1496880" y="5479920"/>
            <a:ext cx="171720" cy="381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7"/>
          <p:cNvSpPr/>
          <p:nvPr/>
        </p:nvSpPr>
        <p:spPr>
          <a:xfrm>
            <a:off x="1751040" y="5291280"/>
            <a:ext cx="169920" cy="82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8"/>
          <p:cNvSpPr/>
          <p:nvPr/>
        </p:nvSpPr>
        <p:spPr>
          <a:xfrm>
            <a:off x="2003400" y="5479920"/>
            <a:ext cx="165240" cy="507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9"/>
          <p:cNvSpPr/>
          <p:nvPr/>
        </p:nvSpPr>
        <p:spPr>
          <a:xfrm>
            <a:off x="2251080" y="5361120"/>
            <a:ext cx="171360" cy="7452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0"/>
          <p:cNvSpPr/>
          <p:nvPr/>
        </p:nvSpPr>
        <p:spPr>
          <a:xfrm>
            <a:off x="2505240" y="5227560"/>
            <a:ext cx="169560" cy="1335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1"/>
          <p:cNvSpPr/>
          <p:nvPr/>
        </p:nvSpPr>
        <p:spPr>
          <a:xfrm>
            <a:off x="2757600" y="5278320"/>
            <a:ext cx="171360" cy="16992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2"/>
          <p:cNvSpPr/>
          <p:nvPr/>
        </p:nvSpPr>
        <p:spPr>
          <a:xfrm>
            <a:off x="3011400" y="5202360"/>
            <a:ext cx="171360" cy="13968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3265560" y="5460840"/>
            <a:ext cx="169920" cy="1209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"/>
          <p:cNvSpPr/>
          <p:nvPr/>
        </p:nvSpPr>
        <p:spPr>
          <a:xfrm>
            <a:off x="3517920" y="5253120"/>
            <a:ext cx="171360" cy="1332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3772080" y="5418000"/>
            <a:ext cx="171360" cy="1890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6"/>
          <p:cNvSpPr/>
          <p:nvPr/>
        </p:nvSpPr>
        <p:spPr>
          <a:xfrm>
            <a:off x="4024440" y="4581360"/>
            <a:ext cx="164880" cy="23508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7"/>
          <p:cNvSpPr/>
          <p:nvPr/>
        </p:nvSpPr>
        <p:spPr>
          <a:xfrm>
            <a:off x="4272120" y="4594320"/>
            <a:ext cx="171360" cy="298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8"/>
          <p:cNvSpPr/>
          <p:nvPr/>
        </p:nvSpPr>
        <p:spPr>
          <a:xfrm>
            <a:off x="4525920" y="4613400"/>
            <a:ext cx="171360" cy="3474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4778280" y="5492880"/>
            <a:ext cx="171720" cy="252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5286240" y="5626080"/>
            <a:ext cx="171720" cy="126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1"/>
          <p:cNvSpPr/>
          <p:nvPr/>
        </p:nvSpPr>
        <p:spPr>
          <a:xfrm>
            <a:off x="5538960" y="4549680"/>
            <a:ext cx="171360" cy="1080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2"/>
          <p:cNvSpPr/>
          <p:nvPr/>
        </p:nvSpPr>
        <p:spPr>
          <a:xfrm>
            <a:off x="5792760" y="5272200"/>
            <a:ext cx="165240" cy="82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1243080" y="5524560"/>
            <a:ext cx="171360" cy="824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4"/>
          <p:cNvSpPr/>
          <p:nvPr/>
        </p:nvSpPr>
        <p:spPr>
          <a:xfrm>
            <a:off x="1496880" y="5386320"/>
            <a:ext cx="171720" cy="936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5"/>
          <p:cNvSpPr/>
          <p:nvPr/>
        </p:nvSpPr>
        <p:spPr>
          <a:xfrm>
            <a:off x="1751040" y="5195880"/>
            <a:ext cx="169920" cy="954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6"/>
          <p:cNvSpPr/>
          <p:nvPr/>
        </p:nvSpPr>
        <p:spPr>
          <a:xfrm>
            <a:off x="2003400" y="5398920"/>
            <a:ext cx="165240" cy="810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"/>
          <p:cNvSpPr/>
          <p:nvPr/>
        </p:nvSpPr>
        <p:spPr>
          <a:xfrm>
            <a:off x="2251080" y="5291280"/>
            <a:ext cx="171360" cy="698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8"/>
          <p:cNvSpPr/>
          <p:nvPr/>
        </p:nvSpPr>
        <p:spPr>
          <a:xfrm>
            <a:off x="2757600" y="5246640"/>
            <a:ext cx="171360" cy="31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9"/>
          <p:cNvSpPr/>
          <p:nvPr/>
        </p:nvSpPr>
        <p:spPr>
          <a:xfrm>
            <a:off x="3011400" y="5087880"/>
            <a:ext cx="171360" cy="114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3265560" y="5435640"/>
            <a:ext cx="169920" cy="252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3517920" y="5183280"/>
            <a:ext cx="171360" cy="698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2"/>
          <p:cNvSpPr/>
          <p:nvPr/>
        </p:nvSpPr>
        <p:spPr>
          <a:xfrm>
            <a:off x="3772080" y="5208480"/>
            <a:ext cx="171360" cy="20952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3"/>
          <p:cNvSpPr/>
          <p:nvPr/>
        </p:nvSpPr>
        <p:spPr>
          <a:xfrm>
            <a:off x="4024440" y="4537080"/>
            <a:ext cx="164880" cy="442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4"/>
          <p:cNvSpPr/>
          <p:nvPr/>
        </p:nvSpPr>
        <p:spPr>
          <a:xfrm>
            <a:off x="4272120" y="4392720"/>
            <a:ext cx="171360" cy="2016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5"/>
          <p:cNvSpPr/>
          <p:nvPr/>
        </p:nvSpPr>
        <p:spPr>
          <a:xfrm>
            <a:off x="4525920" y="4392720"/>
            <a:ext cx="171360" cy="220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6"/>
          <p:cNvSpPr/>
          <p:nvPr/>
        </p:nvSpPr>
        <p:spPr>
          <a:xfrm>
            <a:off x="4778280" y="5467320"/>
            <a:ext cx="171720" cy="2556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7"/>
          <p:cNvSpPr/>
          <p:nvPr/>
        </p:nvSpPr>
        <p:spPr>
          <a:xfrm>
            <a:off x="5032440" y="4973760"/>
            <a:ext cx="171360" cy="2030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8"/>
          <p:cNvSpPr/>
          <p:nvPr/>
        </p:nvSpPr>
        <p:spPr>
          <a:xfrm>
            <a:off x="5538960" y="4075200"/>
            <a:ext cx="171360" cy="474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9"/>
          <p:cNvSpPr/>
          <p:nvPr/>
        </p:nvSpPr>
        <p:spPr>
          <a:xfrm>
            <a:off x="5792760" y="5049720"/>
            <a:ext cx="165240" cy="222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0"/>
          <p:cNvSpPr/>
          <p:nvPr/>
        </p:nvSpPr>
        <p:spPr>
          <a:xfrm>
            <a:off x="6546960" y="5087880"/>
            <a:ext cx="171360" cy="31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1"/>
          <p:cNvSpPr/>
          <p:nvPr/>
        </p:nvSpPr>
        <p:spPr>
          <a:xfrm>
            <a:off x="3011400" y="5075280"/>
            <a:ext cx="171360" cy="1260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2"/>
          <p:cNvSpPr/>
          <p:nvPr/>
        </p:nvSpPr>
        <p:spPr>
          <a:xfrm>
            <a:off x="3265560" y="5310360"/>
            <a:ext cx="169920" cy="1252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3"/>
          <p:cNvSpPr/>
          <p:nvPr/>
        </p:nvSpPr>
        <p:spPr>
          <a:xfrm>
            <a:off x="3772080" y="5189400"/>
            <a:ext cx="171360" cy="190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4"/>
          <p:cNvSpPr/>
          <p:nvPr/>
        </p:nvSpPr>
        <p:spPr>
          <a:xfrm>
            <a:off x="4024440" y="4373640"/>
            <a:ext cx="164880" cy="16344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5"/>
          <p:cNvSpPr/>
          <p:nvPr/>
        </p:nvSpPr>
        <p:spPr>
          <a:xfrm>
            <a:off x="4272120" y="4341960"/>
            <a:ext cx="171360" cy="5076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6"/>
          <p:cNvSpPr/>
          <p:nvPr/>
        </p:nvSpPr>
        <p:spPr>
          <a:xfrm>
            <a:off x="4525920" y="4290840"/>
            <a:ext cx="171360" cy="1018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6"/>
          <p:cNvSpPr/>
          <p:nvPr/>
        </p:nvSpPr>
        <p:spPr>
          <a:xfrm>
            <a:off x="1204920" y="566424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7"/>
          <p:cNvSpPr/>
          <p:nvPr/>
        </p:nvSpPr>
        <p:spPr>
          <a:xfrm flipV="1">
            <a:off x="1204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8"/>
          <p:cNvSpPr/>
          <p:nvPr/>
        </p:nvSpPr>
        <p:spPr>
          <a:xfrm flipV="1">
            <a:off x="171288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9"/>
          <p:cNvSpPr/>
          <p:nvPr/>
        </p:nvSpPr>
        <p:spPr>
          <a:xfrm flipV="1">
            <a:off x="2212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0"/>
          <p:cNvSpPr/>
          <p:nvPr/>
        </p:nvSpPr>
        <p:spPr>
          <a:xfrm flipV="1">
            <a:off x="27194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1"/>
          <p:cNvSpPr/>
          <p:nvPr/>
        </p:nvSpPr>
        <p:spPr>
          <a:xfrm flipV="1">
            <a:off x="32274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2"/>
          <p:cNvSpPr/>
          <p:nvPr/>
        </p:nvSpPr>
        <p:spPr>
          <a:xfrm flipV="1">
            <a:off x="3733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3"/>
          <p:cNvSpPr/>
          <p:nvPr/>
        </p:nvSpPr>
        <p:spPr>
          <a:xfrm flipV="1">
            <a:off x="423396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4"/>
          <p:cNvSpPr/>
          <p:nvPr/>
        </p:nvSpPr>
        <p:spPr>
          <a:xfrm flipV="1">
            <a:off x="4741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5"/>
          <p:cNvSpPr/>
          <p:nvPr/>
        </p:nvSpPr>
        <p:spPr>
          <a:xfrm flipV="1">
            <a:off x="52484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6"/>
          <p:cNvSpPr/>
          <p:nvPr/>
        </p:nvSpPr>
        <p:spPr>
          <a:xfrm flipV="1">
            <a:off x="57546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7"/>
          <p:cNvSpPr/>
          <p:nvPr/>
        </p:nvSpPr>
        <p:spPr>
          <a:xfrm flipV="1">
            <a:off x="62546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8"/>
          <p:cNvSpPr/>
          <p:nvPr/>
        </p:nvSpPr>
        <p:spPr>
          <a:xfrm flipV="1">
            <a:off x="67626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9"/>
          <p:cNvSpPr/>
          <p:nvPr/>
        </p:nvSpPr>
        <p:spPr>
          <a:xfrm>
            <a:off x="1069560" y="559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0"/>
          <p:cNvSpPr/>
          <p:nvPr/>
        </p:nvSpPr>
        <p:spPr>
          <a:xfrm>
            <a:off x="824760" y="5361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1"/>
          <p:cNvSpPr/>
          <p:nvPr/>
        </p:nvSpPr>
        <p:spPr>
          <a:xfrm>
            <a:off x="824760" y="5119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2"/>
          <p:cNvSpPr/>
          <p:nvPr/>
        </p:nvSpPr>
        <p:spPr>
          <a:xfrm>
            <a:off x="824760" y="48862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3"/>
          <p:cNvSpPr/>
          <p:nvPr/>
        </p:nvSpPr>
        <p:spPr>
          <a:xfrm>
            <a:off x="824760" y="465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4"/>
          <p:cNvSpPr/>
          <p:nvPr/>
        </p:nvSpPr>
        <p:spPr>
          <a:xfrm>
            <a:off x="754560" y="4416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5"/>
          <p:cNvSpPr/>
          <p:nvPr/>
        </p:nvSpPr>
        <p:spPr>
          <a:xfrm>
            <a:off x="754560" y="41767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6"/>
          <p:cNvSpPr/>
          <p:nvPr/>
        </p:nvSpPr>
        <p:spPr>
          <a:xfrm>
            <a:off x="754560" y="3941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7"/>
          <p:cNvSpPr/>
          <p:nvPr/>
        </p:nvSpPr>
        <p:spPr>
          <a:xfrm>
            <a:off x="132876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8"/>
          <p:cNvSpPr/>
          <p:nvPr/>
        </p:nvSpPr>
        <p:spPr>
          <a:xfrm>
            <a:off x="1830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9"/>
          <p:cNvSpPr/>
          <p:nvPr/>
        </p:nvSpPr>
        <p:spPr>
          <a:xfrm>
            <a:off x="2343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0"/>
          <p:cNvSpPr/>
          <p:nvPr/>
        </p:nvSpPr>
        <p:spPr>
          <a:xfrm>
            <a:off x="2843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1"/>
          <p:cNvSpPr/>
          <p:nvPr/>
        </p:nvSpPr>
        <p:spPr>
          <a:xfrm>
            <a:off x="3351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2"/>
          <p:cNvSpPr/>
          <p:nvPr/>
        </p:nvSpPr>
        <p:spPr>
          <a:xfrm>
            <a:off x="3851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3"/>
          <p:cNvSpPr/>
          <p:nvPr/>
        </p:nvSpPr>
        <p:spPr>
          <a:xfrm>
            <a:off x="435780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4"/>
          <p:cNvSpPr/>
          <p:nvPr/>
        </p:nvSpPr>
        <p:spPr>
          <a:xfrm>
            <a:off x="486396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5"/>
          <p:cNvSpPr/>
          <p:nvPr/>
        </p:nvSpPr>
        <p:spPr>
          <a:xfrm>
            <a:off x="5372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6"/>
          <p:cNvSpPr/>
          <p:nvPr/>
        </p:nvSpPr>
        <p:spPr>
          <a:xfrm>
            <a:off x="58658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7"/>
          <p:cNvSpPr/>
          <p:nvPr/>
        </p:nvSpPr>
        <p:spPr>
          <a:xfrm>
            <a:off x="63784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8"/>
          <p:cNvSpPr/>
          <p:nvPr/>
        </p:nvSpPr>
        <p:spPr>
          <a:xfrm>
            <a:off x="6970680" y="4448160"/>
            <a:ext cx="50760" cy="5076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9"/>
          <p:cNvSpPr/>
          <p:nvPr/>
        </p:nvSpPr>
        <p:spPr>
          <a:xfrm>
            <a:off x="7040520" y="44226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970680" y="4651200"/>
            <a:ext cx="50760" cy="5112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1"/>
          <p:cNvSpPr/>
          <p:nvPr/>
        </p:nvSpPr>
        <p:spPr>
          <a:xfrm>
            <a:off x="7041600" y="462600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ные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6970680" y="4854600"/>
            <a:ext cx="50760" cy="507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3"/>
          <p:cNvSpPr/>
          <p:nvPr/>
        </p:nvSpPr>
        <p:spPr>
          <a:xfrm>
            <a:off x="7040880" y="482904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ные ба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4"/>
          <p:cNvSpPr/>
          <p:nvPr/>
        </p:nvSpPr>
        <p:spPr>
          <a:xfrm>
            <a:off x="6970680" y="5049720"/>
            <a:ext cx="50760" cy="507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5"/>
          <p:cNvSpPr/>
          <p:nvPr/>
        </p:nvSpPr>
        <p:spPr>
          <a:xfrm>
            <a:off x="7042320" y="5024520"/>
            <a:ext cx="151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ании с гос. участ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6"/>
          <p:cNvSpPr/>
          <p:nvPr/>
        </p:nvSpPr>
        <p:spPr>
          <a:xfrm>
            <a:off x="6970680" y="5253120"/>
            <a:ext cx="50760" cy="5076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7"/>
          <p:cNvSpPr/>
          <p:nvPr/>
        </p:nvSpPr>
        <p:spPr>
          <a:xfrm>
            <a:off x="7042320" y="5227560"/>
            <a:ext cx="12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и с гос. участ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Реструктуризация и системные кризисы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чивание рынков ликвидностью и государственная поддержка банков и компаний в развитых странах позволили отсрочить массированную реструктуризацию задол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звивающихся рынках реструктуризация проходит по весьма достаточно жесткому сценарию (БТА и Альянс Бан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во всех случаях происходит активное участие государства вне зависимости от степени развития финансовых ры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ые кризисы финансовых систем: Исландия, прибалтийские государства, Венг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яжелое финансовое положение крупных банков, Казахстан системного кризиса из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Ближайшие перспективы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ые рынки стабилизовались, но спреды корпоративных выпусков остаются высо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со стороны инвесторов и регуляторов к качеству долговых бумаг выросли и будут и далее увеличи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ые рынки остаются открытыми, но по-прежнему только для первоклассных заем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 ситуация существенно улучшилась, однако ри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прежнему высоки, а значительное падение цен на сырьевые товары или новая череда проблем у мировых финансовых институтов может нарушить хрупкое равновесие на долговом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Ключевые вопросы для инвесторов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обновление роста мирово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ление спроса на потребительские товары в США и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и недвижимости – стагнация или умерен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уровни государственного долга и государственного вмешательства в эконом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сточение регулирования финансового с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ление прибыльности крупнейших компаний и уровня заня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и масштаб будущего роста процентных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Возможности для эмитентов </a:t>
            </a:r>
            <a:br>
              <a:rPr sz="2800"/>
            </a:b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Республики Казахстан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98560" y="1484280"/>
            <a:ext cx="76341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становление доступа банков и корпораций к глобальному финансовому рынку возможно только после окончания реструктуризации БТА и Альянса, а также стабилизации эконом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ие государства в капитале банков и компаний, а также организованный и прозрачный механизм выхода из их капитала, – по-прежнему ключевой фактор для инвесторов, нынешних и потенциа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ыт прошлых кризисов показывает что для полного восстановления доступа к рынку необходимо от 2 до 3 лет после окончания острой фазы кризиса, т. е. ожидать его следует в 2011-201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роли инвесторов из Юго-Восточной Азии и наличие развитой пенсионной индустрии в стране –благоприятные факторы для потенциальных эмитентов из Казах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нвесторов важны не только размер возмещения долга, но также форма и транспарентность отношений с ними, особенно во время криз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19:04Z</dcterms:created>
  <dc:creator>EIlyina</dc:creator>
  <dc:description/>
  <dc:language>en-US</dc:language>
  <cp:lastModifiedBy>User</cp:lastModifiedBy>
  <dcterms:modified xsi:type="dcterms:W3CDTF">2009-09-02T08:31:08Z</dcterms:modified>
  <cp:revision>26</cp:revision>
  <dc:subject/>
  <dc:title>XXX</dc:title>
</cp:coreProperties>
</file>