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1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6360" y="274680"/>
            <a:ext cx="726444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1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Bar_1"/>
          <p:cNvPicPr/>
          <p:nvPr/>
        </p:nvPicPr>
        <p:blipFill>
          <a:blip r:embed="rId2"/>
          <a:stretch/>
        </p:blipFill>
        <p:spPr>
          <a:xfrm>
            <a:off x="0" y="6146640"/>
            <a:ext cx="9144000" cy="71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a54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266760">
              <a:spcBef>
                <a:spcPts val="4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80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1588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320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2320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2320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5"/>
          <p:cNvSpPr/>
          <p:nvPr/>
        </p:nvSpPr>
        <p:spPr>
          <a:xfrm>
            <a:off x="468360" y="6308640"/>
            <a:ext cx="828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лайд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2 сентября 2009 | Ситуация на мировом финансовом рынке: возможности и препятствия для казахстанских эмитентов | Антон Табах, CF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7"/>
          <p:cNvSpPr/>
          <p:nvPr/>
        </p:nvSpPr>
        <p:spPr>
          <a:xfrm>
            <a:off x="932040" y="6364440"/>
            <a:ext cx="333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F33D-0AFD-4B47-B299-B09AC0D0E886}" type="slidenum">
              <a:rPr b="0" lang="en-US" sz="900" spc="-1" strike="noStrike">
                <a:solidFill>
                  <a:srgbClr val="002a5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2a54"/>
                </a:solidFill>
                <a:latin typeface="Arial"/>
              </a:rPr>
              <a:t>Ситуация на мировом финансовом рынке</a:t>
            </a:r>
            <a:br>
              <a:rPr sz="4100"/>
            </a:br>
            <a:r>
              <a:rPr b="0" lang="ru-RU" sz="3600" spc="-1" strike="noStrike">
                <a:solidFill>
                  <a:srgbClr val="002a54"/>
                </a:solidFill>
                <a:latin typeface="Arial"/>
              </a:rPr>
              <a:t>Возможности и препятствия для казахстанских эмитентов</a:t>
            </a:r>
            <a:endParaRPr b="0" lang="en-US" sz="36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84360" y="3584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a54"/>
                </a:solidFill>
                <a:latin typeface="Arial"/>
              </a:rPr>
              <a:t>2 сентября 2009</a:t>
            </a:r>
            <a:br>
              <a:rPr sz="1200"/>
            </a:br>
            <a:r>
              <a:rPr b="0" lang="ru-RU" sz="1200" spc="-1" strike="noStrike">
                <a:solidFill>
                  <a:srgbClr val="002a54"/>
                </a:solidFill>
                <a:latin typeface="Arial"/>
              </a:rPr>
              <a:t>Антон Табах, CFA, старший анали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456840"/>
            <a:ext cx="41212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налитическое управление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495) 258 05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37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Начальник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управлен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аоло Занибон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787 23 8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тратегический анализ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лавны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ингсмилл Бонд, CFA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+44 (207) 583 32 57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дрей Кузнец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Нефть и газ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лег Максим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0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 Фэ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29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алерий Нестер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Электроэнергетика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андр Котик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1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горь Василье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елекоммуникации, ИТ и медиа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вгений Голосной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4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на Лепетухин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Металлургия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ергей Донской, CFA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0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ихаил Стискин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9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лад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рина Лапшин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5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Машиностроение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ихаил Ганелин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5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Финансовый сектор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Эндрю Кил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5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льга Веселов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отребительский сектор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иктория Соколов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6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ихаил Краснопер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8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лад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италий Чакин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258 05 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788000" y="1323720"/>
            <a:ext cx="412092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Химическая промышленность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ихаил Стискин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3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ирилл Казанл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5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Компании малой и средней капитализации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ихаил Ганелин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5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Анализ рынка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лад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дежда Утенков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5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экономист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тон Струченевский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Долговые бумаги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уководитель группы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андр Кудрин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7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тон Табах, CFA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57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ей Булгак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66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катерина Сидоров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(495) 933 98 4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Украина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оман Захар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Экономист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рина Пионтковская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вгений Гребенюк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итер Келлер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тарший 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андр Мартыненко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андр Цепенд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75"/>
              </a:spcAft>
              <a:tabLst>
                <a:tab algn="l" pos="0"/>
                <a:tab algn="l" pos="1433520"/>
                <a:tab algn="r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Казахстан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Заурбек Жунисов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налитик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йнур Медеубаев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Влияние глобального финансового кризиса на предпочтения инвесторов</a:t>
            </a:r>
            <a:br>
              <a:rPr sz="2800"/>
            </a:b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45" name="Rectangle 82"/>
          <p:cNvSpPr/>
          <p:nvPr/>
        </p:nvSpPr>
        <p:spPr>
          <a:xfrm>
            <a:off x="826920" y="1413000"/>
            <a:ext cx="75614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876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зис, начавшийся в середине 2007 года и усилившийся к концу 2008, привел к коллапсу внешних и внутренних рынков долгового капитала и существенному государственному вмешатель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876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ичный долговой рынок окончательно закрылся для подавляющего большинства эмитентов развитых и развивающихся стран в конце прошлого лета. На вторичном сегменте доходности выросли до иррациональных уровн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876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спрецедентные антикризисные меры, к которым прибегли монетарные власти по всему миру, смогли смягчить ситуацию на развитых рынках и способствовали ралли в апреле – июле 2009 года. К настоящему времени рынок стабилизировался, но волатильность по-прежнему очень выс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876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зис не только к изменил фундаментальные параметры экономики, но и вызвал структурные сдвиги на рын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100000"/>
              </a:lnSpc>
              <a:spcBef>
                <a:spcPts val="876"/>
              </a:spcBef>
              <a:buClr>
                <a:srgbClr val="99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весторы стали требовать более высокие премии к стоимости долга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100000"/>
              </a:lnSpc>
              <a:spcBef>
                <a:spcPts val="876"/>
              </a:spcBef>
              <a:buClr>
                <a:srgbClr val="99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 сместилось на высококачественные бумаги с короткой дюраци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100000"/>
              </a:lnSpc>
              <a:spcBef>
                <a:spcPts val="876"/>
              </a:spcBef>
              <a:buClr>
                <a:srgbClr val="99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некоторых секторов (в частности, металлургического и девелоперского) рынок закры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41" descr=""/>
          <p:cNvPicPr/>
          <p:nvPr/>
        </p:nvPicPr>
        <p:blipFill>
          <a:blip r:embed="rId1"/>
          <a:stretch/>
        </p:blipFill>
        <p:spPr>
          <a:xfrm>
            <a:off x="324000" y="2011320"/>
            <a:ext cx="4205160" cy="2103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Мировая конъюнктура: долговой рынок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755640" y="1722600"/>
            <a:ext cx="33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no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реды на межбанковском рынке, б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80880" y="4192560"/>
            <a:ext cx="245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5291280" y="1795320"/>
            <a:ext cx="33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no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намик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BI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59280" y="4243320"/>
            <a:ext cx="245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JPMor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0" descr=""/>
          <p:cNvPicPr/>
          <p:nvPr/>
        </p:nvPicPr>
        <p:blipFill>
          <a:blip r:embed="rId2"/>
          <a:stretch/>
        </p:blipFill>
        <p:spPr>
          <a:xfrm>
            <a:off x="4759200" y="2082960"/>
            <a:ext cx="420552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3" descr=""/>
          <p:cNvPicPr/>
          <p:nvPr/>
        </p:nvPicPr>
        <p:blipFill>
          <a:blip r:embed="rId1"/>
          <a:stretch/>
        </p:blipFill>
        <p:spPr>
          <a:xfrm>
            <a:off x="366840" y="1916280"/>
            <a:ext cx="4205160" cy="210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4" descr=""/>
          <p:cNvPicPr/>
          <p:nvPr/>
        </p:nvPicPr>
        <p:blipFill>
          <a:blip r:embed="rId2"/>
          <a:stretch/>
        </p:blipFill>
        <p:spPr>
          <a:xfrm>
            <a:off x="4759200" y="2077920"/>
            <a:ext cx="4205520" cy="2103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Мировая конъюнктура: валютный рынок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755640" y="1793880"/>
            <a:ext cx="338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no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рс “евро / доллар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60440" y="4292640"/>
            <a:ext cx="245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324400" y="1793880"/>
            <a:ext cx="338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no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рс “доллар / йен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0"/>
          <p:cNvSpPr/>
          <p:nvPr/>
        </p:nvSpPr>
        <p:spPr>
          <a:xfrm>
            <a:off x="4859280" y="4292640"/>
            <a:ext cx="245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a54"/>
                </a:solidFill>
                <a:latin typeface="DaxlinePro-ExtraBold"/>
              </a:rPr>
              <a:t>Глобальный рынок корпоративного долга</a:t>
            </a:r>
            <a:endParaRPr b="0" lang="en-US" sz="25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547640" y="3429000"/>
            <a:ext cx="547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no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намика рынка еврооблигаций российских корпоративных эмит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выпусков еврооблигаций по отрас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826920" y="5970600"/>
            <a:ext cx="245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сточник: оценка Тройки Диало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50920" y="907920"/>
            <a:ext cx="4032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кущее 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ситуации мирового финансового кризиса в сентябре – октябре 2008 года произошел обвал цен еврооблигаций эмитентов с развивающихся рынк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астились случаи реструктуризации обязательств на локальном и внешнем долговом рынка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мая по июнь на рынке долговых обязательств шло ралли, причем текущий уровень цен позволяет говорить о появлении “окна возможностей” для эмитентов высокого качества. В настоящий момент ситуация стабилизировалас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4427640" y="907920"/>
            <a:ext cx="4392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ы ожидаем, что у высококачественных эмитентов сохранится “окно возможностей” для первичных размещений на внешнем рынке до конца осени. Ожидаемая доходность составляет 9-12%, объемы зависят от качества выпуск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росом будут пользовать только новые выпуски, размещаемые компаниями с высоким кредитным качество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рос на первичном рынке имеет высокую ценовую эластичность, т. е. его объем будет напрямую зависеть от премии к "справедливой" доходност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редитное качество эмитентов будет преимущественно оцениваться исходя из объемов и качества финансовых потоков, а не из стоимости активов, динамики бизнеса, перспектив роста и п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24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1204920" y="542916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1204920" y="518940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1204920" y="495468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1204920" y="472140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204920" y="448632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1204920" y="424656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>
            <a:off x="1204920" y="401148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1751040" y="5524560"/>
            <a:ext cx="169920" cy="13968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2003400" y="5568840"/>
            <a:ext cx="165240" cy="9540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2251080" y="5454720"/>
            <a:ext cx="171360" cy="20952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"/>
          <p:cNvSpPr/>
          <p:nvPr/>
        </p:nvSpPr>
        <p:spPr>
          <a:xfrm>
            <a:off x="2505240" y="5511960"/>
            <a:ext cx="169560" cy="15228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2757600" y="5524560"/>
            <a:ext cx="171360" cy="13968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011400" y="5479920"/>
            <a:ext cx="171360" cy="18432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3265560" y="5581800"/>
            <a:ext cx="169920" cy="8244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9"/>
          <p:cNvSpPr/>
          <p:nvPr/>
        </p:nvSpPr>
        <p:spPr>
          <a:xfrm>
            <a:off x="3517920" y="5386320"/>
            <a:ext cx="171360" cy="27792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0"/>
          <p:cNvSpPr/>
          <p:nvPr/>
        </p:nvSpPr>
        <p:spPr>
          <a:xfrm>
            <a:off x="3772080" y="5607000"/>
            <a:ext cx="171360" cy="5724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4024440" y="5170320"/>
            <a:ext cx="164880" cy="49392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4272120" y="5278320"/>
            <a:ext cx="171360" cy="38592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3"/>
          <p:cNvSpPr/>
          <p:nvPr/>
        </p:nvSpPr>
        <p:spPr>
          <a:xfrm>
            <a:off x="4525920" y="5367240"/>
            <a:ext cx="171360" cy="29700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5032440" y="5429160"/>
            <a:ext cx="171360" cy="23508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5"/>
          <p:cNvSpPr/>
          <p:nvPr/>
        </p:nvSpPr>
        <p:spPr>
          <a:xfrm>
            <a:off x="5286240" y="5638680"/>
            <a:ext cx="171720" cy="2556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6"/>
          <p:cNvSpPr/>
          <p:nvPr/>
        </p:nvSpPr>
        <p:spPr>
          <a:xfrm>
            <a:off x="5538960" y="4835520"/>
            <a:ext cx="171360" cy="82872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5792760" y="5607000"/>
            <a:ext cx="165240" cy="5724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8"/>
          <p:cNvSpPr/>
          <p:nvPr/>
        </p:nvSpPr>
        <p:spPr>
          <a:xfrm>
            <a:off x="6546960" y="5543640"/>
            <a:ext cx="171360" cy="12060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9"/>
          <p:cNvSpPr/>
          <p:nvPr/>
        </p:nvSpPr>
        <p:spPr>
          <a:xfrm>
            <a:off x="1243080" y="5651640"/>
            <a:ext cx="171360" cy="1260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0"/>
          <p:cNvSpPr/>
          <p:nvPr/>
        </p:nvSpPr>
        <p:spPr>
          <a:xfrm>
            <a:off x="1496880" y="5518080"/>
            <a:ext cx="171720" cy="1461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1751040" y="5373720"/>
            <a:ext cx="169920" cy="15084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2003400" y="5530680"/>
            <a:ext cx="165240" cy="381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3"/>
          <p:cNvSpPr/>
          <p:nvPr/>
        </p:nvSpPr>
        <p:spPr>
          <a:xfrm>
            <a:off x="2251080" y="5435640"/>
            <a:ext cx="171360" cy="1908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4"/>
          <p:cNvSpPr/>
          <p:nvPr/>
        </p:nvSpPr>
        <p:spPr>
          <a:xfrm>
            <a:off x="2505240" y="5361120"/>
            <a:ext cx="169560" cy="15084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5"/>
          <p:cNvSpPr/>
          <p:nvPr/>
        </p:nvSpPr>
        <p:spPr>
          <a:xfrm>
            <a:off x="2757600" y="5448240"/>
            <a:ext cx="171360" cy="7632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6"/>
          <p:cNvSpPr/>
          <p:nvPr/>
        </p:nvSpPr>
        <p:spPr>
          <a:xfrm>
            <a:off x="3011400" y="5342040"/>
            <a:ext cx="171360" cy="13788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7"/>
          <p:cNvSpPr/>
          <p:nvPr/>
        </p:nvSpPr>
        <p:spPr>
          <a:xfrm>
            <a:off x="4024440" y="4816440"/>
            <a:ext cx="164880" cy="35388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"/>
          <p:cNvSpPr/>
          <p:nvPr/>
        </p:nvSpPr>
        <p:spPr>
          <a:xfrm>
            <a:off x="4272120" y="4892760"/>
            <a:ext cx="171360" cy="3855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9"/>
          <p:cNvSpPr/>
          <p:nvPr/>
        </p:nvSpPr>
        <p:spPr>
          <a:xfrm>
            <a:off x="4525920" y="4960800"/>
            <a:ext cx="171360" cy="40644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4778280" y="5518080"/>
            <a:ext cx="171720" cy="1461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1"/>
          <p:cNvSpPr/>
          <p:nvPr/>
        </p:nvSpPr>
        <p:spPr>
          <a:xfrm>
            <a:off x="5032440" y="5176800"/>
            <a:ext cx="171360" cy="2523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2"/>
          <p:cNvSpPr/>
          <p:nvPr/>
        </p:nvSpPr>
        <p:spPr>
          <a:xfrm>
            <a:off x="5538960" y="4657680"/>
            <a:ext cx="171360" cy="17784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3"/>
          <p:cNvSpPr/>
          <p:nvPr/>
        </p:nvSpPr>
        <p:spPr>
          <a:xfrm>
            <a:off x="5792760" y="5354640"/>
            <a:ext cx="165240" cy="2523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4"/>
          <p:cNvSpPr/>
          <p:nvPr/>
        </p:nvSpPr>
        <p:spPr>
          <a:xfrm>
            <a:off x="6546960" y="5119560"/>
            <a:ext cx="171360" cy="42408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5"/>
          <p:cNvSpPr/>
          <p:nvPr/>
        </p:nvSpPr>
        <p:spPr>
          <a:xfrm>
            <a:off x="1243080" y="5607000"/>
            <a:ext cx="171360" cy="4464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6"/>
          <p:cNvSpPr/>
          <p:nvPr/>
        </p:nvSpPr>
        <p:spPr>
          <a:xfrm>
            <a:off x="1496880" y="5479920"/>
            <a:ext cx="171720" cy="3816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7"/>
          <p:cNvSpPr/>
          <p:nvPr/>
        </p:nvSpPr>
        <p:spPr>
          <a:xfrm>
            <a:off x="1751040" y="5291280"/>
            <a:ext cx="169920" cy="8244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8"/>
          <p:cNvSpPr/>
          <p:nvPr/>
        </p:nvSpPr>
        <p:spPr>
          <a:xfrm>
            <a:off x="2003400" y="5479920"/>
            <a:ext cx="165240" cy="5076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9"/>
          <p:cNvSpPr/>
          <p:nvPr/>
        </p:nvSpPr>
        <p:spPr>
          <a:xfrm>
            <a:off x="2251080" y="5361120"/>
            <a:ext cx="171360" cy="7452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0"/>
          <p:cNvSpPr/>
          <p:nvPr/>
        </p:nvSpPr>
        <p:spPr>
          <a:xfrm>
            <a:off x="2505240" y="5227560"/>
            <a:ext cx="169560" cy="13356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1"/>
          <p:cNvSpPr/>
          <p:nvPr/>
        </p:nvSpPr>
        <p:spPr>
          <a:xfrm>
            <a:off x="2757600" y="5278320"/>
            <a:ext cx="171360" cy="16992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2"/>
          <p:cNvSpPr/>
          <p:nvPr/>
        </p:nvSpPr>
        <p:spPr>
          <a:xfrm>
            <a:off x="3011400" y="5202360"/>
            <a:ext cx="171360" cy="13968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3"/>
          <p:cNvSpPr/>
          <p:nvPr/>
        </p:nvSpPr>
        <p:spPr>
          <a:xfrm>
            <a:off x="3265560" y="5460840"/>
            <a:ext cx="169920" cy="12096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4"/>
          <p:cNvSpPr/>
          <p:nvPr/>
        </p:nvSpPr>
        <p:spPr>
          <a:xfrm>
            <a:off x="3517920" y="5253120"/>
            <a:ext cx="171360" cy="13320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5"/>
          <p:cNvSpPr/>
          <p:nvPr/>
        </p:nvSpPr>
        <p:spPr>
          <a:xfrm>
            <a:off x="3772080" y="5418000"/>
            <a:ext cx="171360" cy="18900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6"/>
          <p:cNvSpPr/>
          <p:nvPr/>
        </p:nvSpPr>
        <p:spPr>
          <a:xfrm>
            <a:off x="4024440" y="4581360"/>
            <a:ext cx="164880" cy="23508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7"/>
          <p:cNvSpPr/>
          <p:nvPr/>
        </p:nvSpPr>
        <p:spPr>
          <a:xfrm>
            <a:off x="4272120" y="4594320"/>
            <a:ext cx="171360" cy="29844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8"/>
          <p:cNvSpPr/>
          <p:nvPr/>
        </p:nvSpPr>
        <p:spPr>
          <a:xfrm>
            <a:off x="4525920" y="4613400"/>
            <a:ext cx="171360" cy="34740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4778280" y="5492880"/>
            <a:ext cx="171720" cy="2520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5286240" y="5626080"/>
            <a:ext cx="171720" cy="1260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1"/>
          <p:cNvSpPr/>
          <p:nvPr/>
        </p:nvSpPr>
        <p:spPr>
          <a:xfrm>
            <a:off x="5538960" y="4549680"/>
            <a:ext cx="171360" cy="10800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2"/>
          <p:cNvSpPr/>
          <p:nvPr/>
        </p:nvSpPr>
        <p:spPr>
          <a:xfrm>
            <a:off x="5792760" y="5272200"/>
            <a:ext cx="165240" cy="8244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3"/>
          <p:cNvSpPr/>
          <p:nvPr/>
        </p:nvSpPr>
        <p:spPr>
          <a:xfrm>
            <a:off x="1243080" y="5524560"/>
            <a:ext cx="171360" cy="8244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4"/>
          <p:cNvSpPr/>
          <p:nvPr/>
        </p:nvSpPr>
        <p:spPr>
          <a:xfrm>
            <a:off x="1496880" y="5386320"/>
            <a:ext cx="171720" cy="9360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5"/>
          <p:cNvSpPr/>
          <p:nvPr/>
        </p:nvSpPr>
        <p:spPr>
          <a:xfrm>
            <a:off x="1751040" y="5195880"/>
            <a:ext cx="169920" cy="9540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6"/>
          <p:cNvSpPr/>
          <p:nvPr/>
        </p:nvSpPr>
        <p:spPr>
          <a:xfrm>
            <a:off x="2003400" y="5398920"/>
            <a:ext cx="165240" cy="8100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7"/>
          <p:cNvSpPr/>
          <p:nvPr/>
        </p:nvSpPr>
        <p:spPr>
          <a:xfrm>
            <a:off x="2251080" y="5291280"/>
            <a:ext cx="171360" cy="6984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8"/>
          <p:cNvSpPr/>
          <p:nvPr/>
        </p:nvSpPr>
        <p:spPr>
          <a:xfrm>
            <a:off x="2757600" y="5246640"/>
            <a:ext cx="171360" cy="316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9"/>
          <p:cNvSpPr/>
          <p:nvPr/>
        </p:nvSpPr>
        <p:spPr>
          <a:xfrm>
            <a:off x="3011400" y="5087880"/>
            <a:ext cx="171360" cy="1144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0"/>
          <p:cNvSpPr/>
          <p:nvPr/>
        </p:nvSpPr>
        <p:spPr>
          <a:xfrm>
            <a:off x="3265560" y="5435640"/>
            <a:ext cx="169920" cy="2520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1"/>
          <p:cNvSpPr/>
          <p:nvPr/>
        </p:nvSpPr>
        <p:spPr>
          <a:xfrm>
            <a:off x="3517920" y="5183280"/>
            <a:ext cx="171360" cy="6984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2"/>
          <p:cNvSpPr/>
          <p:nvPr/>
        </p:nvSpPr>
        <p:spPr>
          <a:xfrm>
            <a:off x="3772080" y="5208480"/>
            <a:ext cx="171360" cy="20952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3"/>
          <p:cNvSpPr/>
          <p:nvPr/>
        </p:nvSpPr>
        <p:spPr>
          <a:xfrm>
            <a:off x="4024440" y="4537080"/>
            <a:ext cx="164880" cy="442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4"/>
          <p:cNvSpPr/>
          <p:nvPr/>
        </p:nvSpPr>
        <p:spPr>
          <a:xfrm>
            <a:off x="4272120" y="4392720"/>
            <a:ext cx="171360" cy="20160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5"/>
          <p:cNvSpPr/>
          <p:nvPr/>
        </p:nvSpPr>
        <p:spPr>
          <a:xfrm>
            <a:off x="4525920" y="4392720"/>
            <a:ext cx="171360" cy="2206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6"/>
          <p:cNvSpPr/>
          <p:nvPr/>
        </p:nvSpPr>
        <p:spPr>
          <a:xfrm>
            <a:off x="4778280" y="5467320"/>
            <a:ext cx="171720" cy="2556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7"/>
          <p:cNvSpPr/>
          <p:nvPr/>
        </p:nvSpPr>
        <p:spPr>
          <a:xfrm>
            <a:off x="5032440" y="4973760"/>
            <a:ext cx="171360" cy="20304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8"/>
          <p:cNvSpPr/>
          <p:nvPr/>
        </p:nvSpPr>
        <p:spPr>
          <a:xfrm>
            <a:off x="5538960" y="4075200"/>
            <a:ext cx="171360" cy="4744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9"/>
          <p:cNvSpPr/>
          <p:nvPr/>
        </p:nvSpPr>
        <p:spPr>
          <a:xfrm>
            <a:off x="5792760" y="5049720"/>
            <a:ext cx="165240" cy="2224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0"/>
          <p:cNvSpPr/>
          <p:nvPr/>
        </p:nvSpPr>
        <p:spPr>
          <a:xfrm>
            <a:off x="6546960" y="5087880"/>
            <a:ext cx="171360" cy="3168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1"/>
          <p:cNvSpPr/>
          <p:nvPr/>
        </p:nvSpPr>
        <p:spPr>
          <a:xfrm>
            <a:off x="3011400" y="5075280"/>
            <a:ext cx="171360" cy="1260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2"/>
          <p:cNvSpPr/>
          <p:nvPr/>
        </p:nvSpPr>
        <p:spPr>
          <a:xfrm>
            <a:off x="3265560" y="5310360"/>
            <a:ext cx="169920" cy="12528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3"/>
          <p:cNvSpPr/>
          <p:nvPr/>
        </p:nvSpPr>
        <p:spPr>
          <a:xfrm>
            <a:off x="3772080" y="5189400"/>
            <a:ext cx="171360" cy="1908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4"/>
          <p:cNvSpPr/>
          <p:nvPr/>
        </p:nvSpPr>
        <p:spPr>
          <a:xfrm>
            <a:off x="4024440" y="4373640"/>
            <a:ext cx="164880" cy="16344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5"/>
          <p:cNvSpPr/>
          <p:nvPr/>
        </p:nvSpPr>
        <p:spPr>
          <a:xfrm>
            <a:off x="4272120" y="4341960"/>
            <a:ext cx="171360" cy="5076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6"/>
          <p:cNvSpPr/>
          <p:nvPr/>
        </p:nvSpPr>
        <p:spPr>
          <a:xfrm>
            <a:off x="4525920" y="4290840"/>
            <a:ext cx="171360" cy="10188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6"/>
          <p:cNvSpPr/>
          <p:nvPr/>
        </p:nvSpPr>
        <p:spPr>
          <a:xfrm>
            <a:off x="1204920" y="5664240"/>
            <a:ext cx="555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7"/>
          <p:cNvSpPr/>
          <p:nvPr/>
        </p:nvSpPr>
        <p:spPr>
          <a:xfrm flipV="1">
            <a:off x="120492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8"/>
          <p:cNvSpPr/>
          <p:nvPr/>
        </p:nvSpPr>
        <p:spPr>
          <a:xfrm flipV="1">
            <a:off x="171288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9"/>
          <p:cNvSpPr/>
          <p:nvPr/>
        </p:nvSpPr>
        <p:spPr>
          <a:xfrm flipV="1">
            <a:off x="221292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0"/>
          <p:cNvSpPr/>
          <p:nvPr/>
        </p:nvSpPr>
        <p:spPr>
          <a:xfrm flipV="1">
            <a:off x="271944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1"/>
          <p:cNvSpPr/>
          <p:nvPr/>
        </p:nvSpPr>
        <p:spPr>
          <a:xfrm flipV="1">
            <a:off x="322740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2"/>
          <p:cNvSpPr/>
          <p:nvPr/>
        </p:nvSpPr>
        <p:spPr>
          <a:xfrm flipV="1">
            <a:off x="373392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3"/>
          <p:cNvSpPr/>
          <p:nvPr/>
        </p:nvSpPr>
        <p:spPr>
          <a:xfrm flipV="1">
            <a:off x="423396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4"/>
          <p:cNvSpPr/>
          <p:nvPr/>
        </p:nvSpPr>
        <p:spPr>
          <a:xfrm flipV="1">
            <a:off x="474192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5"/>
          <p:cNvSpPr/>
          <p:nvPr/>
        </p:nvSpPr>
        <p:spPr>
          <a:xfrm flipV="1">
            <a:off x="524844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6"/>
          <p:cNvSpPr/>
          <p:nvPr/>
        </p:nvSpPr>
        <p:spPr>
          <a:xfrm flipV="1">
            <a:off x="575460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7"/>
          <p:cNvSpPr/>
          <p:nvPr/>
        </p:nvSpPr>
        <p:spPr>
          <a:xfrm flipV="1">
            <a:off x="625464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8"/>
          <p:cNvSpPr/>
          <p:nvPr/>
        </p:nvSpPr>
        <p:spPr>
          <a:xfrm flipV="1">
            <a:off x="6762600" y="566424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9"/>
          <p:cNvSpPr/>
          <p:nvPr/>
        </p:nvSpPr>
        <p:spPr>
          <a:xfrm>
            <a:off x="1069560" y="559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0"/>
          <p:cNvSpPr/>
          <p:nvPr/>
        </p:nvSpPr>
        <p:spPr>
          <a:xfrm>
            <a:off x="824760" y="5361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1"/>
          <p:cNvSpPr/>
          <p:nvPr/>
        </p:nvSpPr>
        <p:spPr>
          <a:xfrm>
            <a:off x="824760" y="51195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2"/>
          <p:cNvSpPr/>
          <p:nvPr/>
        </p:nvSpPr>
        <p:spPr>
          <a:xfrm>
            <a:off x="824760" y="48862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3"/>
          <p:cNvSpPr/>
          <p:nvPr/>
        </p:nvSpPr>
        <p:spPr>
          <a:xfrm>
            <a:off x="824760" y="465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4"/>
          <p:cNvSpPr/>
          <p:nvPr/>
        </p:nvSpPr>
        <p:spPr>
          <a:xfrm>
            <a:off x="754560" y="44164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5"/>
          <p:cNvSpPr/>
          <p:nvPr/>
        </p:nvSpPr>
        <p:spPr>
          <a:xfrm>
            <a:off x="754560" y="41767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2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6"/>
          <p:cNvSpPr/>
          <p:nvPr/>
        </p:nvSpPr>
        <p:spPr>
          <a:xfrm>
            <a:off x="754560" y="39416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4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7"/>
          <p:cNvSpPr/>
          <p:nvPr/>
        </p:nvSpPr>
        <p:spPr>
          <a:xfrm>
            <a:off x="132876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К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8"/>
          <p:cNvSpPr/>
          <p:nvPr/>
        </p:nvSpPr>
        <p:spPr>
          <a:xfrm>
            <a:off x="183024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К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9"/>
          <p:cNvSpPr/>
          <p:nvPr/>
        </p:nvSpPr>
        <p:spPr>
          <a:xfrm>
            <a:off x="234324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К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0"/>
          <p:cNvSpPr/>
          <p:nvPr/>
        </p:nvSpPr>
        <p:spPr>
          <a:xfrm>
            <a:off x="284328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К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1"/>
          <p:cNvSpPr/>
          <p:nvPr/>
        </p:nvSpPr>
        <p:spPr>
          <a:xfrm>
            <a:off x="335124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К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2"/>
          <p:cNvSpPr/>
          <p:nvPr/>
        </p:nvSpPr>
        <p:spPr>
          <a:xfrm>
            <a:off x="385128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К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3"/>
          <p:cNvSpPr/>
          <p:nvPr/>
        </p:nvSpPr>
        <p:spPr>
          <a:xfrm>
            <a:off x="435780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К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4"/>
          <p:cNvSpPr/>
          <p:nvPr/>
        </p:nvSpPr>
        <p:spPr>
          <a:xfrm>
            <a:off x="486396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К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5"/>
          <p:cNvSpPr/>
          <p:nvPr/>
        </p:nvSpPr>
        <p:spPr>
          <a:xfrm>
            <a:off x="537228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К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6"/>
          <p:cNvSpPr/>
          <p:nvPr/>
        </p:nvSpPr>
        <p:spPr>
          <a:xfrm>
            <a:off x="586584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К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7"/>
          <p:cNvSpPr/>
          <p:nvPr/>
        </p:nvSpPr>
        <p:spPr>
          <a:xfrm>
            <a:off x="6378480" y="5759280"/>
            <a:ext cx="28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К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8"/>
          <p:cNvSpPr/>
          <p:nvPr/>
        </p:nvSpPr>
        <p:spPr>
          <a:xfrm>
            <a:off x="6970680" y="4448160"/>
            <a:ext cx="50760" cy="50760"/>
          </a:xfrm>
          <a:prstGeom prst="rect">
            <a:avLst/>
          </a:prstGeom>
          <a:solidFill>
            <a:srgbClr val="667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9"/>
          <p:cNvSpPr/>
          <p:nvPr/>
        </p:nvSpPr>
        <p:spPr>
          <a:xfrm>
            <a:off x="7040520" y="44226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A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0"/>
          <p:cNvSpPr/>
          <p:nvPr/>
        </p:nvSpPr>
        <p:spPr>
          <a:xfrm>
            <a:off x="6970680" y="4651200"/>
            <a:ext cx="50760" cy="51120"/>
          </a:xfrm>
          <a:prstGeom prst="rect">
            <a:avLst/>
          </a:prstGeom>
          <a:solidFill>
            <a:srgbClr val="99a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1"/>
          <p:cNvSpPr/>
          <p:nvPr/>
        </p:nvSpPr>
        <p:spPr>
          <a:xfrm>
            <a:off x="7041600" y="4626000"/>
            <a:ext cx="110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стные комп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2"/>
          <p:cNvSpPr/>
          <p:nvPr/>
        </p:nvSpPr>
        <p:spPr>
          <a:xfrm>
            <a:off x="6970680" y="4854600"/>
            <a:ext cx="50760" cy="50760"/>
          </a:xfrm>
          <a:prstGeom prst="rect">
            <a:avLst/>
          </a:prstGeom>
          <a:solidFill>
            <a:srgbClr val="335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3"/>
          <p:cNvSpPr/>
          <p:nvPr/>
        </p:nvSpPr>
        <p:spPr>
          <a:xfrm>
            <a:off x="7040880" y="4829040"/>
            <a:ext cx="88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стные ба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4"/>
          <p:cNvSpPr/>
          <p:nvPr/>
        </p:nvSpPr>
        <p:spPr>
          <a:xfrm>
            <a:off x="6970680" y="5049720"/>
            <a:ext cx="50760" cy="50760"/>
          </a:xfrm>
          <a:prstGeom prst="rect">
            <a:avLst/>
          </a:prstGeom>
          <a:solidFill>
            <a:srgbClr val="cc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5"/>
          <p:cNvSpPr/>
          <p:nvPr/>
        </p:nvSpPr>
        <p:spPr>
          <a:xfrm>
            <a:off x="7042320" y="5024520"/>
            <a:ext cx="151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ании с гос. участ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6"/>
          <p:cNvSpPr/>
          <p:nvPr/>
        </p:nvSpPr>
        <p:spPr>
          <a:xfrm>
            <a:off x="6970680" y="5253120"/>
            <a:ext cx="50760" cy="50760"/>
          </a:xfrm>
          <a:prstGeom prst="rect">
            <a:avLst/>
          </a:prstGeom>
          <a:solidFill>
            <a:srgbClr val="002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7"/>
          <p:cNvSpPr/>
          <p:nvPr/>
        </p:nvSpPr>
        <p:spPr>
          <a:xfrm>
            <a:off x="7042320" y="5227560"/>
            <a:ext cx="12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ки с гос. участ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Реструктуризация и системные кризисы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826920" y="1413000"/>
            <a:ext cx="77774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чивание рынков ликвидностью и государственная поддержка банков и компаний в развитых странах позволили отсрочить массированную реструктуризацию задол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азвивающихся рынках реструктуризация проходит по весьма достаточно жесткому сценарию (БТА и Альянс Бан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 во всех случаях происходит активное участие государства вне зависимости от степени развития финансовых ры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ные кризисы финансовых систем: Исландия, прибалтийские государства, Венг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яжелое финансовое положение крупных банков, Казахстан системного кризиса избеж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Ближайшие перспективы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826920" y="1413000"/>
            <a:ext cx="77774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вые рынки стабилизовались, но спреды корпоративных выпусков остаются высо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со стороны инвесторов и регуляторов к качеству долговых бумаг выросли и будут и далее увеличи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ые рынки остаются открытыми, но по-прежнему только для первоклассных заемщ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чная ситуация существенно улучшилась, однако рис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прежнему высоки, а значительное падение цен на сырьевые товары или новая череда проблем у мировых финансовых институтов может нарушить хрупкое равновесие на долговом ры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Ключевые вопросы для инвесторов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826920" y="1413000"/>
            <a:ext cx="77774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обновление роста мировой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ление спроса на потребительские товары в США и 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ки недвижимости – стагнация или умерен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уровни государственного долга и государственного вмешательства в эконом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есточение регулирования финансового с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ление прибыльности крупнейших компаний и уровня заня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и масштаб будущего роста процентных ста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6360" y="274680"/>
            <a:ext cx="7264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Возможности для эмитентов </a:t>
            </a:r>
            <a:br>
              <a:rPr sz="2800"/>
            </a:br>
            <a:r>
              <a:rPr b="0" lang="ru-RU" sz="2800" spc="-1" strike="noStrike">
                <a:solidFill>
                  <a:srgbClr val="002a54"/>
                </a:solidFill>
                <a:latin typeface="Arial"/>
              </a:rPr>
              <a:t>Республики Казахстан</a:t>
            </a:r>
            <a:endParaRPr b="0" lang="en-US" sz="2800" spc="-1" strike="noStrike">
              <a:solidFill>
                <a:srgbClr val="002a54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98560" y="1484280"/>
            <a:ext cx="76341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10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становление доступа банков и корпораций к глобальному финансовому рынку возможно только после окончания реструктуризации БТА и Альянса, а также стабилизации эконом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ие государства в капитале банков и компаний, а также организованный и прозрачный механизм выхода из их капитала, – по-прежнему ключевой фактор для инвесторов, нынешних и потенциаль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ыт прошлых кризисов показывает что для полного восстановления доступа к рынку необходимо от 2 до 3 лет после окончания острой фазы кризиса, т. е. ожидать его следует в 2011-2012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ение роли инвесторов из Юго-Восточной Азии и наличие развитой пенсионной индустрии в стране –благоприятные факторы для потенциальных эмитентов из Казахст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нвесторов важны не только размер возмещения долга, но также форма и транспарентность отношений с ними, особенно во время кризи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19:04Z</dcterms:created>
  <dc:creator>EIlyina</dc:creator>
  <dc:description/>
  <dc:language>en-US</dc:language>
  <cp:lastModifiedBy>User</cp:lastModifiedBy>
  <dcterms:modified xsi:type="dcterms:W3CDTF">2009-09-02T08:31:08Z</dcterms:modified>
  <cp:revision>26</cp:revision>
  <dc:subject/>
  <dc:title>XXX</dc:title>
</cp:coreProperties>
</file>