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7057-BAF2-4858-8B4D-9FEAE517B9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605-688D-44A3-B4FB-6EAC9CC25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1A2-E344-4D18-B96C-D201C2943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люсы и минусы действующе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9933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необходимости предварительного резервирования а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та рас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кредитного риска посредств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9933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риски технических дефол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вычность и неудобство для иностранных инвес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международным стандартам (в части наличия системы управления рискам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A26-3962-4485-820B-657945219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2098-AFC6-4C1B-B814-AD8E70A84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C91-C99E-4D37-B1DC-6CBCC69D1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6FA-8BDE-4909-9DC9-DA153E149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неликвидными акциями с отклонением цены свыше 5 % составляет 25,8 % от общего количества сделок с такими а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акциями, входящими в представительский список индекса KASE, с отклонением цены свыше 10 % составляет 3,9 % от общего количества сделок с такими ак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ами биржи был отдельно изучен вопрос об использовании запрета на снятие заявок при проведении аукциона – на развитых мировых рынках не используются какие-либо запреты на редактирование или удаление заявок, поданных до начала 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ion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E7C0-022A-4475-8237-48DB9767F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неликвидными акциями с отклонением цены свыше 5 % составляет 25,8 % от общего количества сделок с такими а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атистическим данным за последний календарный год количество сделок с акциями, входящими в представительский список индекса KASE, с отклонением цены свыше 10 % составляет 3,9 % от общего количества сделок с такими ак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ами биржи был отдельно изучен вопрос об использовании запрета на снятие заявок при проведении аукциона – на развитых мировых рынках не используются какие-либо запреты на редактирование или удаление заявок, поданных до начала 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ion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980-EB35-4E5F-B286-2692C187F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остановление торгов осуществлено в соответствии с пунктом 1 статьи 12-2 внутреннего документа KASE "Правила биржевой торговли ценными бумагами", которая, в свою очередь, была включена в этот документ в целях обеспечения его соответствия с новой версией Правил осуществления деятельности организаторов торгов с ценными бумагами и иными финансовыми инструментами, утвержденных постановлением Правления Агентства Республики Казахстан по регулированию и надзору финансового рынка и финансовых организаций (АФН) от 29 октября 2008 года #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о Правилам биржевой торговли ценными бумагами (в версии, действующей с 25 января 2009 года) KASE приостанавливает торги акциями какого-либо наименования, находящимися в официальном списке KASE по первой категории, в случае снижения цены акций данного наименования на 30 и более процентов относительно цены последней исполненной сделки с акциями данного наименования, которая была заключена в ходе последней предшествующей результативной торговой сессии. Если иное не установлено решением АФН, приостановленные торги возобновляются с началом нового торгового дня по акц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днее были внесены поправки, согласно которым торги могут быть продолжены в этот же день, если падение цены вызвано технической ошибкой трейдера или торговой системы, и если регулятор не возражает продолжить тор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667-E656-4E24-9649-B99B4B4E4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анализа показывают, что, как правило, существенное падение цены акций вызывалось в 2009 году, кроме технических ошибок трейдеров или их эмуляций не общим движением рынка, а проблемами у отдельных эмит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ТА, Альянс банк, Астана фина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стречались также случаи выраженных спекулятивных движений (Центр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FD6-1A93-4FFA-ABDB-C978B353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AE8-1E67-4B83-BC1E-FB6C6F5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61C-45F7-4D70-8A4F-BDC8ECE4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EBB-666A-498C-9118-B9502836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4DA87-C248-4FD6-B36D-9CD5E94A44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9E61-BCA6-4CE5-9E87-94C926961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F748-EBC7-45B9-A473-58FE74364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139D7-7AE6-45F5-9DA4-12B5B9D66B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3D097-F237-4C3C-89AE-BB0570AF80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AE05E-21A0-4960-83B4-8DA7996CD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C07FF-12AC-41FE-BE37-F003912F8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B05-D698-48AA-AF05-28E6FA6D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79B2-FE5B-49BC-AABE-5AFF411B6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84AC-5A7D-4947-9E4D-1C5097E52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D766-F15A-417A-B843-F3BFEF19B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34B5-082B-4162-96B9-FAB0EAC13B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7C8CF-8B0A-4424-AD10-3C8B443ED2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581-7859-4E90-BFAB-3D80824B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22D-5788-4707-BB39-A00DC17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7DC-4CC7-464C-9C2E-87AAFEA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063-5CD0-4FD7-8DD7-689DFB9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740-0BD7-4269-814C-0E3D315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BDA-D83B-4FC1-BEDA-E3435C7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ECB-B8A1-4FB8-A034-1704D8D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3C3-06E8-4465-8FD0-9CA5C24E1F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7A4-A8A5-4645-875F-C6C88E8F3330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8720" y="19587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Развитие через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антикризисное регулирование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48080" y="3835440"/>
            <a:ext cx="51134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Андрей Цалю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ице-президен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EAF7-E0C6-47DD-BDD3-8A3D1067A4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едпринято для снижения риск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1228680"/>
            <a:ext cx="4230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"автоматическ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аксимальный срок операции репо –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30 календарных дней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место 90), пролонгация запрещ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начение дисконта опреде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KASE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зависимости от вида предмета репо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т 5 до 30</a:t>
            </a:r>
            <a:r>
              <a:rPr b="0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исполнение продавцом репо сделки закрытия приводит к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ходу права собственности на предмет репо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 покупателю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рытие рыночных рисков покупател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беспечивается диск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43000" y="5692680"/>
            <a:ext cx="88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апрет на использование в качестве предмета репо ценных бумаг, по которым эмитентом не соблюдаются требования по раскрытию информации или допущен дефолт (ранее не бы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 rot="16200000">
            <a:off x="4396680" y="1431000"/>
            <a:ext cx="512640" cy="8010720"/>
          </a:xfrm>
          <a:custGeom>
            <a:avLst/>
            <a:gdLst>
              <a:gd name="textAreaLeft" fmla="*/ 327600 w 512640"/>
              <a:gd name="textAreaRight" fmla="*/ 513000 w 512640"/>
              <a:gd name="textAreaTop" fmla="*/ 208800 h 8010720"/>
              <a:gd name="textAreaBottom" fmla="*/ 7801920 h 801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9640" y="1227240"/>
            <a:ext cx="423036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методом прямых сд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аксимальный срок операции репо с учетом пролонгации –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90 календарных дней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ранее не ограничивал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устойка за неисполнение сделки закрытия –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30 % от суммы данной сделки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(ранее не предусматривала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рытие рыночных рисков пострадавшей стороны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обеспечивается уплатой неуст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FAB9-FDD3-4B51-8754-90F313284F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ланируется для снижения риск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7160" y="1979640"/>
            <a:ext cx="4230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методом прямых сд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егулярна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оценка обязательств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о операции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исходя из текущей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бходимость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омпенсационного платеж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ри существенном отклонении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устойка за неисполнение сделки закрыти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рассчитывается исходя из рыночной цены предмета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на дату неисполнения сделки за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11680" y="1949400"/>
            <a:ext cx="4230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Сектор "автоматическ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егулярная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ереоценка обязательств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по операции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исходя из текущей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бходимость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компенсационного платеж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ри существенном отклонении рыночной цены предмета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начение дисконта зависит от вида предмета репо и срока операции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76120" y="1219320"/>
            <a:ext cx="4019760" cy="703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ЭТАП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ВОДИТСЯ В ДЕЙ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761000" y="1217520"/>
            <a:ext cx="4019400" cy="703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ЛАНИРУ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249-4771-4515-B096-203FD760D0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76440" y="230976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Модификация системы расчетов при торговле ценными бумаг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B5F9-C2A3-4D76-8355-95BC34A82C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орожная кар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AutoShape 7"/>
          <p:cNvSpPr/>
          <p:nvPr/>
        </p:nvSpPr>
        <p:spPr>
          <a:xfrm rot="2004000">
            <a:off x="5506560" y="1549440"/>
            <a:ext cx="1387440" cy="861840"/>
          </a:xfrm>
          <a:custGeom>
            <a:avLst/>
            <a:gdLst>
              <a:gd name="textAreaLeft" fmla="*/ 250560 w 1387440"/>
              <a:gd name="textAreaRight" fmla="*/ 1003680 w 1387440"/>
              <a:gd name="textAreaTop" fmla="*/ 115200 h 861840"/>
              <a:gd name="textAreaBottom" fmla="*/ 746640 h 86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03" hR="21600" stAng="10800000" swAng="5400000"/>
                <a:lnTo>
                  <a:pt x="11726" y="0"/>
                </a:lnTo>
                <a:arcTo wR="7803" hR="21600" stAng="-5400000" swAng="2736904"/>
                <a:lnTo>
                  <a:pt x="21154" y="14400"/>
                </a:lnTo>
                <a:lnTo>
                  <a:pt x="17567" y="21600"/>
                </a:lnTo>
                <a:lnTo>
                  <a:pt x="13087" y="14400"/>
                </a:lnTo>
                <a:lnTo>
                  <a:pt x="15159" y="14400"/>
                </a:lnTo>
                <a:arcTo wR="7803" hR="21600" stAng="-2663096" swAng="-2415305"/>
                <a:lnTo>
                  <a:pt x="9764" y="694"/>
                </a:lnTo>
                <a:arcTo wR="7803" hR="21600" stAng="-5721599" swAng="-5078401"/>
                <a:close/>
              </a:path>
              <a:path fill="darkenLess" w="21600" h="21600">
                <a:moveTo>
                  <a:pt x="0" y="21600"/>
                </a:moveTo>
                <a:arcTo wR="7803" hR="21600" stAng="10800000" swAng="5400000"/>
                <a:lnTo>
                  <a:pt x="7803" y="0"/>
                </a:lnTo>
                <a:arcTo wR="7803" hR="21600" stAng="-5400000" swAng="321599"/>
                <a:lnTo>
                  <a:pt x="9764" y="694"/>
                </a:lnTo>
                <a:arcTo wR="7803" hR="21600" stAng="-5721599" swAng="-5078401"/>
                <a:close/>
              </a:path>
            </a:pathLst>
          </a:custGeom>
          <a:gradFill rotWithShape="0">
            <a:gsLst>
              <a:gs pos="0">
                <a:srgbClr val="00fa00"/>
              </a:gs>
              <a:gs pos="100000">
                <a:srgbClr val="008000"/>
              </a:gs>
            </a:gsLst>
            <a:lin ang="16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252360" y="1243800"/>
            <a:ext cx="5041800" cy="1383840"/>
            <a:chOff x="252360" y="1243800"/>
            <a:chExt cx="5041800" cy="1383840"/>
          </a:xfrm>
        </p:grpSpPr>
        <p:sp>
          <p:nvSpPr>
            <p:cNvPr id="203" name="Rectangle 4"/>
            <p:cNvSpPr/>
            <p:nvPr/>
          </p:nvSpPr>
          <p:spPr>
            <a:xfrm>
              <a:off x="252360" y="1407960"/>
              <a:ext cx="5041800" cy="12196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Т+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оставка против платежа 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VP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гросс-расчеты в реальном времени (сделка за сделко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неустойка 5 % от суммы сделки при ее неисполн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4308840" y="1243800"/>
              <a:ext cx="838080" cy="31572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8000"/>
                  </a:solidFill>
                  <a:latin typeface="Arial Narrow"/>
                </a:rPr>
                <a:t>СЕЙЧА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1"/>
          <p:cNvGrpSpPr/>
          <p:nvPr/>
        </p:nvGrpSpPr>
        <p:grpSpPr>
          <a:xfrm>
            <a:off x="1328760" y="2813760"/>
            <a:ext cx="5472000" cy="1280520"/>
            <a:chOff x="1328760" y="2813760"/>
            <a:chExt cx="5472000" cy="1280520"/>
          </a:xfrm>
        </p:grpSpPr>
        <p:sp>
          <p:nvSpPr>
            <p:cNvPr id="206" name="Rectangle 10"/>
            <p:cNvSpPr/>
            <p:nvPr/>
          </p:nvSpPr>
          <p:spPr>
            <a:xfrm>
              <a:off x="1328760" y="2982960"/>
              <a:ext cx="5472000" cy="1111320"/>
            </a:xfrm>
            <a:prstGeom prst="rect">
              <a:avLst/>
            </a:prstGeom>
            <a:noFill/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Переход на систему расчетов с </a:t>
              </a:r>
              <a:r>
                <a:rPr b="0" lang="ru-RU" sz="2000" spc="-1" strike="noStrike">
                  <a:solidFill>
                    <a:srgbClr val="008000"/>
                  </a:solidFill>
                  <a:latin typeface="Arial Narrow"/>
                </a:rPr>
                <a:t>полным обеспечением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(предпоставку и предоплату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5244120" y="2813760"/>
              <a:ext cx="1371600" cy="31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00"/>
                  </a:solidFill>
                  <a:latin typeface="Arial Narrow"/>
                </a:rPr>
                <a:t>ПЕРВЫЙ ЭТА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5"/>
          <p:cNvSpPr/>
          <p:nvPr/>
        </p:nvSpPr>
        <p:spPr>
          <a:xfrm>
            <a:off x="2332080" y="4424400"/>
            <a:ext cx="5881680" cy="1431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реход на систему расчетов с 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</a:rPr>
              <a:t>частичным обеспечение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</a:rPr>
              <a:t>более продолжительным циклом расчетов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(для наиболее ликвидных ценных бума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668640" y="4260240"/>
            <a:ext cx="134568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 Narrow"/>
              </a:rPr>
              <a:t>ВТОРО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 rot="2004000">
            <a:off x="7192440" y="2976480"/>
            <a:ext cx="1387800" cy="862200"/>
          </a:xfrm>
          <a:custGeom>
            <a:avLst/>
            <a:gdLst>
              <a:gd name="textAreaLeft" fmla="*/ 250560 w 1387800"/>
              <a:gd name="textAreaRight" fmla="*/ 1004040 w 1387800"/>
              <a:gd name="textAreaTop" fmla="*/ 115200 h 862200"/>
              <a:gd name="textAreaBottom" fmla="*/ 747000 h 86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03" hR="21600" stAng="10800000" swAng="5400000"/>
                <a:lnTo>
                  <a:pt x="11726" y="0"/>
                </a:lnTo>
                <a:arcTo wR="7803" hR="21600" stAng="-5400000" swAng="2736904"/>
                <a:lnTo>
                  <a:pt x="21154" y="14400"/>
                </a:lnTo>
                <a:lnTo>
                  <a:pt x="17567" y="21600"/>
                </a:lnTo>
                <a:lnTo>
                  <a:pt x="13087" y="14400"/>
                </a:lnTo>
                <a:lnTo>
                  <a:pt x="15159" y="14400"/>
                </a:lnTo>
                <a:arcTo wR="7803" hR="21600" stAng="-2663096" swAng="-2415305"/>
                <a:lnTo>
                  <a:pt x="9764" y="694"/>
                </a:lnTo>
                <a:arcTo wR="7803" hR="21600" stAng="-5721599" swAng="-5078401"/>
                <a:close/>
              </a:path>
              <a:path fill="darkenLess" w="21600" h="21600">
                <a:moveTo>
                  <a:pt x="0" y="21600"/>
                </a:moveTo>
                <a:arcTo wR="7803" hR="21600" stAng="10800000" swAng="5400000"/>
                <a:lnTo>
                  <a:pt x="7803" y="0"/>
                </a:lnTo>
                <a:arcTo wR="7803" hR="21600" stAng="-5400000" swAng="321599"/>
                <a:lnTo>
                  <a:pt x="9764" y="694"/>
                </a:lnTo>
                <a:arcTo wR="7803" hR="21600" stAng="-5721599" swAng="-5078401"/>
                <a:close/>
              </a:path>
            </a:pathLst>
          </a:custGeom>
          <a:gradFill rotWithShape="0">
            <a:gsLst>
              <a:gs pos="0">
                <a:srgbClr val="00fa00"/>
              </a:gs>
              <a:gs pos="100000">
                <a:srgbClr val="008000"/>
              </a:gs>
            </a:gsLst>
            <a:lin ang="16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62E6-0BE5-4945-9252-A9489563D3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ервый этап (в разработке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960" y="1149480"/>
            <a:ext cx="8545680" cy="41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Система расчетов с полным 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лное предварительное резервирование активов участников торгов под открытие поз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цикл расчетов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+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тто или гросс-расчеты (не имеет большого знач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ставка против платежа (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P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арантия исполнения участниками обязательств за сч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пределения лимитов (денежного и по ценным бумагам) участников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торг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зависимости от размера внесенного обеспе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нятия заявок, заключения сделок и исполнения обязательст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сделкам в пределах лим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47760" y="5062680"/>
            <a:ext cx="854532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Цели перв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вышение уровня безопасности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оздание инфраструктуры для учета и контроля обеспечения участников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5C39-ECBE-4B02-ACF1-DF34103537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Второй этап (планируется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960" y="1009440"/>
            <a:ext cx="85456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Система расчетов с частичным 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астичное предварительное резервирование активов участников торгов под открытие поз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икл расчетов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+ n (n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ставка против платежа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VP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арантия исполнения участниками обязательств за сч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я позиционных лимитов участника торгов в зависимости от размера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несенного обеспеч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нятия заявок, заключения сделок и исполнения обязательств по сделка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пределах лими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спользования гарантийного фонда, формируемого из собственных средств бир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из средств участников тор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47760" y="4707000"/>
            <a:ext cx="85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Цели втор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вышение привлекательности казахстанского фондового рынка для иностранных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здание системы управления рисками, соответствующей международным стандар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6CA-B480-4990-B786-8D1566DF65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76440" y="19465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Изменение режима использования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франкфуртского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аукцио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7E4-7843-494E-93FF-B482C3A50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 сильном отклонении цен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840" y="1289160"/>
            <a:ext cx="8564760" cy="502092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неликвидными акциям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ереводятся в режим ожидания только в случае отклонения возможной цены сделки с акциями какого-либо наименования от цены последней сделк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данными акция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чем на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ликвидными акциями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ереводятся в режим ожидания только в случае отклонения возможной цены сделки с акциями какого-либо наименования от цены последней сделк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данными акция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чем на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рги автоматически переводятся в режим ожидания при попытке заключения любой сделки с какими-либо акциями в случае отсутствия значения цены последней сделки с данными ценными бумагами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более 15 календарных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ходе аукциона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допускается удаление заявок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поданных до его 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 и ранее, режим ожидания, длящийся более 18 минут,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закрывается в случайно выбранны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2B1-4B1F-497A-AB69-EE545A0ECD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 закрытии рынк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403280"/>
            <a:ext cx="8564760" cy="408564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 целью формирования репрезентативной цены закрытия торгового дня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за 15 минут до истечения торгового дня торги всеми акциями переводятся в режим франкфуртского аукц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ля предотвращения манипулирования ценой франкфуртского аукциона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его завершение происходит в случайный момент времени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в течение последних двух минут данного аукц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 ходе аукциона </a:t>
            </a:r>
            <a:r>
              <a:rPr b="0" lang="ru-RU" sz="2600" spc="-1" strike="noStrike">
                <a:solidFill>
                  <a:srgbClr val="009900"/>
                </a:solidFill>
                <a:latin typeface="Arial Narrow"/>
              </a:rPr>
              <a:t>допускается удаление заявок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поданных как до его начала, так и во время н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441680" y="60739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2803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029-C451-4D2E-8953-ABB188AB55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76440" y="230832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Приостановление торгов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при резком падении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цены акц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5B82-446A-4C5B-AF44-F02F663A58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АФН ставит услов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01480"/>
            <a:ext cx="8642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нижение цены акций какого-либо наименования в первой или второй категории официального списка на </a:t>
            </a:r>
            <a:r>
              <a:rPr b="0" lang="ru-RU" sz="2600" spc="-1" strike="noStrike">
                <a:solidFill>
                  <a:srgbClr val="cc0000"/>
                </a:solidFill>
                <a:latin typeface="Arial Narrow"/>
              </a:rPr>
              <a:t>тридцать и более проценто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в течение одного торгового дня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Wingdings 3"/>
                <a:ea typeface="Wingdings 3"/>
              </a:rPr>
              <a:t>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Arial Narrow"/>
              </a:rPr>
              <a:t>приостановление торгов акциями данного наимен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нижение значения индекса рынка акций на </a:t>
            </a:r>
            <a:r>
              <a:rPr b="0" lang="ru-RU" sz="2600" spc="-1" strike="noStrike">
                <a:solidFill>
                  <a:srgbClr val="cc0000"/>
                </a:solidFill>
                <a:latin typeface="Arial Narrow"/>
              </a:rPr>
              <a:t>пятнадцать и более проценто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относительно последнего значения за последний или два предшествующих торговых дня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Wingdings 3"/>
                <a:ea typeface="Wingdings 3"/>
              </a:rPr>
              <a:t></a:t>
            </a:r>
            <a:br>
              <a:rPr sz="2600"/>
            </a:br>
            <a:r>
              <a:rPr b="0" lang="ru-RU" sz="2600" spc="-1" strike="noStrike">
                <a:solidFill>
                  <a:srgbClr val="006600"/>
                </a:solidFill>
                <a:latin typeface="Arial Narrow"/>
              </a:rPr>
              <a:t>приостановление торгов всеми акциями официального сп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7364-C1BB-474C-9E8B-E07DC222DA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Все мало зависит от движений рын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123840" y="1457280"/>
          <a:ext cx="8800920" cy="46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457280"/>
                    <a:ext cx="88009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995040" y="1150920"/>
            <a:ext cx="71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остановления торгов акциями н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изменение индекс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D73D-3DE3-4533-8EFC-59FA6A1D2C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В 2009 году — 19 раз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1800" y="1623960"/>
          <a:ext cx="3450960" cy="4270320"/>
        </p:xfrm>
        <a:graphic>
          <a:graphicData uri="http://schemas.openxmlformats.org/drawingml/2006/table">
            <a:tbl>
              <a:tblPr/>
              <a:tblGrid>
                <a:gridCol w="863640"/>
                <a:gridCol w="861840"/>
                <a:gridCol w="863640"/>
                <a:gridCol w="86184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кло-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шиб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C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0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KZT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B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.0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KZTK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38760" y="1625760"/>
          <a:ext cx="3451320" cy="4270320"/>
        </p:xfrm>
        <a:graphic>
          <a:graphicData uri="http://schemas.openxmlformats.org/drawingml/2006/table">
            <a:tbl>
              <a:tblPr/>
              <a:tblGrid>
                <a:gridCol w="863640"/>
                <a:gridCol w="861840"/>
                <a:gridCol w="863640"/>
                <a:gridCol w="8622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кло-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шиб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B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.03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DG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0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4.0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C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4.0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9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06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944"/>
          <p:cNvSpPr/>
          <p:nvPr/>
        </p:nvSpPr>
        <p:spPr>
          <a:xfrm>
            <a:off x="1935360" y="599112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9 случаев при трех технических ошибках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рейд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45"/>
          <p:cNvSpPr/>
          <p:nvPr/>
        </p:nvSpPr>
        <p:spPr>
          <a:xfrm>
            <a:off x="574560" y="1150920"/>
            <a:ext cx="80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прецеденты приостановления торгов акциями на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по изменению ц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E74A-390F-4BEB-A30B-05DDB53137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76440" y="2674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Ограничение рисков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на рынке операций реп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567-2FEE-4AD9-B33E-4E77F7067F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52,3 % общего объема торгов KAS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11280" y="76824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824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7"/>
          <p:cNvSpPr/>
          <p:nvPr/>
        </p:nvSpPr>
        <p:spPr>
          <a:xfrm>
            <a:off x="4513320" y="5510160"/>
            <a:ext cx="189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ямое репо с Н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46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 (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487240" y="571968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Авторепо с Н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13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,2 %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22440" y="1596960"/>
            <a:ext cx="199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Авторепо с Г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74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2,8 %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71080" y="5289480"/>
            <a:ext cx="312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ямое репо с ГЦБ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95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0,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708360" y="2606760"/>
            <a:ext cx="1584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За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месяце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91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27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лн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427-88EB-4BB6-BDD0-2722515D99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Так было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3720" y="3025800"/>
            <a:ext cx="3959280" cy="2979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"Автоматическое" репо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нонимные автоматические сдел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нные бумаги -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предмет реп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блок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на счете покупателя в течение всего срока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значение дисконт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предмету репо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устанавливается Бир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764240" y="3027240"/>
            <a:ext cx="3876480" cy="2967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Репо методом прямых сдело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(двухсторонние договорные сдел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нные бумаги - предмет репо </a:t>
            </a: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не блок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право собственности на них переходит покупателю при открытии операции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значение дисконта или преми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предмету репо </a:t>
            </a:r>
            <a:r>
              <a:rPr b="0" lang="ru-RU" sz="1800" spc="-1" strike="noStrike">
                <a:solidFill>
                  <a:srgbClr val="008000"/>
                </a:solidFill>
                <a:latin typeface="Arial Narrow"/>
              </a:rPr>
              <a:t>устанавливается участникам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38320" y="1521360"/>
            <a:ext cx="507672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РЫНОК РЕПО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2162160" y="2343240"/>
            <a:ext cx="533520" cy="571320"/>
          </a:xfrm>
          <a:prstGeom prst="downArrow">
            <a:avLst>
              <a:gd name="adj1" fmla="val 50000"/>
              <a:gd name="adj2" fmla="val 6603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6456240" y="2341440"/>
            <a:ext cx="533520" cy="571680"/>
          </a:xfrm>
          <a:prstGeom prst="downArrow">
            <a:avLst>
              <a:gd name="adj1" fmla="val 50000"/>
              <a:gd name="adj2" fmla="val 6607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E24E-7130-4688-9A3D-072DC51B67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уществующие риск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468440"/>
            <a:ext cx="7848360" cy="4252320"/>
          </a:xfrm>
          <a:prstGeom prst="rect">
            <a:avLst/>
          </a:prstGeom>
          <a:noFill/>
          <a:ln w="0">
            <a:noFill/>
          </a:ln>
        </p:spPr>
        <p:txBody>
          <a:bodyPr rIns="1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открытия  равны рискам по сделкам купли-продажи ценных бум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закрытия "автоматического" ре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Narrow"/>
              </a:rPr>
              <a:t>продавец репо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не несет рисков неисполнения контрпартнером своих обязательств, так как бумаги заблок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Narrow"/>
              </a:rPr>
              <a:t>покупатель репо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несет риски неисполнения контрпартнером свои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иски по сделкам закрытия репо методом прямых сдел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давец и покупатель несут одинаковые риски неисполнения контрпартнером своих обязатель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User</cp:lastModifiedBy>
  <dcterms:modified xsi:type="dcterms:W3CDTF">2009-09-03T17:21:27Z</dcterms:modified>
  <cp:revision>220</cp:revision>
  <dc:subject/>
  <dc:title>Рынок иностранных валют</dc:title>
</cp:coreProperties>
</file>