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27DA-BF2E-478E-8C10-A4F48B3227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7EF3-50C2-4A27-8FB6-CED64B7A14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9A7E-3A12-4A79-9CC1-4CEE152B61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Плюсы и минусы действующей сис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339933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необходимости предварительного резервирования актив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та расч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анение кредитного риска посредство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V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9933"/>
                </a:solidFill>
                <a:latin typeface="Arial"/>
              </a:rPr>
              <a:t>Недостат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е риски технических дефол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ивычность и неудобство для иностранных инвес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ответствие международным стандартам (в части наличия системы управления рискам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1A4B-943E-4D7B-8555-1E73325580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5825-6726-42ED-A431-9F49F997CA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E55F-7149-4EB0-8BED-9311C89F2D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FEF5-D0D5-4866-9D15-1E935B8A82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атистическим данным за последний календарный год количество сделок с неликвидными акциями с отклонением цены свыше 5 % составляет 25,8 % от общего количества сделок с такими ак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атистическим данным за последний календарный год количество сделок с акциями, входящими в представительский список индекса KASE, с отклонением цены свыше 10 % составляет 3,9 % от общего количества сделок с такими ак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стами биржи был отдельно изучен вопрос об использовании запрета на снятие заявок при проведении аукциона – на развитых мировых рынках не используются какие-либо запреты на редактирование или удаление заявок, поданных до начала 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tion c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A500-EB2C-402A-8CE6-565331BD84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атистическим данным за последний календарный год количество сделок с неликвидными акциями с отклонением цены свыше 5 % составляет 25,8 % от общего количества сделок с такими ак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атистическим данным за последний календарный год количество сделок с акциями, входящими в представительский список индекса KASE, с отклонением цены свыше 10 % составляет 3,9 % от общего количества сделок с такими ак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стами биржи был отдельно изучен вопрос об использовании запрета на снятие заявок при проведении аукциона – на развитых мировых рынках не используются какие-либо запреты на редактирование или удаление заявок, поданных до начала 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tion c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5ECA-3A6A-490E-BE96-7C66DED3F4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остановление торгов осуществлено в соответствии с пунктом 1 статьи 12-2 внутреннего документа KASE "Правила биржевой торговли ценными бумагами", которая, в свою очередь, была включена в этот документ в целях обеспечения его соответствия с новой версией Правил осуществления деятельности организаторов торгов с ценными бумагами и иными финансовыми инструментами, утвержденных постановлением Правления Агентства Республики Казахстан по регулированию и надзору финансового рынка и финансовых организаций (АФН) от 29 октября 2008 года # 17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гласно Правилам биржевой торговли ценными бумагами (в версии, действующей с 25 января 2009 года) KASE приостанавливает торги акциями какого-либо наименования, находящимися в официальном списке KASE по первой категории, в случае снижения цены акций данного наименования на 30 и более процентов относительно цены последней исполненной сделки с акциями данного наименования, которая была заключена в ходе последней предшествующей результативной торговой сессии. Если иное не установлено решением АФН, приостановленные торги возобновляются с началом нового торгового дня по акция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зднее были внесены поправки, согласно которым торги могут быть продолжены в этот же день, если падение цены вызвано технической ошибкой трейдера или торговой системы, и если регулятор не возражает продолжить торг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E5DA-371F-4BCD-8A70-65316B567E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анализа показывают, что, как правило, существенное падение цены акций вызывалось в 2009 году, кроме технических ошибок трейдеров или их эмуляций не общим движением рынка, а проблемами у отдельных эмитент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ТА, Альянс банк, Астана финан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стречались также случаи выраженных спекулятивных движений (ЦентрКреди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EA5-8E50-4FE6-9FD2-DAB186D9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772-1532-49C2-BCD0-C27F88D8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5C6-B702-43FB-A958-E63CAD1B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74C-7DDC-45BB-8A97-6EA359AC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2983D-A23C-4E07-A63A-14EF80B433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C710B-2B4E-4DEE-BE4E-431B7814C8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BE7FD-8391-449F-872F-88CE3E7D8A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5A2F9-A57A-4602-8153-7E21186975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5970D-F6BA-4C31-8B32-A8FE6C0AE0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8120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34E84-4A73-450C-89FD-222157A1F7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5B2FD-BF3A-454E-B444-EA93800BD3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6A1-D864-43DA-AE1D-04114BB3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F2235-FEEE-4073-B8D7-BF9C844A76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B4CD6-7578-441A-AFB9-271D7D7440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E67B3-7B5F-4AAF-B13A-03D553A1A3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5E1E7-8F6F-445E-8808-227076D735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E4C82-65D5-4AFC-BD32-163BCA902B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B858-4B00-476D-8FF4-CF1BB4AF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8120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DB9-87FF-4D18-8E39-38EA4A29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22C-FA6D-4639-A9D0-FF54F8DF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8120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6F3-6DFB-4690-BDCE-2ACB19FD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7B4-569E-480B-AD65-8EBD98DD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62F-23DA-44C5-A50B-4550F74E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A42-91EC-4A6E-9FFB-5B9B733F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8400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027D-9EE2-4120-B96F-B47E2216231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2"/>
          <a:stretch/>
        </p:blipFill>
        <p:spPr>
          <a:xfrm>
            <a:off x="7848720" y="0"/>
            <a:ext cx="1260360" cy="106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50560" y="583920"/>
            <a:ext cx="8605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7009920" y="651816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7BFE-1E53-4F50-9808-8D60D66604D0}" type="slidenum">
              <a:rPr b="0" lang="ru-RU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48400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2"/>
          <a:stretch/>
        </p:blipFill>
        <p:spPr>
          <a:xfrm>
            <a:off x="7848720" y="0"/>
            <a:ext cx="1260360" cy="106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Untitled-2 copy"/>
          <p:cNvPicPr/>
          <p:nvPr/>
        </p:nvPicPr>
        <p:blipFill>
          <a:blip r:embed="rId2"/>
          <a:stretch/>
        </p:blipFill>
        <p:spPr>
          <a:xfrm>
            <a:off x="142920" y="149400"/>
            <a:ext cx="2460600" cy="2085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6"/>
          </p:nvPr>
        </p:nvSpPr>
        <p:spPr>
          <a:xfrm>
            <a:off x="4532400" y="6524640"/>
            <a:ext cx="403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imes New Roman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4532400" y="6524640"/>
            <a:ext cx="4032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8720" y="1958760"/>
            <a:ext cx="777240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 Narrow"/>
              </a:rPr>
              <a:t>Развитие через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 Narrow"/>
              </a:rPr>
              <a:t>антикризисное регулирование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448080" y="3835440"/>
            <a:ext cx="511344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Андрей Цалю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ице-президен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АО "Казахстанская фондовая биржа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D0D1-C895-43E8-8363-A8CD561F36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едпринято для снижения рисков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1228680"/>
            <a:ext cx="423072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 Narrow"/>
              </a:rPr>
              <a:t>Сектор "автоматического" р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аксимальный срок операции репо –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30 календарных дней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(вместо 90), пролонгация запрещ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значение дисконта определяется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KASE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 зависимости от вида предмета репо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от 5 до 30</a:t>
            </a:r>
            <a:r>
              <a:rPr b="0" lang="en-US" sz="18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еисполнение продавцом репо сделки закрытия приводит к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переходу права собственности на предмет репо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к покупателю р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крытие рыночных рисков покупателя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обеспечивается дискон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43000" y="5692680"/>
            <a:ext cx="88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запрет на использование в качестве предмета репо ценных бумаг, по которым эмитентом не соблюдаются требования по раскрытию информации или допущен дефолт (ранее не был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 rot="16200000">
            <a:off x="4396680" y="1431000"/>
            <a:ext cx="512640" cy="8010720"/>
          </a:xfrm>
          <a:custGeom>
            <a:avLst/>
            <a:gdLst>
              <a:gd name="textAreaLeft" fmla="*/ 327600 w 512640"/>
              <a:gd name="textAreaRight" fmla="*/ 513000 w 512640"/>
              <a:gd name="textAreaTop" fmla="*/ 208800 h 8010720"/>
              <a:gd name="textAreaBottom" fmla="*/ 7801920 h 801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589640" y="1227240"/>
            <a:ext cx="423036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 Narrow"/>
              </a:rPr>
              <a:t>Сектор репо</a:t>
            </a:r>
            <a:r>
              <a:rPr b="1" lang="en-US" sz="18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Arial Narrow"/>
              </a:rPr>
              <a:t>методом прямых сд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аксимальный срок операции репо с учетом пролонгации –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90 календарных дней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(ранее не ограничивалс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еустойка за неисполнение сделки закрытия –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30 % от суммы данной сделки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(ранее не предусматривалас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крытие рыночных рисков пострадавшей стороны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обеспечивается уплатой неусто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66BD-6314-4D5E-8303-93FF84C8A1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ланируется для снижения рисков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27160" y="1979640"/>
            <a:ext cx="423072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 Narrow"/>
              </a:rPr>
              <a:t>Сектор репо</a:t>
            </a:r>
            <a:r>
              <a:rPr b="1" lang="en-US" sz="18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Arial Narrow"/>
              </a:rPr>
              <a:t>методом прямых сд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регулярная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переоценка обязательств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по операции репо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исходя из текущей рыночной цены предмета р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еобходимость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компенсационного платежа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при существенном отклонении рыночной цены предмета р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еустойка за неисполнение сделки закрытия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рассчитывается исходя из рыночной цены предмета репо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на дату неисполнения сделки закры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711680" y="1949400"/>
            <a:ext cx="4230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 Narrow"/>
              </a:rPr>
              <a:t>Сектор "автоматического" р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регулярная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переоценка обязательств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по операции репо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исходя из текущей рыночной цены предмета р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еобходимость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компенсационного платежа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при существенном отклонении рыночной цены предмета р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значение дисконта зависит от вида предмета репо и срока операции р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76120" y="1219320"/>
            <a:ext cx="4019760" cy="703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ЭТАП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ВВОДИТСЯ В ДЕЙСТВ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761000" y="1217520"/>
            <a:ext cx="4019400" cy="703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ПЛАНИРУЕТ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2ECE-BD05-4BA7-9EFF-2D2BBF3B09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676440" y="2309760"/>
            <a:ext cx="7772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Модификация системы расчетов при торговле ценными бумаг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CA93-98C8-49D0-B195-9B8499895EF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Дорожная карт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AutoShape 7"/>
          <p:cNvSpPr/>
          <p:nvPr/>
        </p:nvSpPr>
        <p:spPr>
          <a:xfrm rot="2004000">
            <a:off x="5506560" y="1549440"/>
            <a:ext cx="1387440" cy="861840"/>
          </a:xfrm>
          <a:custGeom>
            <a:avLst/>
            <a:gdLst>
              <a:gd name="textAreaLeft" fmla="*/ 250560 w 1387440"/>
              <a:gd name="textAreaRight" fmla="*/ 1003680 w 1387440"/>
              <a:gd name="textAreaTop" fmla="*/ 115200 h 861840"/>
              <a:gd name="textAreaBottom" fmla="*/ 746640 h 861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03" hR="21600" stAng="10800000" swAng="5400000"/>
                <a:lnTo>
                  <a:pt x="11726" y="0"/>
                </a:lnTo>
                <a:arcTo wR="7803" hR="21600" stAng="-5400000" swAng="2736904"/>
                <a:lnTo>
                  <a:pt x="21154" y="14400"/>
                </a:lnTo>
                <a:lnTo>
                  <a:pt x="17567" y="21600"/>
                </a:lnTo>
                <a:lnTo>
                  <a:pt x="13087" y="14400"/>
                </a:lnTo>
                <a:lnTo>
                  <a:pt x="15159" y="14400"/>
                </a:lnTo>
                <a:arcTo wR="7803" hR="21600" stAng="-2663096" swAng="-2415305"/>
                <a:lnTo>
                  <a:pt x="9764" y="694"/>
                </a:lnTo>
                <a:arcTo wR="7803" hR="21600" stAng="-5721599" swAng="-5078401"/>
                <a:close/>
              </a:path>
              <a:path fill="darkenLess" w="21600" h="21600">
                <a:moveTo>
                  <a:pt x="0" y="21600"/>
                </a:moveTo>
                <a:arcTo wR="7803" hR="21600" stAng="10800000" swAng="5400000"/>
                <a:lnTo>
                  <a:pt x="7803" y="0"/>
                </a:lnTo>
                <a:arcTo wR="7803" hR="21600" stAng="-5400000" swAng="321599"/>
                <a:lnTo>
                  <a:pt x="9764" y="694"/>
                </a:lnTo>
                <a:arcTo wR="7803" hR="21600" stAng="-5721599" swAng="-5078401"/>
                <a:close/>
              </a:path>
            </a:pathLst>
          </a:custGeom>
          <a:gradFill rotWithShape="0">
            <a:gsLst>
              <a:gs pos="0">
                <a:srgbClr val="00fa00"/>
              </a:gs>
              <a:gs pos="100000">
                <a:srgbClr val="008000"/>
              </a:gs>
            </a:gsLst>
            <a:lin ang="168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8"/>
          <p:cNvGrpSpPr/>
          <p:nvPr/>
        </p:nvGrpSpPr>
        <p:grpSpPr>
          <a:xfrm>
            <a:off x="252360" y="1243800"/>
            <a:ext cx="5041800" cy="1383840"/>
            <a:chOff x="252360" y="1243800"/>
            <a:chExt cx="5041800" cy="1383840"/>
          </a:xfrm>
        </p:grpSpPr>
        <p:sp>
          <p:nvSpPr>
            <p:cNvPr id="203" name="Rectangle 4"/>
            <p:cNvSpPr/>
            <p:nvPr/>
          </p:nvSpPr>
          <p:spPr>
            <a:xfrm>
              <a:off x="252360" y="1407960"/>
              <a:ext cx="5041800" cy="121968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Т+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поставка против платежа (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DVP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гросс-расчеты в реальном времени (сделка за сделкой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неустойка 5 % от суммы сделки при ее неисполнен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4308840" y="1243800"/>
              <a:ext cx="838080" cy="31572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8000"/>
                  </a:solidFill>
                  <a:latin typeface="Arial Narrow"/>
                </a:rPr>
                <a:t>СЕЙЧА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21"/>
          <p:cNvGrpSpPr/>
          <p:nvPr/>
        </p:nvGrpSpPr>
        <p:grpSpPr>
          <a:xfrm>
            <a:off x="1328760" y="2813760"/>
            <a:ext cx="5472000" cy="1280520"/>
            <a:chOff x="1328760" y="2813760"/>
            <a:chExt cx="5472000" cy="1280520"/>
          </a:xfrm>
        </p:grpSpPr>
        <p:sp>
          <p:nvSpPr>
            <p:cNvPr id="206" name="Rectangle 10"/>
            <p:cNvSpPr/>
            <p:nvPr/>
          </p:nvSpPr>
          <p:spPr>
            <a:xfrm>
              <a:off x="1328760" y="2982960"/>
              <a:ext cx="5472000" cy="1111320"/>
            </a:xfrm>
            <a:prstGeom prst="rect">
              <a:avLst/>
            </a:prstGeom>
            <a:noFill/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Narrow"/>
                </a:rPr>
                <a:t>Переход на систему расчетов с </a:t>
              </a:r>
              <a:r>
                <a:rPr b="0" lang="ru-RU" sz="2000" spc="-1" strike="noStrike">
                  <a:solidFill>
                    <a:srgbClr val="008000"/>
                  </a:solidFill>
                  <a:latin typeface="Arial Narrow"/>
                </a:rPr>
                <a:t>полным обеспечением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 Narrow"/>
                </a:rPr>
                <a:t>(предпоставку и предоплату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3"/>
            <p:cNvSpPr/>
            <p:nvPr/>
          </p:nvSpPr>
          <p:spPr>
            <a:xfrm>
              <a:off x="5244120" y="2813760"/>
              <a:ext cx="1371600" cy="315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6600"/>
                  </a:solidFill>
                  <a:latin typeface="Arial Narrow"/>
                </a:rPr>
                <a:t>ПЕРВЫЙ ЭТА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5"/>
          <p:cNvSpPr/>
          <p:nvPr/>
        </p:nvSpPr>
        <p:spPr>
          <a:xfrm>
            <a:off x="2332080" y="4424400"/>
            <a:ext cx="5881680" cy="14317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ереход на систему расчетов с </a:t>
            </a:r>
            <a:r>
              <a:rPr b="0" lang="ru-RU" sz="2000" spc="-1" strike="noStrike">
                <a:solidFill>
                  <a:srgbClr val="000099"/>
                </a:solidFill>
                <a:latin typeface="Arial Narrow"/>
              </a:rPr>
              <a:t>частичным обеспечением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0" lang="ru-RU" sz="2000" spc="-1" strike="noStrike">
                <a:solidFill>
                  <a:srgbClr val="000099"/>
                </a:solidFill>
                <a:latin typeface="Arial Narrow"/>
              </a:rPr>
              <a:t>более продолжительным циклом расчетов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(для наиболее ликвидных ценных бума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6668640" y="4260240"/>
            <a:ext cx="1345680" cy="31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 Narrow"/>
              </a:rPr>
              <a:t>ВТОРОЙ ЭТА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0"/>
          <p:cNvSpPr/>
          <p:nvPr/>
        </p:nvSpPr>
        <p:spPr>
          <a:xfrm rot="2004000">
            <a:off x="7192440" y="2976480"/>
            <a:ext cx="1387800" cy="862200"/>
          </a:xfrm>
          <a:custGeom>
            <a:avLst/>
            <a:gdLst>
              <a:gd name="textAreaLeft" fmla="*/ 250560 w 1387800"/>
              <a:gd name="textAreaRight" fmla="*/ 1004040 w 1387800"/>
              <a:gd name="textAreaTop" fmla="*/ 115200 h 862200"/>
              <a:gd name="textAreaBottom" fmla="*/ 747000 h 862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03" hR="21600" stAng="10800000" swAng="5400000"/>
                <a:lnTo>
                  <a:pt x="11726" y="0"/>
                </a:lnTo>
                <a:arcTo wR="7803" hR="21600" stAng="-5400000" swAng="2736904"/>
                <a:lnTo>
                  <a:pt x="21154" y="14400"/>
                </a:lnTo>
                <a:lnTo>
                  <a:pt x="17567" y="21600"/>
                </a:lnTo>
                <a:lnTo>
                  <a:pt x="13087" y="14400"/>
                </a:lnTo>
                <a:lnTo>
                  <a:pt x="15159" y="14400"/>
                </a:lnTo>
                <a:arcTo wR="7803" hR="21600" stAng="-2663096" swAng="-2415305"/>
                <a:lnTo>
                  <a:pt x="9764" y="694"/>
                </a:lnTo>
                <a:arcTo wR="7803" hR="21600" stAng="-5721599" swAng="-5078401"/>
                <a:close/>
              </a:path>
              <a:path fill="darkenLess" w="21600" h="21600">
                <a:moveTo>
                  <a:pt x="0" y="21600"/>
                </a:moveTo>
                <a:arcTo wR="7803" hR="21600" stAng="10800000" swAng="5400000"/>
                <a:lnTo>
                  <a:pt x="7803" y="0"/>
                </a:lnTo>
                <a:arcTo wR="7803" hR="21600" stAng="-5400000" swAng="321599"/>
                <a:lnTo>
                  <a:pt x="9764" y="694"/>
                </a:lnTo>
                <a:arcTo wR="7803" hR="21600" stAng="-5721599" swAng="-5078401"/>
                <a:close/>
              </a:path>
            </a:pathLst>
          </a:custGeom>
          <a:gradFill rotWithShape="0">
            <a:gsLst>
              <a:gs pos="0">
                <a:srgbClr val="00fa00"/>
              </a:gs>
              <a:gs pos="100000">
                <a:srgbClr val="008000"/>
              </a:gs>
            </a:gsLst>
            <a:lin ang="168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77BE-EBEB-45DA-8413-36442B1BA4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ервый этап (в разработке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960" y="1149480"/>
            <a:ext cx="8545680" cy="41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Narrow"/>
              </a:rPr>
              <a:t>Система расчетов с полным обеспеч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лное предварительное резервирование активов участников торгов под открытие поз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цикл расчетов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+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етто или гросс-расчеты (не имеет большого знач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ставка против платежа (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VP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гарантия исполнения участниками обязательств за сче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определения лимитов (денежного и по ценным бумагам) участников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торг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зависимости от размера внесенного обеспеч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инятия заявок, заключения сделок и исполнения обязательст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 сделкам в пределах лими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47760" y="5062680"/>
            <a:ext cx="8545320" cy="1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Narrow"/>
              </a:rPr>
              <a:t>Цели первого эта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вышение уровня безопасности расч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оздание инфраструктуры для учета и контроля обеспечения участников тор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ECC5-D9C9-4490-B4E4-E902D72097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Второй этап (планируется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5960" y="1009440"/>
            <a:ext cx="85456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Narrow"/>
              </a:rPr>
              <a:t>Система расчетов с частичным обеспеч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частичное предварительное резервирование активов участников торгов под открытие пози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цикл расчетов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+ n (n &g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ставка против платежа (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VP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гарантия исполнения участниками обязательств за счет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пределения позиционных лимитов участника торгов в зависимости от размера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несенного обеспеч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инятия заявок, заключения сделок и исполнения обязательств по сделка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 пределах лимит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использования гарантийного фонда, формируемого из собственных средств бирж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и из средств участников тор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47760" y="4707000"/>
            <a:ext cx="85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Narrow"/>
              </a:rPr>
              <a:t>Цели второго эта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вышение привлекательности казахстанского фондового рынка для иностранных инвес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оздание системы управления рисками, соответствующей международным стандар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BF99-7EFB-4F19-A3E9-802653217F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676440" y="19465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Изменение режима использования</a:t>
            </a:r>
            <a:br>
              <a:rPr sz="4800"/>
            </a:b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франкфуртского</a:t>
            </a:r>
            <a:br>
              <a:rPr sz="4800"/>
            </a:b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аукцион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1F1E-BBB8-44B7-A7F5-6A736F5D5F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и сильном отклонении цен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13840" y="1289160"/>
            <a:ext cx="8564760" cy="5020920"/>
          </a:xfrm>
          <a:prstGeom prst="rect">
            <a:avLst/>
          </a:prstGeom>
          <a:noFill/>
          <a:ln w="0">
            <a:noFill/>
          </a:ln>
        </p:spPr>
        <p:txBody>
          <a:bodyPr rIns="180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орги </a:t>
            </a: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неликвидными акциями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переводятся в режим ожидания только в случае отклонения возможной цены сделки с акциями какого-либо наименования от цены последней сделки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 данными акциями </a:t>
            </a: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более чем на 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орги </a:t>
            </a: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ликвидными акциями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переводятся в режим ожидания только в случае отклонения возможной цены сделки с акциями какого-либо наименования от цены последней сделки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 данными акциями </a:t>
            </a: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более чем на 1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орги автоматически переводятся в режим ожидания при попытке заключения любой сделки с какими-либо акциями в случае отсутствия значения цены последней сделки с данными ценными бумагами </a:t>
            </a: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более 15 календарных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ходе аукциона </a:t>
            </a: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допускается удаление заявок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, поданных до его нач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ак и ранее, режим ожидания, длящийся более 18 минут, </a:t>
            </a: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закрывается в случайно выбранный момент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88C0-C377-4F2D-8BED-AA6DFB6387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и закрытии рынк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13840" y="1403280"/>
            <a:ext cx="8564760" cy="4085640"/>
          </a:xfrm>
          <a:prstGeom prst="rect">
            <a:avLst/>
          </a:prstGeom>
          <a:noFill/>
          <a:ln w="0">
            <a:noFill/>
          </a:ln>
        </p:spPr>
        <p:txBody>
          <a:bodyPr rIns="180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с целью формирования репрезентативной цены закрытия торгового дня </a:t>
            </a:r>
            <a:r>
              <a:rPr b="0" lang="ru-RU" sz="2600" spc="-1" strike="noStrike">
                <a:solidFill>
                  <a:srgbClr val="009900"/>
                </a:solidFill>
                <a:latin typeface="Arial Narrow"/>
              </a:rPr>
              <a:t>за 15 минут до истечения торгового дня торги всеми акциями переводятся в режим франкфуртского аукцио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для предотвращения манипулирования ценой франкфуртского аукциона </a:t>
            </a:r>
            <a:r>
              <a:rPr b="0" lang="ru-RU" sz="2600" spc="-1" strike="noStrike">
                <a:solidFill>
                  <a:srgbClr val="009900"/>
                </a:solidFill>
                <a:latin typeface="Arial Narrow"/>
              </a:rPr>
              <a:t>его завершение происходит в случайный момент времени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в течение последних двух минут данного аукцио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в ходе аукциона </a:t>
            </a:r>
            <a:r>
              <a:rPr b="0" lang="ru-RU" sz="2600" spc="-1" strike="noStrike">
                <a:solidFill>
                  <a:srgbClr val="009900"/>
                </a:solidFill>
                <a:latin typeface="Arial Narrow"/>
              </a:rPr>
              <a:t>допускается удаление заявок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, поданных как до его начала, так и во время не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4441680" y="607392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www.kase.k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3640" y="28036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8549-6CDC-4622-B262-A4ED240F21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76440" y="2308320"/>
            <a:ext cx="7772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Приостановление торгов</a:t>
            </a:r>
            <a:br>
              <a:rPr sz="4800"/>
            </a:b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при резком падении</a:t>
            </a:r>
            <a:br>
              <a:rPr sz="4800"/>
            </a:b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цены акци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3FDE-E078-4B86-8ADF-FA15138E7B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АФН ставит условия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401480"/>
            <a:ext cx="864216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снижение цены акций какого-либо наименования в первой или второй категории официального списка на </a:t>
            </a:r>
            <a:r>
              <a:rPr b="0" lang="ru-RU" sz="2600" spc="-1" strike="noStrike">
                <a:solidFill>
                  <a:srgbClr val="cc0000"/>
                </a:solidFill>
                <a:latin typeface="Arial Narrow"/>
              </a:rPr>
              <a:t>тридцать и более проценто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в течение одного торгового дня</a:t>
            </a:r>
            <a:br>
              <a:rPr sz="2600"/>
            </a:br>
            <a:r>
              <a:rPr b="0" lang="ru-RU" sz="2600" spc="-1" strike="noStrike">
                <a:solidFill>
                  <a:srgbClr val="006600"/>
                </a:solidFill>
                <a:latin typeface="Wingdings 3"/>
                <a:ea typeface="Wingdings 3"/>
              </a:rPr>
              <a:t></a:t>
            </a:r>
            <a:br>
              <a:rPr sz="2600"/>
            </a:br>
            <a:r>
              <a:rPr b="0" lang="ru-RU" sz="2600" spc="-1" strike="noStrike">
                <a:solidFill>
                  <a:srgbClr val="006600"/>
                </a:solidFill>
                <a:latin typeface="Arial Narrow"/>
              </a:rPr>
              <a:t>приостановление торгов акциями данного наимен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снижение значения индекса рынка акций на </a:t>
            </a:r>
            <a:r>
              <a:rPr b="0" lang="ru-RU" sz="2600" spc="-1" strike="noStrike">
                <a:solidFill>
                  <a:srgbClr val="cc0000"/>
                </a:solidFill>
                <a:latin typeface="Arial Narrow"/>
              </a:rPr>
              <a:t>пятнадцать и более проценто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относительно последнего значения за последний или два предшествующих торговых дня</a:t>
            </a:r>
            <a:br>
              <a:rPr sz="2600"/>
            </a:br>
            <a:r>
              <a:rPr b="0" lang="ru-RU" sz="2600" spc="-1" strike="noStrike">
                <a:solidFill>
                  <a:srgbClr val="006600"/>
                </a:solidFill>
                <a:latin typeface="Wingdings 3"/>
                <a:ea typeface="Wingdings 3"/>
              </a:rPr>
              <a:t></a:t>
            </a:r>
            <a:br>
              <a:rPr sz="2600"/>
            </a:br>
            <a:r>
              <a:rPr b="0" lang="ru-RU" sz="2600" spc="-1" strike="noStrike">
                <a:solidFill>
                  <a:srgbClr val="006600"/>
                </a:solidFill>
                <a:latin typeface="Arial Narrow"/>
              </a:rPr>
              <a:t>приостановление торгов всеми акциями официального спис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CB52-6D8F-4C95-B7E5-7FB456F3B6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Все мало зависит от движений рынка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123840" y="1457280"/>
          <a:ext cx="8800920" cy="468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457280"/>
                    <a:ext cx="880092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6"/>
          <p:cNvSpPr/>
          <p:nvPr/>
        </p:nvSpPr>
        <p:spPr>
          <a:xfrm>
            <a:off x="995040" y="1150920"/>
            <a:ext cx="71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иостановления торгов акциями на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KASE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и изменение индекса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K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4D25-14F1-49A1-A5FC-5F8A9BB617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В 2009 году — 19 раз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1800" y="1623960"/>
          <a:ext cx="3450960" cy="4270320"/>
        </p:xfrm>
        <a:graphic>
          <a:graphicData uri="http://schemas.openxmlformats.org/drawingml/2006/table">
            <a:tbl>
              <a:tblPr/>
              <a:tblGrid>
                <a:gridCol w="863640"/>
                <a:gridCol w="861840"/>
                <a:gridCol w="863640"/>
                <a:gridCol w="86184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кло-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шиб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01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CB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.01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BN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.01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ASB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.01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B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.01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.02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KZT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-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02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EBN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02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6.02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KZTK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-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838760" y="1625760"/>
          <a:ext cx="3451320" cy="4270320"/>
        </p:xfrm>
        <a:graphic>
          <a:graphicData uri="http://schemas.openxmlformats.org/drawingml/2006/table">
            <a:tbl>
              <a:tblPr/>
              <a:tblGrid>
                <a:gridCol w="863640"/>
                <a:gridCol w="861840"/>
                <a:gridCol w="863640"/>
                <a:gridCol w="86220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кло-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шиб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3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B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03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EBN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6.03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RDG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-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.04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BN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4.05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CB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4.05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B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9.06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ASF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06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ASF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06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ASF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944"/>
          <p:cNvSpPr/>
          <p:nvPr/>
        </p:nvSpPr>
        <p:spPr>
          <a:xfrm>
            <a:off x="1935360" y="5991120"/>
            <a:ext cx="53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19 случаев при трех технических ошибках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рейд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45"/>
          <p:cNvSpPr/>
          <p:nvPr/>
        </p:nvSpPr>
        <p:spPr>
          <a:xfrm>
            <a:off x="574560" y="1150920"/>
            <a:ext cx="801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се прецеденты приостановления торгов акциями на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KASE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по изменению ц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5AD3-0DA2-4B8A-B76B-768424FB5C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76440" y="26748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Ограничение рисков</a:t>
            </a:r>
            <a:br>
              <a:rPr sz="4800"/>
            </a:b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на рынке операций реп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9272-4CFF-4FB6-93F6-1EF8905FA8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52,3 % общего объема торгов KAS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11280" y="768240"/>
          <a:ext cx="777240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68240"/>
                    <a:ext cx="77724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7"/>
          <p:cNvSpPr/>
          <p:nvPr/>
        </p:nvSpPr>
        <p:spPr>
          <a:xfrm>
            <a:off x="4513320" y="5510160"/>
            <a:ext cx="189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Прямое репо с НЦБ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4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46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SD (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%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487240" y="5719680"/>
            <a:ext cx="18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Авторепо с НЦБ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3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13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SD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4,2 %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22440" y="1596960"/>
            <a:ext cx="199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Авторепо с ГЦБ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74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0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SD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42,8 %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271080" y="5289480"/>
            <a:ext cx="312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Прямое репо с ГЦБ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95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SD (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0,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3708360" y="2606760"/>
            <a:ext cx="158436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За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месяце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2009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91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827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млн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CD67-171E-4272-88F5-7503A7CF8A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Так было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23720" y="3025800"/>
            <a:ext cx="3959280" cy="29797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 Narrow"/>
              </a:rPr>
              <a:t>"Автоматическое" репо</a:t>
            </a:r>
            <a:r>
              <a:rPr b="1" lang="en-US" sz="1800" spc="-1" strike="noStrike">
                <a:solidFill>
                  <a:srgbClr val="008000"/>
                </a:solidFill>
                <a:latin typeface="Arial Narro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анонимные автоматические сделки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ценные бумаги - </a:t>
            </a:r>
            <a:r>
              <a:rPr b="0" lang="ru-RU" sz="1800" spc="-1" strike="noStrike">
                <a:solidFill>
                  <a:srgbClr val="ff0000"/>
                </a:solidFill>
                <a:latin typeface="Arial Narrow"/>
              </a:rPr>
              <a:t>предмет репо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 Narrow"/>
              </a:rPr>
              <a:t>блокируютс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на счете покупателя в течение всего срока 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Narrow"/>
              </a:rPr>
              <a:t>значение дисконта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по предмету репо </a:t>
            </a:r>
            <a:r>
              <a:rPr b="0" lang="ru-RU" sz="1800" spc="-1" strike="noStrike">
                <a:solidFill>
                  <a:srgbClr val="ff0000"/>
                </a:solidFill>
                <a:latin typeface="Arial Narrow"/>
              </a:rPr>
              <a:t>устанавливается Бирж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764240" y="3027240"/>
            <a:ext cx="3876480" cy="29671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 Narrow"/>
              </a:rPr>
              <a:t>Репо методом прямых сделок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(двухсторонние договорные сдел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ценные бумаги - предмет репо </a:t>
            </a:r>
            <a:r>
              <a:rPr b="0" lang="ru-RU" sz="1800" spc="-1" strike="noStrike">
                <a:solidFill>
                  <a:srgbClr val="ff0000"/>
                </a:solidFill>
                <a:latin typeface="Arial Narrow"/>
              </a:rPr>
              <a:t>не блокируютс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, право собственности на них переходит покупателю при открытии операции р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значение дисконта или премии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по предмету репо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устанавливается участниками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038320" y="1521360"/>
            <a:ext cx="5076720" cy="764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РЫНОК РЕПО 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K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2162160" y="2343240"/>
            <a:ext cx="533520" cy="571320"/>
          </a:xfrm>
          <a:prstGeom prst="downArrow">
            <a:avLst>
              <a:gd name="adj1" fmla="val 50000"/>
              <a:gd name="adj2" fmla="val 66036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6456240" y="2341440"/>
            <a:ext cx="533520" cy="571680"/>
          </a:xfrm>
          <a:prstGeom prst="downArrow">
            <a:avLst>
              <a:gd name="adj1" fmla="val 50000"/>
              <a:gd name="adj2" fmla="val 66077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0E49-F4E7-490E-B1C7-AD628D6FEB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Существующие риски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468440"/>
            <a:ext cx="7848360" cy="4252320"/>
          </a:xfrm>
          <a:prstGeom prst="rect">
            <a:avLst/>
          </a:prstGeom>
          <a:noFill/>
          <a:ln w="0">
            <a:noFill/>
          </a:ln>
        </p:spPr>
        <p:txBody>
          <a:bodyPr rIns="180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Риски по сделкам открытия  равны рискам по сделкам купли-продажи ценных бум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Риски по сделкам закрытия "автоматического" реп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 Narrow"/>
              </a:rPr>
              <a:t>продавец репо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не несет рисков неисполнения контрпартнером своих обязательств, так как бумаги заблокиров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 Narrow"/>
              </a:rPr>
              <a:t>покупатель репо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несет риски неисполнения контрпартнером своих обяза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Риски по сделкам закрытия репо методом прямых сдел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одавец и покупатель несут одинаковые риски неисполнения контрпартнером своих обязатель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0:17:41Z</dcterms:created>
  <dc:creator>vt</dc:creator>
  <dc:description/>
  <dc:language>en-US</dc:language>
  <cp:lastModifiedBy>User</cp:lastModifiedBy>
  <dcterms:modified xsi:type="dcterms:W3CDTF">2009-09-03T17:21:27Z</dcterms:modified>
  <cp:revision>220</cp:revision>
  <dc:subject/>
  <dc:title>Рынок иностранных валют</dc:title>
</cp:coreProperties>
</file>