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Img"/>
          </p:nvPr>
        </p:nvSpPr>
        <p:spPr>
          <a:xfrm>
            <a:off x="779400" y="767880"/>
            <a:ext cx="554040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499F04-EA25-4931-BA34-C6C700EAEE4F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284FB7-0422-4AC9-941C-769C7CF85003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ill Sans"/>
              </a:rPr>
              <a:t>Принцип работы системы заключается в выборе такого исторического поведения рынка, которое наиболее полно отражает текущее движение котировок и которое будет иметь место в краткосрочном будущем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ill Sans"/>
              </a:rPr>
              <a:t>(в течение следующего торгового дня) с большей долей вероятности. На основании этих данных, выставляются лимит и стоп ордера на текущий торговый день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6BD951-1218-4864-A0C4-7C6B605E01C8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FFD5BC-7332-4599-A8BB-8DE82C87EB40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5F5A2F-A195-48FD-AF4A-DEDC8D7D0804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pic>
        <p:nvPicPr>
          <p:cNvPr id="1" name="Picture 3" descr="Logo"/>
          <p:cNvPicPr/>
          <p:nvPr/>
        </p:nvPicPr>
        <p:blipFill>
          <a:blip r:embed="rId2"/>
          <a:stretch/>
        </p:blipFill>
        <p:spPr>
          <a:xfrm>
            <a:off x="2484360" y="138240"/>
            <a:ext cx="4552920" cy="120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68040" y="1946160"/>
            <a:ext cx="797076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82000"/>
          </a:bodyPr>
          <a:p>
            <a:pPr marL="50616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4360" indent="-34488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11840" indent="-34596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8004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8004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8004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68040" y="1946160"/>
            <a:ext cx="384012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77000"/>
          </a:bodyPr>
          <a:p>
            <a:pPr marL="43128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936360" indent="-28080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18692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68040" y="1946160"/>
            <a:ext cx="797076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t">
            <a:normAutofit fontScale="85000"/>
          </a:bodyPr>
          <a:p>
            <a:pPr marL="47628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75420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1033560" indent="-3099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31004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58940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58940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58940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920920" y="1946160"/>
            <a:ext cx="301788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65000"/>
          </a:bodyPr>
          <a:p>
            <a:pPr marL="36432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57672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790200" indent="-23724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00188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21536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21536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21536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68040" y="1946160"/>
            <a:ext cx="384012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77000"/>
          </a:bodyPr>
          <a:p>
            <a:pPr marL="43128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936360" indent="-28080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18692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968040" y="893520"/>
            <a:ext cx="7970760" cy="507204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81000"/>
          </a:bodyPr>
          <a:p>
            <a:pPr marL="50004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296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296000" indent="-34200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606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606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606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0" y="0"/>
            <a:ext cx="9906120" cy="8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pic>
        <p:nvPicPr>
          <p:cNvPr id="39" name="Picture 4" descr="Logo"/>
          <p:cNvPicPr/>
          <p:nvPr/>
        </p:nvPicPr>
        <p:blipFill>
          <a:blip r:embed="rId2"/>
          <a:stretch/>
        </p:blipFill>
        <p:spPr>
          <a:xfrm>
            <a:off x="3581280" y="87480"/>
            <a:ext cx="2853000" cy="757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575280" indent="-36864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4720" indent="-371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50920" indent="-37008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40000" indent="-3697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28000" indent="-37008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28000" indent="-3700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28000" indent="-3700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8040" y="2089080"/>
            <a:ext cx="7970760" cy="267984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68040" y="3536640"/>
            <a:ext cx="7970760" cy="79380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t">
            <a:normAutofit fontScale="25000"/>
          </a:bodyPr>
          <a:p>
            <a:pPr marL="85680" indent="-8568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185760" indent="-7128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2" marL="285480" indent="-5688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3" marL="399960" indent="-5688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4" marL="514080" indent="-5688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5" marL="514080" indent="-5688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6" marL="514080" indent="-5688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68040" y="1152000"/>
            <a:ext cx="7970760" cy="232092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b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8040" y="5180040"/>
            <a:ext cx="7970760" cy="119520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8040" y="5180040"/>
            <a:ext cx="7970760" cy="119520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483840" y="3366720"/>
            <a:ext cx="4468680" cy="232092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t">
            <a:normAutofit fontScale="76000"/>
          </a:bodyPr>
          <a:p>
            <a:pPr marL="260640" indent="-26064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564480" indent="-21708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868680" indent="-17352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3" marL="1216080" indent="-17352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4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5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6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483840" y="990360"/>
            <a:ext cx="4468680" cy="2322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b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483840" y="3366720"/>
            <a:ext cx="4468680" cy="232092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t">
            <a:normAutofit fontScale="76000"/>
          </a:bodyPr>
          <a:p>
            <a:pPr marL="260640" indent="-26064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564480" indent="-21708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868680" indent="-17352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3" marL="1216080" indent="-17352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4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5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6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83840" y="990360"/>
            <a:ext cx="4468680" cy="2322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b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0" y="1554120"/>
            <a:ext cx="9906120" cy="5330880"/>
          </a:xfrm>
          <a:prstGeom prst="rect">
            <a:avLst/>
          </a:prstGeom>
          <a:solidFill>
            <a:srgbClr val="466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3921120" y="6419880"/>
            <a:ext cx="20588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© 200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Unicorn IFC</a:t>
            </a:r>
            <a:endParaRPr b="1" lang="en-US" sz="8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-11160" y="1536840"/>
            <a:ext cx="990612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7" name="AutoShape 10"/>
          <p:cNvSpPr/>
          <p:nvPr/>
        </p:nvSpPr>
        <p:spPr>
          <a:xfrm>
            <a:off x="272880" y="2760840"/>
            <a:ext cx="9539280" cy="2753640"/>
          </a:xfrm>
          <a:prstGeom prst="roundRect">
            <a:avLst>
              <a:gd name="adj" fmla="val 16667"/>
            </a:avLst>
          </a:prstGeom>
          <a:solidFill>
            <a:srgbClr val="46667a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yriad Pro Light"/>
              </a:rPr>
              <a:t>Алгоритмический Трейдинг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(АТ)</a:t>
            </a:r>
            <a:endParaRPr b="1" lang="en-US" sz="48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48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правление капиталом в условиях турбулентного рынка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"/>
          <p:cNvSpPr/>
          <p:nvPr/>
        </p:nvSpPr>
        <p:spPr>
          <a:xfrm>
            <a:off x="0" y="1527120"/>
            <a:ext cx="9906120" cy="5330880"/>
          </a:xfrm>
          <a:prstGeom prst="rect">
            <a:avLst/>
          </a:prstGeom>
          <a:solidFill>
            <a:srgbClr val="466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3921120" y="6419880"/>
            <a:ext cx="20588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© 200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Unicorn IFC</a:t>
            </a:r>
            <a:endParaRPr b="1" lang="en-US" sz="8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-11160" y="1536840"/>
            <a:ext cx="990612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857240" y="2182680"/>
            <a:ext cx="56786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НАШИ </a:t>
            </a:r>
            <a:r>
              <a:rPr b="1" lang="ru-RU" sz="3500" spc="-1" strike="noStrike">
                <a:solidFill>
                  <a:srgbClr val="ffffff"/>
                </a:solidFill>
                <a:latin typeface="Myriad Pro Light"/>
              </a:rPr>
              <a:t>КОНТАКТЫ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720880" y="3645000"/>
            <a:ext cx="39052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О «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CORN IFC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050000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спублика Казахстан 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. Алматы, м</a:t>
            </a:r>
            <a:r>
              <a:rPr b="0" lang="ru-RU" sz="2200" spc="-1" strike="noStrike">
                <a:solidFill>
                  <a:srgbClr val="ffffff"/>
                </a:solidFill>
                <a:latin typeface="Myriad Pro Light"/>
              </a:rPr>
              <a:t>-он Баганашыл 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yriad Pro Light"/>
              </a:rPr>
              <a:t>Ул. Сыргабекова 7/2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Myriad Pro Light"/>
              </a:rPr>
              <a:t>Т. +7 (727) 2696283, 2697316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mail: info@unic.kz</a:t>
            </a:r>
            <a:r>
              <a:rPr b="1" lang="ru-RU" sz="2200" spc="-1" strike="noStrike">
                <a:solidFill>
                  <a:srgbClr val="ffffff"/>
                </a:solidFill>
                <a:latin typeface="Myriad Pro Light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Myriad Pro Light"/>
              </a:rPr>
              <a:t>	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60200" y="830160"/>
            <a:ext cx="99061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АТ - определение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399960" y="1909800"/>
            <a:ext cx="86662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415800" y="1824120"/>
            <a:ext cx="904248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"/>
              </a:rPr>
              <a:t>Алгоритмический Трейдинг – вид торговой стратегии, основанной на использовании генетических и нейросетевых алгоритм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950000" y="33894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415800" y="3573360"/>
            <a:ext cx="904248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"/>
              </a:rPr>
              <a:t>Принцип работы «АТ» - отбор наиболее удачных образчиков поведения рынка в прошлом путем комбинации факторов, в точности описывающих историческое поведение рынка, и реализация/закрытие позиции в течение торгового дня.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236520" y="906480"/>
            <a:ext cx="9394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Процедура оценки риск</a:t>
            </a:r>
            <a:r>
              <a:rPr b="1" lang="en-US" sz="3500" spc="-1" strike="noStrike">
                <a:solidFill>
                  <a:srgbClr val="46667a"/>
                </a:solidFill>
                <a:latin typeface="Myriad Pro"/>
              </a:rPr>
              <a:t>/</a:t>
            </a: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доходности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28520" y="1700280"/>
          <a:ext cx="9688680" cy="4626000"/>
        </p:xfrm>
        <a:graphic>
          <a:graphicData uri="http://schemas.openxmlformats.org/drawingml/2006/table">
            <a:tbl>
              <a:tblPr/>
              <a:tblGrid>
                <a:gridCol w="271440"/>
                <a:gridCol w="9417240"/>
              </a:tblGrid>
              <a:tr h="61668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1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Формулировка торговой идеи и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</a:rPr>
                        <a:t>строгое описание правил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52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2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Предварительный тес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На данном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 происходит получение грубого представления о профиле доходности/риск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и отбор устойчивых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 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788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3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Оптимизация и форвардный анализ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Результаты данного шага дают оценку доходности/риска на основе симулирования торговой ситуации на исторических данных. Реальность симуляций достигается за счет оптимизац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 торговой стратег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на 1-м интервале времени и анализ доходности/риска оптимизированно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на последующем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4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Решение об успешност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орговой стратегии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Удовлетворяя набору критериев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риск/доходности,  торговая стратег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с большой долей уверенности считается успешной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1065240" y="1030320"/>
            <a:ext cx="88232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Arial"/>
              </a:rPr>
              <a:t>Р</a:t>
            </a: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иски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298440" y="1757520"/>
          <a:ext cx="9317160" cy="4839840"/>
        </p:xfrm>
        <a:graphic>
          <a:graphicData uri="http://schemas.openxmlformats.org/drawingml/2006/table">
            <a:tbl>
              <a:tblPr/>
              <a:tblGrid>
                <a:gridCol w="723960"/>
                <a:gridCol w="8593200"/>
              </a:tblGrid>
              <a:tr h="84024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1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Ценовой риск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Риск изменения стоимости средств, инвестируемых п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Т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16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2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Модельный риск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Возможность реализации  убытков вследствие признания успешно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Т, не являющейся таковой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36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3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Базисный риск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Кардинальное изменение характера динамики стоимости базисного актива по сравнению с историей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08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4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Операционный риск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Возможность реализации убытков вследствие нестрогого следования сигналам системы, ошибок систем (сбои электричества, проблемы с программным обеспечением и т.д.)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776160" y="974880"/>
            <a:ext cx="774540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Преимущества Подхода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15800" y="1485360"/>
            <a:ext cx="941724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Высокая доходность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"/>
              </a:rPr>
              <a:t>Выгодное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соотношение риск/доходность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Активный Риск Менеджмент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Высокая Ликвидность (гарантия выхода)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Отсутствие кредитного риска контрагента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Минимальные временные затраты на принятие торговых решений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758880"/>
            <a:ext cx="99061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667a"/>
                </a:solidFill>
                <a:latin typeface="Myriad Pro Light"/>
              </a:rPr>
              <a:t>Контроль Рисков</a:t>
            </a:r>
            <a:endParaRPr b="1" lang="en-US" sz="32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>
            <a:off x="3944880" y="2104920"/>
            <a:ext cx="1368360" cy="1152720"/>
          </a:xfrm>
          <a:prstGeom prst="rect">
            <a:avLst/>
          </a:prstGeom>
          <a:noFill/>
          <a:ln w="25560">
            <a:solidFill>
              <a:srgbClr val="466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667a"/>
                </a:solidFill>
                <a:latin typeface="Verdana"/>
              </a:rPr>
              <a:t>«АТ»</a:t>
            </a:r>
            <a:endParaRPr b="1" lang="en-US" sz="28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>
            <a:off x="344520" y="2104920"/>
            <a:ext cx="2735280" cy="1152720"/>
          </a:xfrm>
          <a:prstGeom prst="rect">
            <a:avLst/>
          </a:prstGeom>
          <a:noFill/>
          <a:ln w="25560">
            <a:solidFill>
              <a:srgbClr val="466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667a"/>
                </a:solidFill>
                <a:latin typeface="Verdana"/>
              </a:rPr>
              <a:t>Исходные данные (рынок)</a:t>
            </a:r>
            <a:endParaRPr b="1" lang="en-US" sz="2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2" name=""/>
          <p:cNvSpPr/>
          <p:nvPr/>
        </p:nvSpPr>
        <p:spPr>
          <a:xfrm>
            <a:off x="3081240" y="2681280"/>
            <a:ext cx="86364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3" name=""/>
          <p:cNvSpPr/>
          <p:nvPr/>
        </p:nvSpPr>
        <p:spPr>
          <a:xfrm>
            <a:off x="5313240" y="3112920"/>
            <a:ext cx="316872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481960" y="2060640"/>
            <a:ext cx="863640" cy="3240000"/>
          </a:xfrm>
          <a:prstGeom prst="rect">
            <a:avLst/>
          </a:prstGeom>
          <a:noFill/>
          <a:ln w="25560">
            <a:solidFill>
              <a:srgbClr val="466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667a"/>
                </a:solidFill>
                <a:latin typeface="Verdana"/>
              </a:rPr>
              <a:t>TC</a:t>
            </a:r>
            <a:r>
              <a:rPr b="1" lang="ru-RU" sz="2400" spc="-1" strike="noStrike">
                <a:solidFill>
                  <a:srgbClr val="46667a"/>
                </a:solidFill>
                <a:latin typeface="Verdana"/>
              </a:rPr>
              <a:t>*</a:t>
            </a:r>
            <a:endParaRPr b="1" lang="en-US" sz="24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5313240" y="2249640"/>
            <a:ext cx="316872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5816520" y="2828880"/>
            <a:ext cx="230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667a"/>
                </a:solidFill>
                <a:latin typeface="Verdana"/>
              </a:rPr>
              <a:t>Позиционный сигнал</a:t>
            </a:r>
            <a:endParaRPr b="1" lang="en-US" sz="14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5816520" y="1960560"/>
            <a:ext cx="230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667a"/>
                </a:solidFill>
                <a:latin typeface="Verdana"/>
              </a:rPr>
              <a:t>Сигнал «стоп-ордер»</a:t>
            </a:r>
            <a:endParaRPr b="1" lang="en-US" sz="14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528840" y="5776920"/>
            <a:ext cx="200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667a"/>
                </a:solidFill>
                <a:latin typeface="Verdana"/>
              </a:rPr>
              <a:t>*Торговая система</a:t>
            </a:r>
            <a:endParaRPr b="1" lang="en-US" sz="16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3008160" y="4148280"/>
            <a:ext cx="2016360" cy="1152360"/>
          </a:xfrm>
          <a:prstGeom prst="rect">
            <a:avLst/>
          </a:prstGeom>
          <a:noFill/>
          <a:ln w="25560">
            <a:solidFill>
              <a:srgbClr val="466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667a"/>
                </a:solidFill>
                <a:latin typeface="Verdana"/>
              </a:rPr>
              <a:t>Внешние риск-лимиты</a:t>
            </a:r>
            <a:endParaRPr b="1" lang="en-US" sz="2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>
            <a:off x="5024520" y="4481640"/>
            <a:ext cx="345744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>
            <a:off x="4952880" y="4194000"/>
            <a:ext cx="345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667a"/>
                </a:solidFill>
                <a:latin typeface="Verdana"/>
              </a:rPr>
              <a:t>Предельный «стоп-ордер»</a:t>
            </a:r>
            <a:endParaRPr b="1" lang="en-US" sz="14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5024520" y="4941720"/>
            <a:ext cx="345744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5619960" y="4656240"/>
            <a:ext cx="20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667a"/>
                </a:solidFill>
                <a:latin typeface="Verdana"/>
              </a:rPr>
              <a:t>Предельная просадка</a:t>
            </a:r>
            <a:endParaRPr b="1" lang="en-US" sz="14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0" y="758880"/>
            <a:ext cx="99061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200" spc="-1" strike="noStrike">
                <a:solidFill>
                  <a:srgbClr val="46667a"/>
                </a:solidFill>
                <a:latin typeface="Myriad Pro Light"/>
              </a:rPr>
              <a:t>Профиль Стратегии</a:t>
            </a:r>
            <a:endParaRPr b="1" lang="en-US" sz="32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60360" y="1701720"/>
          <a:ext cx="8840880" cy="2231640"/>
        </p:xfrm>
        <a:graphic>
          <a:graphicData uri="http://schemas.openxmlformats.org/drawingml/2006/table">
            <a:tbl>
              <a:tblPr/>
              <a:tblGrid>
                <a:gridCol w="3152880"/>
                <a:gridCol w="1725480"/>
                <a:gridCol w="1643040"/>
                <a:gridCol w="2319480"/>
              </a:tblGrid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Тип Стратегии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Дох-сть     (% годовых)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Доход под риск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*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 (%)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Предельная просадка (%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*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Консервативная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12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,5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5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Умеренная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2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,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1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Умеренно-агрессивная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3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2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Агрессивная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4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4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6" name="Rectangle 66"/>
          <p:cNvSpPr/>
          <p:nvPr/>
        </p:nvSpPr>
        <p:spPr>
          <a:xfrm>
            <a:off x="415800" y="4226040"/>
            <a:ext cx="885852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Доход под риском (</a:t>
            </a: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VaR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максимально допустимая просадка портфеля в день (измеряется в процентах от рыночной стоимости портфеля).</a:t>
            </a:r>
            <a:endParaRPr b="1" lang="en-US" sz="18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7" name="Rectangle 67"/>
          <p:cNvSpPr/>
          <p:nvPr/>
        </p:nvSpPr>
        <p:spPr>
          <a:xfrm>
            <a:off x="415800" y="4986360"/>
            <a:ext cx="90424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**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Предельная просадка</a:t>
            </a: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устанавливает максимально допустимый уровень просадки, при котором происходит закрытие позиций по текущей стратегии  и пересмотр догово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рительного у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. </a:t>
            </a:r>
            <a:endParaRPr b="1" lang="en-US" sz="18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Object 80"/>
          <p:cNvGraphicFramePr/>
          <p:nvPr/>
        </p:nvGraphicFramePr>
        <p:xfrm>
          <a:off x="1136520" y="1341360"/>
          <a:ext cx="7770960" cy="36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Object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1341360"/>
                    <a:ext cx="777096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2"/>
          <p:cNvSpPr/>
          <p:nvPr/>
        </p:nvSpPr>
        <p:spPr>
          <a:xfrm>
            <a:off x="345960" y="896760"/>
            <a:ext cx="95601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Arial"/>
              </a:rPr>
              <a:t>А</a:t>
            </a: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грессивная стратегия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703440" y="4941720"/>
          <a:ext cx="8929440" cy="1135080"/>
        </p:xfrm>
        <a:graphic>
          <a:graphicData uri="http://schemas.openxmlformats.org/drawingml/2006/table">
            <a:tbl>
              <a:tblPr/>
              <a:tblGrid>
                <a:gridCol w="1800000"/>
                <a:gridCol w="1728720"/>
                <a:gridCol w="1440000"/>
                <a:gridCol w="3960720"/>
              </a:tblGrid>
              <a:tr h="524520">
                <a:tc>
                  <a:txBody>
                    <a:bodyPr lIns="0" rIns="0" tIns="0" bIns="0" anchor="b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ность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иск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од на единицу риска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cor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МТС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.979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75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6 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&amp;P50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7.32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35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0.96)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Text Box 127"/>
          <p:cNvSpPr/>
          <p:nvPr/>
        </p:nvSpPr>
        <p:spPr>
          <a:xfrm>
            <a:off x="704880" y="6199200"/>
            <a:ext cx="83408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С 24 окт. 2007 по 26 марта 2008 в % годовых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без учета комиссионных УК</a:t>
            </a: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иск – средний показатель волатильности за рассматриваемый период</a:t>
            </a: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15840" y="765000"/>
            <a:ext cx="99061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Arial"/>
              </a:rPr>
              <a:t>К</a:t>
            </a:r>
            <a:r>
              <a:rPr b="1" lang="ru-RU" sz="3500" spc="-1" strike="noStrike">
                <a:solidFill>
                  <a:srgbClr val="46667a"/>
                </a:solidFill>
                <a:latin typeface="Myriad Pro Light"/>
              </a:rPr>
              <a:t>онсервативная</a:t>
            </a:r>
            <a:r>
              <a:rPr b="1" lang="ru-RU" sz="3200" spc="-1" strike="noStrike">
                <a:solidFill>
                  <a:srgbClr val="46667a"/>
                </a:solidFill>
                <a:latin typeface="Arial"/>
              </a:rPr>
              <a:t> стратегия</a:t>
            </a:r>
            <a:endParaRPr b="1" lang="en-US" sz="32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614" name="Object 139"/>
          <p:cNvGraphicFramePr/>
          <p:nvPr/>
        </p:nvGraphicFramePr>
        <p:xfrm>
          <a:off x="1380960" y="1413000"/>
          <a:ext cx="717264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5" name="Object 1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0960" y="1413000"/>
                    <a:ext cx="717264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Text Box 137"/>
          <p:cNvSpPr/>
          <p:nvPr/>
        </p:nvSpPr>
        <p:spPr>
          <a:xfrm>
            <a:off x="458640" y="6154560"/>
            <a:ext cx="8597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* с 2 апр. 2008 по 2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июля 2008 в % годовых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без учета комиссионных УК</a:t>
            </a: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иск – средний показатель волатильности за рассматриваемый период</a:t>
            </a: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415800" y="5084640"/>
          <a:ext cx="9001080" cy="1143000"/>
        </p:xfrm>
        <a:graphic>
          <a:graphicData uri="http://schemas.openxmlformats.org/drawingml/2006/table">
            <a:tbl>
              <a:tblPr/>
              <a:tblGrid>
                <a:gridCol w="1800360"/>
                <a:gridCol w="1871640"/>
                <a:gridCol w="1223640"/>
                <a:gridCol w="4105440"/>
              </a:tblGrid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До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одно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Риск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Доход на единицу риска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orn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 Light"/>
                        </a:rPr>
                        <a:t>АТ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34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 Light"/>
                        </a:rPr>
                        <a:t>Xetra Dax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-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9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(0.77)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gridSpan="2">
                  <a:txBody>
                    <a:bodyPr lIns="0" rIns="0" tIns="0" bIns="0" anchor="b">
                      <a:noAutofit/>
                    </a:bodyPr>
                    <a:p>
                      <a:pPr marL="654120" indent="-419040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Omarova</cp:lastModifiedBy>
  <dcterms:modified xsi:type="dcterms:W3CDTF">2008-09-17T09:07:47Z</dcterms:modified>
  <cp:revision>514</cp:revision>
  <dc:subject/>
  <dc:title>Слайд 1</dc:title>
</cp:coreProperties>
</file>