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Img"/>
          </p:nvPr>
        </p:nvSpPr>
        <p:spPr>
          <a:xfrm>
            <a:off x="779400" y="767880"/>
            <a:ext cx="55404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A49C90-8218-42E8-92F5-F806DDF5A633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65F43B-3D32-4245-A6DB-17AE0523C16F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Принцип работы системы заключается в выборе такого исторического поведения рынка, которое наиболее полно отражает текущее движение котировок и которое будет иметь место в краткосрочном будущем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(в течение следующего торгового дня) с большей долей вероятности. На основании этих данных, выставляются лимит и стоп ордера на текущий торговый день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259354-66C8-490F-9B90-B60D7907877C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0E9C91-9CDE-4675-8102-C589EEDC3140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B4393-A654-4914-A73A-9C3C9543E0E3}" type="slidenum">
              <a:rPr b="0" lang="ru-RU" sz="13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1" lang="en-US" sz="13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algn="ctr">
              <a:spcBef>
                <a:spcPts val="1763"/>
              </a:spcBef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35080" indent="0" algn="ctr">
              <a:spcBef>
                <a:spcPts val="1763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63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1" name="Picture 3" descr="Logo"/>
          <p:cNvPicPr/>
          <p:nvPr/>
        </p:nvPicPr>
        <p:blipFill>
          <a:blip r:embed="rId2"/>
          <a:stretch/>
        </p:blipFill>
        <p:spPr>
          <a:xfrm>
            <a:off x="2484360" y="138240"/>
            <a:ext cx="4552920" cy="120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2000"/>
          </a:bodyPr>
          <a:p>
            <a:pPr marL="5061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4360" indent="-3448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11840" indent="-34596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80040" indent="-344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797076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85000"/>
          </a:bodyPr>
          <a:p>
            <a:pPr marL="47628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7542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1033560" indent="-3099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31004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589400" indent="-30888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920920" y="1946160"/>
            <a:ext cx="301788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65000"/>
          </a:bodyPr>
          <a:p>
            <a:pPr marL="3643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57672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790200" indent="-23724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00188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215360" indent="-23616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68040" y="1946160"/>
            <a:ext cx="3840120" cy="40197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77000"/>
          </a:bodyPr>
          <a:p>
            <a:pPr marL="431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936360" indent="-28080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18692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440000" indent="-279720">
              <a:spcBef>
                <a:spcPts val="2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68040" y="893520"/>
            <a:ext cx="7970760" cy="50720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rmAutofit fontScale="81000"/>
          </a:bodyPr>
          <a:p>
            <a:pPr marL="50004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29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296000" indent="-34200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560600" indent="-340560">
              <a:spcBef>
                <a:spcPts val="3538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"/>
          <p:cNvSpPr/>
          <p:nvPr/>
        </p:nvSpPr>
        <p:spPr>
          <a:xfrm>
            <a:off x="0" y="0"/>
            <a:ext cx="9906120" cy="893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pic>
        <p:nvPicPr>
          <p:cNvPr id="39" name="Picture 4" descr="Logo"/>
          <p:cNvPicPr/>
          <p:nvPr/>
        </p:nvPicPr>
        <p:blipFill>
          <a:blip r:embed="rId2"/>
          <a:stretch/>
        </p:blipFill>
        <p:spPr>
          <a:xfrm>
            <a:off x="3581280" y="87480"/>
            <a:ext cx="2853000" cy="7570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575280" indent="-36864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4720" indent="-3715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5092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40000" indent="-36972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28000" indent="-370080">
              <a:spcBef>
                <a:spcPts val="1763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28000" indent="-37008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8040" y="2089080"/>
            <a:ext cx="7970760" cy="267984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68040" y="3536640"/>
            <a:ext cx="7970760" cy="7938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25000"/>
          </a:bodyPr>
          <a:p>
            <a:pPr marL="85680" indent="-856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1" marL="185760" indent="-712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2" marL="285480" indent="-5688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3" marL="399960" indent="-568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4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5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  <a:p>
            <a:pPr lvl="6" marL="514080" indent="-5688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68040" y="1152000"/>
            <a:ext cx="797076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040" y="5180040"/>
            <a:ext cx="7970760" cy="119520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83840" y="3366720"/>
            <a:ext cx="4468680" cy="232092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t">
            <a:normAutofit fontScale="76000"/>
          </a:bodyPr>
          <a:p>
            <a:pPr marL="260640" indent="-26064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564480" indent="-21708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868680" indent="-173520" algn="ctr">
              <a:buClr>
                <a:srgbClr val="000000"/>
              </a:buClr>
              <a:buFont typeface="Gill Sans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1216080" indent="-173520" algn="ctr">
              <a:buClr>
                <a:srgbClr val="000000"/>
              </a:buClr>
              <a:buFont typeface="Gill Sans"/>
              <a:buChar char="–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1563480" indent="-173520" algn="ctr">
              <a:buClr>
                <a:srgbClr val="000000"/>
              </a:buClr>
              <a:buFont typeface="Gill Sans"/>
              <a:buChar char="»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83840" y="990360"/>
            <a:ext cx="4468680" cy="232236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b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68040" y="178920"/>
            <a:ext cx="7970760" cy="1714680"/>
          </a:xfrm>
          <a:prstGeom prst="rect">
            <a:avLst/>
          </a:prstGeom>
          <a:noFill/>
          <a:ln w="0">
            <a:noFill/>
          </a:ln>
        </p:spPr>
        <p:txBody>
          <a:bodyPr lIns="37440" rIns="37440" tIns="37440" bIns="37440" anchor="ctr">
            <a:noAutofit/>
          </a:bodyPr>
          <a:p>
            <a:pPr indent="0" algn="ctr"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0" y="1554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7" name="AutoShape 10"/>
          <p:cNvSpPr/>
          <p:nvPr/>
        </p:nvSpPr>
        <p:spPr>
          <a:xfrm>
            <a:off x="272880" y="2760840"/>
            <a:ext cx="9539280" cy="2753640"/>
          </a:xfrm>
          <a:prstGeom prst="roundRect">
            <a:avLst>
              <a:gd name="adj" fmla="val 16667"/>
            </a:avLst>
          </a:prstGeom>
          <a:solidFill>
            <a:srgbClr val="46667a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yriad Pro Light"/>
              </a:rPr>
              <a:t>Алгоритмический Трейдинг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(АТ)</a:t>
            </a: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8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правление капиталом в условиях турбулентного рынк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0" y="1527120"/>
            <a:ext cx="9906120" cy="5330880"/>
          </a:xfrm>
          <a:prstGeom prst="rect">
            <a:avLst/>
          </a:prstGeom>
          <a:solidFill>
            <a:srgbClr val="466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921120" y="6419880"/>
            <a:ext cx="20588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© 200</a:t>
            </a: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Unicorn IFC</a:t>
            </a:r>
            <a:endParaRPr b="1" lang="en-US" sz="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-11160" y="1536840"/>
            <a:ext cx="990612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857240" y="2182680"/>
            <a:ext cx="56786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НАШИ </a:t>
            </a:r>
            <a:r>
              <a:rPr b="1" lang="ru-RU" sz="3500" spc="-1" strike="noStrike">
                <a:solidFill>
                  <a:srgbClr val="ffffff"/>
                </a:solidFill>
                <a:latin typeface="Myriad Pro Light"/>
              </a:rPr>
              <a:t>КОНТАКТЫ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720880" y="3645000"/>
            <a:ext cx="39052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О 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CORN IFC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50000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спублика Казахстан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. Алматы, м</a:t>
            </a: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-он Баганашыл 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Myriad Pro Light"/>
              </a:rPr>
              <a:t>Ул. Сыргабекова 7/2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Т. +7 (727) 2696283, 2697316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mail: info@unic.kz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Myriad Pro Light"/>
              </a:rPr>
              <a:t>	</a:t>
            </a:r>
            <a:endParaRPr b="1" lang="en-US" sz="22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60200" y="83016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АТ - определение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99960" y="1909800"/>
            <a:ext cx="866628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415800" y="1824120"/>
            <a:ext cx="90424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Алгоритмический Трейдинг – вид торговой стратегии, основанной на использовании генетических и нейросетевых алгоритм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950000" y="33894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415800" y="3573360"/>
            <a:ext cx="904248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Принцип работы «АТ» - отбор наиболее удачных образчиков поведения рынка в прошлом путем комбинации факторов, в точности описывающих историческое поведение рынка, и реализация/закрытие позиции в течение торгового дня.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236520" y="906480"/>
            <a:ext cx="93949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оцедура оценки риск</a:t>
            </a:r>
            <a:r>
              <a:rPr b="1" lang="en-US" sz="3500" spc="-1" strike="noStrike">
                <a:solidFill>
                  <a:srgbClr val="46667a"/>
                </a:solidFill>
                <a:latin typeface="Myriad Pro"/>
              </a:rPr>
              <a:t>/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доходност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128520" y="1700280"/>
          <a:ext cx="9688680" cy="4626000"/>
        </p:xfrm>
        <a:graphic>
          <a:graphicData uri="http://schemas.openxmlformats.org/drawingml/2006/table">
            <a:tbl>
              <a:tblPr/>
              <a:tblGrid>
                <a:gridCol w="271440"/>
                <a:gridCol w="9417240"/>
              </a:tblGrid>
              <a:tr h="6166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Формулировка торговой идеи и 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Myriad Pro"/>
                        </a:rPr>
                        <a:t>строгое описание правил</a:t>
                      </a: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5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варительный тес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данном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е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происходит получение грубого представления о профиле доходности/риск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и отбор устойчивых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8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тимизация и форвардный анализ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зультаты данного шага дают оценку доходности/риска на основе симулирования торговой ситуации на исторических данных. Реальность симуляций достигается за счет оптимизац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1-м интервале времени и анализ доходности/риска оптимизирован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й стратег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на последующем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92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ешение об успешност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орговой стратегии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довлетворяя набору критерие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 риск/доходности,  торговая стратег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с большой долей уверенности считается успешн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1065240" y="1030320"/>
            <a:ext cx="88232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Р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иски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98440" y="1757520"/>
          <a:ext cx="9317160" cy="4839840"/>
        </p:xfrm>
        <a:graphic>
          <a:graphicData uri="http://schemas.openxmlformats.org/drawingml/2006/table">
            <a:tbl>
              <a:tblPr/>
              <a:tblGrid>
                <a:gridCol w="723960"/>
                <a:gridCol w="8593200"/>
              </a:tblGrid>
              <a:tr h="84024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Ценово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Риск изменения стоимости средств, инвестируемых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51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Модель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 убытков вследствие признания успешно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, не являющейся таково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Базис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ардинальное изменение характера динамики стоимости базисного актива по сравнению с историей.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1080"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Операционный риск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Возможность реализации убытков вследствие нестрогого следования сигналам системы, ошибок систем (сбои электричества, проблемы с программным обеспечением и т.д.)</a:t>
                      </a:r>
                      <a:endParaRPr b="1" lang="en-US" sz="18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67320" marR="673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776160" y="974880"/>
            <a:ext cx="774540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Преимущества Подхода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415800" y="1485360"/>
            <a:ext cx="941724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"/>
              </a:rPr>
              <a:t>Выгодное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соотношение риск/доходность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Активный Риск Менеджмент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Высокая Ликвидность (гарантия выхода)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Отсутствие кредитного риска контрагента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  <a:p>
            <a:pPr lvl="1" marL="334800">
              <a:lnSpc>
                <a:spcPct val="100000"/>
              </a:lnSpc>
              <a:buClr>
                <a:srgbClr val="c0c0c0"/>
              </a:buClr>
              <a:buSzPct val="125000"/>
              <a:buFont typeface="Verdana"/>
              <a:buChar char="•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Myriad Pro Light"/>
              </a:rPr>
              <a:t>Минимальные временные затраты на принятие торговых решений</a:t>
            </a:r>
            <a:endParaRPr b="1" lang="en-US" sz="30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Контроль Рисков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>
            <a:off x="3944880" y="2104920"/>
            <a:ext cx="136836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667a"/>
                </a:solidFill>
                <a:latin typeface="Verdana"/>
              </a:rPr>
              <a:t>«АТ»</a:t>
            </a:r>
            <a:endParaRPr b="1" lang="en-US" sz="2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>
            <a:off x="344520" y="2104920"/>
            <a:ext cx="2735280" cy="115272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Исходные данные (рынок)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2" name=""/>
          <p:cNvSpPr/>
          <p:nvPr/>
        </p:nvSpPr>
        <p:spPr>
          <a:xfrm>
            <a:off x="3081240" y="2681280"/>
            <a:ext cx="8636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3" name=""/>
          <p:cNvSpPr/>
          <p:nvPr/>
        </p:nvSpPr>
        <p:spPr>
          <a:xfrm>
            <a:off x="5313240" y="311292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481960" y="2060640"/>
            <a:ext cx="863640" cy="324000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667a"/>
                </a:solidFill>
                <a:latin typeface="Verdana"/>
              </a:rPr>
              <a:t>TC</a:t>
            </a:r>
            <a:r>
              <a:rPr b="1" lang="ru-RU" sz="2400" spc="-1" strike="noStrike">
                <a:solidFill>
                  <a:srgbClr val="46667a"/>
                </a:solidFill>
                <a:latin typeface="Verdana"/>
              </a:rPr>
              <a:t>*</a:t>
            </a:r>
            <a:endParaRPr b="1" lang="en-US" sz="2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5313240" y="2249640"/>
            <a:ext cx="316872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5816520" y="282888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озиционный сигна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5816520" y="1960560"/>
            <a:ext cx="23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Сигнал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528840" y="577692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667a"/>
                </a:solidFill>
                <a:latin typeface="Verdana"/>
              </a:rPr>
              <a:t>*Торговая система</a:t>
            </a:r>
            <a:endParaRPr b="1" lang="en-US" sz="16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3008160" y="4148280"/>
            <a:ext cx="2016360" cy="1152360"/>
          </a:xfrm>
          <a:prstGeom prst="rect">
            <a:avLst/>
          </a:prstGeom>
          <a:noFill/>
          <a:ln w="25560">
            <a:solidFill>
              <a:srgbClr val="4666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667a"/>
                </a:solidFill>
                <a:latin typeface="Verdana"/>
              </a:rPr>
              <a:t>Внешние риск-лимиты</a:t>
            </a:r>
            <a:endParaRPr b="1" lang="en-US" sz="2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5024520" y="448164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4194000"/>
            <a:ext cx="34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ый «стоп-ордер»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5024520" y="4941720"/>
            <a:ext cx="3457440" cy="0"/>
          </a:xfrm>
          <a:prstGeom prst="line">
            <a:avLst/>
          </a:prstGeom>
          <a:ln w="25560">
            <a:solidFill>
              <a:srgbClr val="4666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5619960" y="4656240"/>
            <a:ext cx="205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667a"/>
                </a:solidFill>
                <a:latin typeface="Verdana"/>
              </a:rPr>
              <a:t>Предельная просадка</a:t>
            </a:r>
            <a:endParaRPr b="1" lang="en-US" sz="14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0" y="758880"/>
            <a:ext cx="99061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200" spc="-1" strike="noStrike">
                <a:solidFill>
                  <a:srgbClr val="46667a"/>
                </a:solidFill>
                <a:latin typeface="Myriad Pro Light"/>
              </a:rPr>
              <a:t>Профиль Стратегии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60360" y="1701720"/>
          <a:ext cx="8840880" cy="2231640"/>
        </p:xfrm>
        <a:graphic>
          <a:graphicData uri="http://schemas.openxmlformats.org/drawingml/2006/table">
            <a:tbl>
              <a:tblPr/>
              <a:tblGrid>
                <a:gridCol w="3152880"/>
                <a:gridCol w="1725480"/>
                <a:gridCol w="1643040"/>
                <a:gridCol w="2319480"/>
              </a:tblGrid>
              <a:tr h="915120">
                <a:tc>
                  <a:txBody>
                    <a:bodyPr lIns="0" rIns="0" tIns="0" bIns="0" anchor="ctr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Тип Стратегии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-сть     (% годовых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Доход под риско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 (%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Предельная просадка (%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*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Консерват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2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1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Умеренно-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3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2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Агрессивная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508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"/>
                        </a:rPr>
                        <a:t>4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6" name="Rectangle 66"/>
          <p:cNvSpPr/>
          <p:nvPr/>
        </p:nvSpPr>
        <p:spPr>
          <a:xfrm>
            <a:off x="415800" y="4226040"/>
            <a:ext cx="8858520" cy="6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Доход под риском (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VaR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максимально допустимая просадка портфеля в день (измеряется в процентах от рыночной стоимости портфеля).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  <p:sp>
        <p:nvSpPr>
          <p:cNvPr id="607" name="Rectangle 67"/>
          <p:cNvSpPr/>
          <p:nvPr/>
        </p:nvSpPr>
        <p:spPr>
          <a:xfrm>
            <a:off x="415800" y="4986360"/>
            <a:ext cx="90424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320" rIns="67320" tIns="33840" bIns="338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**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Предельная просадка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Myriad Pro Light"/>
              </a:rPr>
              <a:t>устанавливает максимально допустимый уровень просадки, при котором происходит закрытие позиций по текущей стратегии  и пересмотр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тельного у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Myriad Pro Light"/>
              </a:rPr>
              <a:t>. </a:t>
            </a:r>
            <a:endParaRPr b="1" lang="en-US" sz="18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Object 80"/>
          <p:cNvGraphicFramePr/>
          <p:nvPr/>
        </p:nvGraphicFramePr>
        <p:xfrm>
          <a:off x="1136520" y="1341360"/>
          <a:ext cx="7770960" cy="36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Object 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1341360"/>
                    <a:ext cx="7770960" cy="36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2"/>
          <p:cNvSpPr/>
          <p:nvPr/>
        </p:nvSpPr>
        <p:spPr>
          <a:xfrm>
            <a:off x="345960" y="896760"/>
            <a:ext cx="95601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А</a:t>
            </a:r>
            <a:r>
              <a:rPr b="1" lang="ru-RU" sz="3500" spc="-1" strike="noStrike">
                <a:solidFill>
                  <a:srgbClr val="46667a"/>
                </a:solidFill>
                <a:latin typeface="Myriad Pro"/>
              </a:rPr>
              <a:t>грессивная стратегия</a:t>
            </a:r>
            <a:endParaRPr b="1" lang="en-US" sz="3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703440" y="4941720"/>
          <a:ext cx="8929440" cy="1135080"/>
        </p:xfrm>
        <a:graphic>
          <a:graphicData uri="http://schemas.openxmlformats.org/drawingml/2006/table">
            <a:tbl>
              <a:tblPr/>
              <a:tblGrid>
                <a:gridCol w="1800000"/>
                <a:gridCol w="1728720"/>
                <a:gridCol w="1440000"/>
                <a:gridCol w="3960720"/>
              </a:tblGrid>
              <a:tr h="524520"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ность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cor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МТС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.979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.7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6 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&amp;P500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7.32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35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0.96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Text Box 127"/>
          <p:cNvSpPr/>
          <p:nvPr/>
        </p:nvSpPr>
        <p:spPr>
          <a:xfrm>
            <a:off x="704880" y="6199200"/>
            <a:ext cx="83408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С 24 окт. 2007 по 26 марта 2008 в % годовых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15840" y="765000"/>
            <a:ext cx="99061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334800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3500" spc="-1" strike="noStrike">
                <a:solidFill>
                  <a:srgbClr val="46667a"/>
                </a:solidFill>
                <a:latin typeface="Arial"/>
              </a:rPr>
              <a:t>К</a:t>
            </a:r>
            <a:r>
              <a:rPr b="1" lang="ru-RU" sz="3500" spc="-1" strike="noStrike">
                <a:solidFill>
                  <a:srgbClr val="46667a"/>
                </a:solidFill>
                <a:latin typeface="Myriad Pro Light"/>
              </a:rPr>
              <a:t>онсервативная</a:t>
            </a:r>
            <a:r>
              <a:rPr b="1" lang="ru-RU" sz="3200" spc="-1" strike="noStrike">
                <a:solidFill>
                  <a:srgbClr val="46667a"/>
                </a:solidFill>
                <a:latin typeface="Arial"/>
              </a:rPr>
              <a:t> стратегия</a:t>
            </a:r>
            <a:endParaRPr b="1" lang="en-US" sz="32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4" name="Object 139"/>
          <p:cNvGraphicFramePr/>
          <p:nvPr/>
        </p:nvGraphicFramePr>
        <p:xfrm>
          <a:off x="1380960" y="1413000"/>
          <a:ext cx="717264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1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0960" y="1413000"/>
                    <a:ext cx="717264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Text Box 137"/>
          <p:cNvSpPr/>
          <p:nvPr/>
        </p:nvSpPr>
        <p:spPr>
          <a:xfrm>
            <a:off x="458640" y="6154560"/>
            <a:ext cx="8597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* с 2 апр. 2008 по 2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июля 2008 в % годовых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ез учета комиссионных УК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  <a:p>
            <a:pPr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иск – средний показатель волатильности за рассматриваемый период</a:t>
            </a:r>
            <a:endParaRPr b="1" lang="en-US" sz="1500" spc="-1" strike="noStrike">
              <a:solidFill>
                <a:srgbClr val="46667a"/>
              </a:solidFill>
              <a:latin typeface="Verdan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15800" y="5084640"/>
          <a:ext cx="9001080" cy="1143000"/>
        </p:xfrm>
        <a:graphic>
          <a:graphicData uri="http://schemas.openxmlformats.org/drawingml/2006/table">
            <a:tbl>
              <a:tblPr/>
              <a:tblGrid>
                <a:gridCol w="1800360"/>
                <a:gridCol w="1871640"/>
                <a:gridCol w="1223640"/>
                <a:gridCol w="4105440"/>
              </a:tblGrid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одно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Риск*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Доход на единицу риска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r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АТ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6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34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Myriad Pro Light"/>
                        </a:rPr>
                        <a:t>Xetra Dax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-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9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1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.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%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654120" indent="-419040" algn="ctr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  <a:ea typeface="Arial"/>
                        </a:rPr>
                        <a:t>(0.77)</a:t>
                      </a:r>
                      <a:endParaRPr b="1" lang="en-US" sz="2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 gridSpan="2">
                  <a:txBody>
                    <a:bodyPr lIns="0" rIns="0" tIns="0" bIns="0" anchor="b">
                      <a:noAutofit/>
                    </a:bodyPr>
                    <a:p>
                      <a:pPr marL="654120" indent="-419040">
                        <a:lnSpc>
                          <a:spcPct val="100000"/>
                        </a:lnSpc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235080">
                        <a:lnSpc>
                          <a:spcPct val="100000"/>
                        </a:lnSpc>
                        <a:spcBef>
                          <a:spcPts val="1763"/>
                        </a:spcBef>
                        <a:tabLst>
                          <a:tab algn="l" pos="0"/>
                          <a:tab algn="l" pos="673200"/>
                          <a:tab algn="l" pos="1346040"/>
                          <a:tab algn="l" pos="2019240"/>
                          <a:tab algn="l" pos="2692440"/>
                          <a:tab algn="l" pos="3365640"/>
                          <a:tab algn="l" pos="4038480"/>
                          <a:tab algn="l" pos="4711680"/>
                          <a:tab algn="l" pos="5384880"/>
                          <a:tab algn="l" pos="6058080"/>
                          <a:tab algn="l" pos="6730920"/>
                          <a:tab algn="l" pos="7404120"/>
                          <a:tab algn="l" pos="8077320"/>
                          <a:tab algn="l" pos="8750160"/>
                          <a:tab algn="l" pos="9423360"/>
                          <a:tab algn="l" pos="10096560"/>
                          <a:tab algn="l" pos="10769760"/>
                        </a:tabLst>
                      </a:pPr>
                      <a:endParaRPr b="1" lang="en-US" sz="4000" spc="-1" strike="noStrike">
                        <a:solidFill>
                          <a:srgbClr val="46667a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Omarova</cp:lastModifiedBy>
  <dcterms:modified xsi:type="dcterms:W3CDTF">2008-09-17T09:07:47Z</dcterms:modified>
  <cp:revision>514</cp:revision>
  <dc:subject/>
  <dc:title>Слайд 1</dc:title>
</cp:coreProperties>
</file>