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663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7"/>
          </p:nvPr>
        </p:nvSpPr>
        <p:spPr>
          <a:xfrm>
            <a:off x="377172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856800" y="744120"/>
            <a:ext cx="49532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66720" y="4707000"/>
            <a:ext cx="5329440" cy="445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8"/>
          </p:nvPr>
        </p:nvSpPr>
        <p:spPr>
          <a:xfrm>
            <a:off x="-360" y="940752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9"/>
          </p:nvPr>
        </p:nvSpPr>
        <p:spPr>
          <a:xfrm>
            <a:off x="3771720" y="940752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115FB28-FCAA-498B-AB5E-6AEE3E9463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772080" y="940752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AAB8FB28-D25D-4EE1-839E-33812B3959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857160" y="74448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66720" y="4707000"/>
            <a:ext cx="532944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CC9E-B8D8-401C-B9B8-85213441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60C2-2C5A-4B74-9FBF-F806C1C8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C69A-4C48-4705-B9C3-3ABB83B9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707C-621E-4D74-870D-E351CEA9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764640"/>
            <a:ext cx="8351640" cy="30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DA23-7AF0-4523-A3D0-6DF51AA9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A84E-904A-4622-BA2D-E545BB15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BAFD-471B-4371-A753-635F169F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128A-FEC0-4660-BDB4-A041A7A8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5A10-D733-4DEA-94DF-EC54FB5F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C768-9409-4207-825C-C57F8F48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287A-F413-467A-8CB6-53D7521B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8000" y="764640"/>
            <a:ext cx="8351640" cy="30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6649-E784-4261-A748-E2436310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7242-2061-484F-A61C-3A3BBB36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2353-7459-4D02-B0D4-17307777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B6C0-2E05-47B3-BBB2-B3F3D6A2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E96A-C1AC-4446-81D7-1637E962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716D-DC43-4EBD-93BA-983766C99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E4F0-73E1-4043-ABC0-9D565731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619C-D244-44EC-B25C-5C66A9ED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9EF0-DABF-4EFD-9078-06C63312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000" y="764640"/>
            <a:ext cx="8351640" cy="30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9224-078E-4121-A68C-62371DD9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0658-DBDA-436B-935E-31D653D2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F131-19BD-40EE-AA20-099750CE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471B-4447-45E3-B32B-9C50ED7D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Graphnew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440" y="3086280"/>
            <a:ext cx="9191880" cy="38113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831960"/>
            <a:ext cx="8820000" cy="581040"/>
          </a:xfrm>
          <a:prstGeom prst="rect">
            <a:avLst/>
          </a:prstGeom>
          <a:solidFill>
            <a:srgbClr val="28785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87850"/>
              </a:buClr>
              <a:buSzPct val="120000"/>
              <a:buFont typeface="Microsoft Sans Serif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499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3000" indent="-228600">
              <a:spcBef>
                <a:spcPts val="499"/>
              </a:spcBef>
              <a:buClr>
                <a:srgbClr val="287850"/>
              </a:buClr>
              <a:buSzPct val="120000"/>
              <a:buFont typeface="Microsoft Sans Serif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600200" indent="-228600">
              <a:spcBef>
                <a:spcPts val="499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2057400" indent="-228600">
              <a:spcBef>
                <a:spcPts val="499"/>
              </a:spcBef>
              <a:buClr>
                <a:srgbClr val="287850"/>
              </a:buClr>
              <a:buSzPct val="12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0137-9E2D-4D7D-B1C8-FCBE2211948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97500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28785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939A-D700-4489-8BA8-8724139C452D}" type="slidenum">
              <a:rPr b="1" lang="ru-RU" sz="1200" spc="-1" strike="noStrike">
                <a:solidFill>
                  <a:srgbClr val="287850"/>
                </a:solidFill>
                <a:latin typeface="Microsoft Sans Serif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381720"/>
            <a:ext cx="8785080" cy="0"/>
          </a:xfrm>
          <a:prstGeom prst="line">
            <a:avLst/>
          </a:prstGeom>
          <a:ln w="63360">
            <a:solidFill>
              <a:srgbClr val="2878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6" descr="MICEXnew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317600" y="1376280"/>
            <a:ext cx="7851960" cy="5494320"/>
          </a:xfrm>
          <a:prstGeom prst="rect">
            <a:avLst/>
          </a:prstGeom>
          <a:ln w="0">
            <a:noFill/>
          </a:ln>
        </p:spPr>
      </p:pic>
      <p:sp>
        <p:nvSpPr>
          <p:cNvPr id="45" name="Freeform 11"/>
          <p:cNvSpPr/>
          <p:nvPr/>
        </p:nvSpPr>
        <p:spPr>
          <a:xfrm>
            <a:off x="582480" y="692280"/>
            <a:ext cx="1513080" cy="77760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5"/>
          <p:cNvSpPr/>
          <p:nvPr/>
        </p:nvSpPr>
        <p:spPr>
          <a:xfrm>
            <a:off x="6156360" y="20124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87850"/>
                </a:solidFill>
                <a:latin typeface="Microsoft Sans Serif"/>
              </a:rPr>
              <a:t>2</a:t>
            </a:r>
            <a:r>
              <a:rPr b="1" lang="en-US" sz="1600" spc="-1" strike="noStrike">
                <a:solidFill>
                  <a:srgbClr val="287850"/>
                </a:solidFill>
                <a:latin typeface="Microsoft Sans Serif"/>
              </a:rPr>
              <a:t>6</a:t>
            </a:r>
            <a:r>
              <a:rPr b="1" lang="ru-RU" sz="1600" spc="-1" strike="noStrike">
                <a:solidFill>
                  <a:srgbClr val="287850"/>
                </a:solidFill>
                <a:latin typeface="Microsoft Sans Serif"/>
              </a:rPr>
              <a:t> мая</a:t>
            </a:r>
            <a:r>
              <a:rPr b="1" lang="en-US" sz="1600" spc="-1" strike="noStrike">
                <a:solidFill>
                  <a:srgbClr val="287850"/>
                </a:solidFill>
                <a:latin typeface="Microsoft Sans Serif"/>
              </a:rPr>
              <a:t> </a:t>
            </a:r>
            <a:r>
              <a:rPr b="1" lang="ru-RU" sz="1600" spc="-1" strike="noStrike">
                <a:solidFill>
                  <a:srgbClr val="287850"/>
                </a:solidFill>
                <a:latin typeface="Microsoft Sans Serif"/>
              </a:rPr>
              <a:t>200</a:t>
            </a:r>
            <a:r>
              <a:rPr b="1" lang="en-US" sz="1600" spc="-1" strike="noStrike">
                <a:solidFill>
                  <a:srgbClr val="287850"/>
                </a:solidFill>
                <a:latin typeface="Microsoft Sans Serif"/>
              </a:rPr>
              <a:t>8</a:t>
            </a:r>
            <a:r>
              <a:rPr b="1" lang="ru-RU" sz="1600" spc="-1" strike="noStrike">
                <a:solidFill>
                  <a:srgbClr val="287850"/>
                </a:solidFill>
                <a:latin typeface="Microsoft Sans Serif"/>
              </a:rPr>
              <a:t>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87850"/>
              </a:buClr>
              <a:buSzPct val="120000"/>
              <a:buFont typeface="Microsoft Sans Serif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499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3000" indent="-228600">
              <a:spcBef>
                <a:spcPts val="499"/>
              </a:spcBef>
              <a:buClr>
                <a:srgbClr val="287850"/>
              </a:buClr>
              <a:buSzPct val="120000"/>
              <a:buFont typeface="Microsoft Sans Serif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600200" indent="-228600">
              <a:spcBef>
                <a:spcPts val="499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2057400" indent="-228600">
              <a:spcBef>
                <a:spcPts val="499"/>
              </a:spcBef>
              <a:buClr>
                <a:srgbClr val="287850"/>
              </a:buClr>
              <a:buSzPct val="12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2" descr="Graphnew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440" y="3086280"/>
            <a:ext cx="9191880" cy="38113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0"/>
          <p:cNvSpPr/>
          <p:nvPr/>
        </p:nvSpPr>
        <p:spPr>
          <a:xfrm>
            <a:off x="0" y="831960"/>
            <a:ext cx="8820000" cy="581040"/>
          </a:xfrm>
          <a:prstGeom prst="rect">
            <a:avLst/>
          </a:prstGeom>
          <a:solidFill>
            <a:srgbClr val="28785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87850"/>
              </a:buClr>
              <a:buSzPct val="120000"/>
              <a:buFont typeface="Microsoft Sans Serif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499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2" marL="1143000" indent="-228600">
              <a:spcBef>
                <a:spcPts val="499"/>
              </a:spcBef>
              <a:buClr>
                <a:srgbClr val="287850"/>
              </a:buClr>
              <a:buSzPct val="120000"/>
              <a:buFont typeface="Microsoft Sans Serif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3" marL="1600200" indent="-228600">
              <a:spcBef>
                <a:spcPts val="499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4" marL="2057400" indent="-228600">
              <a:spcBef>
                <a:spcPts val="499"/>
              </a:spcBef>
              <a:buClr>
                <a:srgbClr val="287850"/>
              </a:buClr>
              <a:buSzPct val="12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Sans Serif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36C8-96BC-413D-9CFA-FBCF64CEC8A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697500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287850"/>
                </a:solidFill>
                <a:latin typeface="Microsoft Sans Seri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9EC8-D5AE-4E46-B976-9B22E86F25E9}" type="slidenum">
              <a:rPr b="1" lang="ru-RU" sz="1200" spc="-1" strike="noStrike">
                <a:solidFill>
                  <a:srgbClr val="287850"/>
                </a:solidFill>
                <a:latin typeface="Microsoft Sans Serif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2" name="Line 11"/>
          <p:cNvSpPr/>
          <p:nvPr/>
        </p:nvSpPr>
        <p:spPr>
          <a:xfrm>
            <a:off x="0" y="6381720"/>
            <a:ext cx="8785080" cy="0"/>
          </a:xfrm>
          <a:prstGeom prst="line">
            <a:avLst/>
          </a:prstGeom>
          <a:ln w="63360">
            <a:solidFill>
              <a:srgbClr val="2878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7"/>
          <p:cNvSpPr/>
          <p:nvPr/>
        </p:nvSpPr>
        <p:spPr>
          <a:xfrm>
            <a:off x="4319640" y="317520"/>
            <a:ext cx="504720" cy="252360"/>
          </a:xfrm>
          <a:prstGeom prst="pi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2870280" y="17316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ctr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7850"/>
                </a:solidFill>
                <a:latin typeface="Times New Roman"/>
              </a:rPr>
              <a:t>ММВ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4822920" y="173160"/>
            <a:ext cx="15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89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7850"/>
                </a:solidFill>
                <a:latin typeface="Times New Roman"/>
              </a:rPr>
              <a:t>MIC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2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1480" y="1504800"/>
            <a:ext cx="8266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7850"/>
                </a:solidFill>
                <a:latin typeface="Microsoft Sans Serif"/>
              </a:rPr>
              <a:t>Предпосылки создания</a:t>
            </a:r>
            <a:br>
              <a:rPr sz="2800"/>
            </a:br>
            <a:r>
              <a:rPr b="0" lang="en-US" sz="2800" spc="-1" strike="noStrike">
                <a:solidFill>
                  <a:srgbClr val="287850"/>
                </a:solidFill>
                <a:latin typeface="Microsoft Sans Serif"/>
              </a:rPr>
              <a:t>международного финансового центра в России</a:t>
            </a:r>
            <a:endParaRPr b="1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грамма социально-экономического развития России до 2020 г.</a:t>
            </a:r>
            <a:endParaRPr b="1" lang="en-US" sz="1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7" name="Номер слайда 5"/>
          <p:cNvSpPr/>
          <p:nvPr/>
        </p:nvSpPr>
        <p:spPr>
          <a:xfrm>
            <a:off x="697536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8865-52EE-463E-96EA-D7783E64CB78}" type="slidenum">
              <a:rPr b="1" lang="ru-RU" sz="1200" spc="-1" strike="noStrike">
                <a:solidFill>
                  <a:srgbClr val="287850"/>
                </a:solidFill>
                <a:latin typeface="Microsoft Sans Serif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Rectangle 3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Rectangle 3" descr=""/>
                  <p:cNvPicPr/>
                  <p:nvPr/>
                </p:nvPicPr>
                <p:blipFill>
                  <a:blip r:embed="rId2">
                    <a:alphaModFix amt="70000"/>
                  </a:blip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30A3-7C48-4D52-AD5B-48938ADB1D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Москва — признанный финансовый центр России</a:t>
            </a: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graphicFrame>
        <p:nvGraphicFramePr>
          <p:cNvPr id="191" name="Rectangle 3"/>
          <p:cNvGraphicFramePr/>
          <p:nvPr/>
        </p:nvGraphicFramePr>
        <p:xfrm>
          <a:off x="457200" y="1600200"/>
          <a:ext cx="403848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403848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648320" y="1600200"/>
          <a:ext cx="4038480" cy="4600440"/>
        </p:xfrm>
        <a:graphic>
          <a:graphicData uri="http://schemas.openxmlformats.org/drawingml/2006/table">
            <a:tbl>
              <a:tblPr/>
              <a:tblGrid>
                <a:gridCol w="1065240"/>
                <a:gridCol w="782640"/>
                <a:gridCol w="1315800"/>
                <a:gridCol w="874800"/>
              </a:tblGrid>
              <a:tr h="4590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Топ-10 регионов России по банковским активам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Регио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Активы банков, млрд руб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Объем предоставленных кредитов, млрд руб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Число кредитных организац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Моск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8932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7165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Санкт-Петербур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042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702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Свердловская 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41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01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Московская 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98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22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Тюменская 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74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87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Самарская 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58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10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Республика Татарста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57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01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Новосибирская 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71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37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Краснодарский кра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60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25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Нижегородская обла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42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22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*на 1 января 2008 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Номер слайда 5"/>
          <p:cNvSpPr/>
          <p:nvPr/>
        </p:nvSpPr>
        <p:spPr>
          <a:xfrm>
            <a:off x="697536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15B8-2E53-4CD8-B6F5-E243A4126E2C}" type="slidenum">
              <a:rPr b="1" lang="ru-RU" sz="1200" spc="-1" strike="noStrike">
                <a:solidFill>
                  <a:srgbClr val="287850"/>
                </a:solidFill>
                <a:latin typeface="Microsoft Sans Serif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1C83-4B6E-40CC-A362-41628EC1F7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icrosoft Sans Serif"/>
              </a:rPr>
              <a:t>Положение Москвы среди европейских городов  (рейтинг </a:t>
            </a:r>
            <a:r>
              <a:rPr b="1" lang="en-US" sz="2000" spc="-1" strike="noStrike">
                <a:solidFill>
                  <a:srgbClr val="ffffff"/>
                </a:solidFill>
                <a:latin typeface="Microsoft Sans Serif"/>
              </a:rPr>
              <a:t>ECM)</a:t>
            </a:r>
            <a:endParaRPr b="1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1600200"/>
          <a:ext cx="8229600" cy="4610160"/>
        </p:xfrm>
        <a:graphic>
          <a:graphicData uri="http://schemas.openxmlformats.org/drawingml/2006/table">
            <a:tbl>
              <a:tblPr/>
              <a:tblGrid>
                <a:gridCol w="449280"/>
                <a:gridCol w="3868560"/>
                <a:gridCol w="3911760"/>
              </a:tblGrid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Фак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Желание зарубежных компаний открыть представитель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Стоимость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Доступ к финансовым рын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Квалификация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Внешние транспортные связ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Бизнес-клим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Знание язы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Внутренний тран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Качество жи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Состояние окружающе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468360" y="6453360"/>
            <a:ext cx="7991280" cy="2764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Microsoft Sans Serif"/>
              </a:rPr>
              <a:t>Ист.: </a:t>
            </a:r>
            <a:r>
              <a:rPr b="0" i="1" lang="en-US" sz="1200" spc="-1" strike="noStrike">
                <a:solidFill>
                  <a:srgbClr val="000000"/>
                </a:solidFill>
                <a:latin typeface="Microsoft Sans Serif"/>
              </a:rPr>
              <a:t>Report “The European Cities Monitor 2007”</a:t>
            </a:r>
            <a:r>
              <a:rPr b="0" i="1" lang="ru-RU" sz="12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Microsoft Sans Serif"/>
              </a:rPr>
              <a:t>by Cushman&amp;Wake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4787-A2F4-4782-A0DA-1FEDA6C124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Создание МФЦ в Москве</a:t>
            </a: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065320"/>
            <a:ext cx="4043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87850"/>
              </a:buClr>
              <a:buSzPct val="120000"/>
              <a:buFont typeface="Microsoft Sans Serif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Инвестиции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87850"/>
              </a:buClr>
              <a:buSzPct val="120000"/>
              <a:buFont typeface="Microsoft Sans Serif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Налоги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87850"/>
              </a:buClr>
              <a:buSzPct val="120000"/>
              <a:buFont typeface="Microsoft Sans Serif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Занятость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87850"/>
              </a:buClr>
              <a:buSzPct val="120000"/>
              <a:buFont typeface="Microsoft Sans Serif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Имидж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24360" y="4280040"/>
            <a:ext cx="4348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287850"/>
              </a:buClr>
              <a:buSzPct val="120000"/>
              <a:buFont typeface="Microsoft Sans Serif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Концентрированный офисный центр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287850"/>
              </a:buClr>
              <a:buSzPct val="120000"/>
              <a:buFont typeface="Microsoft Sans Serif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Транспортная инфраструктура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287850"/>
              </a:buClr>
              <a:buSzPct val="120000"/>
              <a:buFont typeface="Microsoft Sans Serif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Безопасность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287850"/>
              </a:buClr>
              <a:buSzPct val="120000"/>
              <a:buFont typeface="Microsoft Sans Serif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Стабильное энергоснабжение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287850"/>
              </a:buClr>
              <a:buSzPct val="120000"/>
              <a:buFont typeface="Microsoft Sans Serif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icrosoft Sans Serif"/>
              </a:rPr>
              <a:t>Современные коммуникации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11280" y="3429000"/>
            <a:ext cx="1830240" cy="14367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219640" y="1700280"/>
            <a:ext cx="1779480" cy="18032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 rot="5400000">
            <a:off x="3456000" y="4299120"/>
            <a:ext cx="1187280" cy="1187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 rot="5400000">
            <a:off x="3455640" y="1930320"/>
            <a:ext cx="1187640" cy="1187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4AD8-8BC8-4456-9A1C-72D56F07CC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8964720" cy="51069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103760" y="3500280"/>
            <a:ext cx="15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entury Gothic"/>
              </a:rPr>
              <a:t>НЬЮ-ЙОРК </a:t>
            </a:r>
            <a:r>
              <a:rPr b="0" lang="en-US" sz="1800" spc="-1" strike="noStrike">
                <a:solidFill>
                  <a:srgbClr val="009999"/>
                </a:solidFill>
                <a:latin typeface="Wingdings"/>
                <a:ea typeface="Wingdings"/>
              </a:rPr>
              <a:t>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19240" y="314172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entury Gothic"/>
              </a:rPr>
              <a:t>ЛОНДОН</a:t>
            </a:r>
            <a:r>
              <a:rPr b="0" lang="en-US" sz="1800" spc="-1" strike="noStrike">
                <a:solidFill>
                  <a:srgbClr val="009999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Wingdings"/>
                <a:ea typeface="Wingdings"/>
              </a:rPr>
              <a:t>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05440" y="335772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entury Gothic"/>
              </a:rPr>
              <a:t>ПАРИЖ </a:t>
            </a:r>
            <a:r>
              <a:rPr b="0" lang="en-US" sz="1800" spc="-1" strike="noStrike">
                <a:solidFill>
                  <a:srgbClr val="009999"/>
                </a:solidFill>
                <a:latin typeface="Wingdings"/>
                <a:ea typeface="Wingdings"/>
              </a:rPr>
              <a:t>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84720" y="321300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Wingdings"/>
                <a:ea typeface="Wingdings"/>
              </a:rPr>
              <a:t>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Century Gothic"/>
              </a:rPr>
              <a:t>ФРАНКФУ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27040" y="306216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</a:t>
            </a:r>
            <a:r>
              <a:rPr b="0" lang="en-US" sz="18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42600" y="4613400"/>
            <a:ext cx="13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Wingdings"/>
                <a:ea typeface="Wingdings"/>
              </a:rPr>
              <a:t></a:t>
            </a:r>
            <a:br>
              <a:rPr sz="1800"/>
            </a:br>
            <a:r>
              <a:rPr b="0" lang="en-US" sz="1800" spc="-1" strike="noStrike">
                <a:solidFill>
                  <a:srgbClr val="009999"/>
                </a:solidFill>
                <a:latin typeface="Century Gothic"/>
              </a:rPr>
              <a:t>СИНГАП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58360" y="414972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Wingdings"/>
                <a:ea typeface="Wingdings"/>
              </a:rPr>
              <a:t></a:t>
            </a:r>
            <a:r>
              <a:rPr b="0" lang="en-US" sz="1800" spc="-1" strike="noStrike">
                <a:solidFill>
                  <a:srgbClr val="009999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Century Gothic"/>
              </a:rPr>
              <a:t>ГОНКО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42640" y="3716280"/>
            <a:ext cx="11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Wingdings"/>
                <a:ea typeface="Wingdings"/>
              </a:rPr>
              <a:t></a:t>
            </a:r>
            <a:r>
              <a:rPr b="0" lang="en-US" sz="1800" spc="-1" strike="noStrike">
                <a:solidFill>
                  <a:srgbClr val="009999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Century Gothic"/>
              </a:rPr>
              <a:t>ТОКИ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Номер слайда 5"/>
          <p:cNvSpPr/>
          <p:nvPr/>
        </p:nvSpPr>
        <p:spPr>
          <a:xfrm>
            <a:off x="697536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942A-E92E-46E3-BCAC-EEDCD15216D4}" type="slidenum">
              <a:rPr b="1" lang="ru-RU" sz="1200" spc="-1" strike="noStrike">
                <a:solidFill>
                  <a:srgbClr val="287850"/>
                </a:solidFill>
                <a:latin typeface="Microsoft Sans Serif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Москва — МФЦ</a:t>
            </a: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E9A2-0450-4CEE-9C94-C18A598032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5"/>
          <p:cNvSpPr/>
          <p:nvPr/>
        </p:nvSpPr>
        <p:spPr>
          <a:xfrm>
            <a:off x="697536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3E07-4059-4C36-9863-A4CC68D4449C}" type="slidenum">
              <a:rPr b="1" lang="ru-RU" sz="1200" spc="-1" strike="noStrike">
                <a:solidFill>
                  <a:srgbClr val="287850"/>
                </a:solidFill>
                <a:latin typeface="Microsoft Sans Serif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Контакты</a:t>
            </a: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87850"/>
              </a:buClr>
              <a:buSzPct val="120000"/>
              <a:buFont typeface="Microsoft Sans Serif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icrosoft Sans Serif"/>
              </a:rPr>
              <a:t>Адрес: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451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125009, Москва, Б. Кисловский пер., 13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287850"/>
              </a:buClr>
              <a:buSzPct val="120000"/>
              <a:buFont typeface="Microsoft Sans Serif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icrosoft Sans Serif"/>
              </a:rPr>
              <a:t>Телефон: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451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(+7 495) 234-48-11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287850"/>
              </a:buClr>
              <a:buSzPct val="120000"/>
              <a:buFont typeface="Microsoft Sans Serif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icrosoft Sans Serif"/>
              </a:rPr>
              <a:t>Факс: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451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(+7 495) 705-96-22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287850"/>
              </a:buClr>
              <a:buSzPct val="120000"/>
              <a:buFont typeface="Microsoft Sans Serif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icrosoft Sans Serif"/>
              </a:rPr>
              <a:t>E-mail: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451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info@micex.com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287850"/>
              </a:buClr>
              <a:buSzPct val="120000"/>
              <a:buFont typeface="Microsoft Sans Serif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icrosoft Sans Serif"/>
              </a:rPr>
              <a:t>Интернет-сервер:</a:t>
            </a:r>
            <a:endParaRPr b="0" lang="en-US" sz="20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spcBef>
                <a:spcPts val="451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www.micex.ru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435D-BCFF-45AA-B3C3-32EE42F7FD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Индекс международных финансовых центров</a:t>
            </a: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600200"/>
          <a:ext cx="4038480" cy="46306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Финансовый цен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Ра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Рейти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Лонд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7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Нью-Йор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7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Гонко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Сингап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Цюр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Франкфу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Жен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Чика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Токи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10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Си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4648320" y="1600200"/>
          <a:ext cx="4038480" cy="46306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Финансовый цен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Ра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Рейти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Пари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Дуб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Шанх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Стокголь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Мил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Мадри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В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Бомб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Р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10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23 (+3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468360" y="6453360"/>
            <a:ext cx="7991280" cy="2764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Microsoft Sans Serif"/>
              </a:rPr>
              <a:t>Ист.: </a:t>
            </a:r>
            <a:r>
              <a:rPr b="0" i="1" lang="en-US" sz="1200" spc="-1" strike="noStrike">
                <a:solidFill>
                  <a:srgbClr val="000000"/>
                </a:solidFill>
                <a:latin typeface="Microsoft Sans Serif"/>
              </a:rPr>
              <a:t>Report “The Global Financial Centers Index 3”</a:t>
            </a:r>
            <a:r>
              <a:rPr b="0" i="1" lang="ru-RU" sz="12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Microsoft Sans Serif"/>
              </a:rPr>
              <a:t>by the Z/Yen  Group for the City of 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9983-4652-4E90-B253-BC6E20F499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Что дает международный финансовый центр стране?</a:t>
            </a: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87850"/>
              </a:buClr>
              <a:buSzPct val="120000"/>
              <a:buFont typeface="Microsoft Sans Serif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Мобилизует внутренние и внешние инвестиции и обеспечивает ускорение темпов роста ВВП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spcBef>
                <a:spcPts val="451"/>
              </a:spcBef>
              <a:buClr>
                <a:srgbClr val="287850"/>
              </a:buClr>
              <a:buSzPct val="120000"/>
              <a:buFont typeface="Microsoft Sans Serif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Приток квалифицированных кадров позволяет мобилизовать передовой опыт и знания и обеспечить инновационный рост экономики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spcBef>
                <a:spcPts val="451"/>
              </a:spcBef>
              <a:buClr>
                <a:srgbClr val="287850"/>
              </a:buClr>
              <a:buSzPct val="120000"/>
              <a:buFont typeface="Microsoft Sans Serif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Вовлеченность в глобальный финансовый рынок позволяет получить синергетический эффект от роста международной торговли и мировой экономики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-343080">
              <a:spcBef>
                <a:spcPts val="451"/>
              </a:spcBef>
              <a:buClr>
                <a:srgbClr val="287850"/>
              </a:buClr>
              <a:buSzPct val="120000"/>
              <a:buFont typeface="Microsoft Sans Serif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Создает новые возможности для увеличения благосостояния страны и ее граждан</a:t>
            </a:r>
            <a:endParaRPr b="0" lang="en-US" sz="1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4457880"/>
            <a:ext cx="8136000" cy="916920"/>
          </a:xfrm>
          <a:prstGeom prst="rect">
            <a:avLst/>
          </a:prstGeom>
          <a:solidFill>
            <a:srgbClr val="008000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icrosoft Sans Serif"/>
              </a:rPr>
              <a:t>Построение и развитие МФЦ может происходить только в результате целенаправленной и активной политики со стороны правительства, муниципальных властей и бизнес-сообщества ст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2238-63A2-40A1-AB92-D255E544E7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Бурный рост объема торгов на биржевых рынках России</a:t>
            </a: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graphicFrame>
        <p:nvGraphicFramePr>
          <p:cNvPr id="148" name="Rectangle 3"/>
          <p:cNvGraphicFramePr/>
          <p:nvPr/>
        </p:nvGraphicFramePr>
        <p:xfrm>
          <a:off x="460440" y="1603440"/>
          <a:ext cx="4032360" cy="21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3440"/>
                    <a:ext cx="403236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Rectangle 3"/>
          <p:cNvGraphicFramePr/>
          <p:nvPr/>
        </p:nvGraphicFramePr>
        <p:xfrm>
          <a:off x="4649760" y="1603440"/>
          <a:ext cx="4032360" cy="218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9760" y="1603440"/>
                    <a:ext cx="403236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Rectangle 3"/>
          <p:cNvGraphicFramePr/>
          <p:nvPr/>
        </p:nvGraphicFramePr>
        <p:xfrm>
          <a:off x="460440" y="3935520"/>
          <a:ext cx="4032360" cy="21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Rectangle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0440" y="3935520"/>
                    <a:ext cx="403236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Rectangle 3"/>
          <p:cNvGraphicFramePr/>
          <p:nvPr/>
        </p:nvGraphicFramePr>
        <p:xfrm>
          <a:off x="4649760" y="3935520"/>
          <a:ext cx="4032360" cy="2187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Rectangle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9760" y="3935520"/>
                    <a:ext cx="403236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68400" y="6453360"/>
            <a:ext cx="42987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icrosoft Sans Serif"/>
              </a:rPr>
              <a:t>* — январь–апрел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68360" y="3645000"/>
            <a:ext cx="223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icrosoft Sans Serif"/>
              </a:rPr>
              <a:t>Рост за три года в 9,4 р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3640" y="364500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icrosoft Sans Serif"/>
              </a:rPr>
              <a:t>Рост за три года в 7р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6033960"/>
            <a:ext cx="2232360" cy="459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icrosoft Sans Serif"/>
              </a:rPr>
              <a:t>Рост за три года в 5,6 р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72360" y="6033960"/>
            <a:ext cx="2303280" cy="459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Microsoft Sans Serif"/>
              </a:rPr>
              <a:t>Рост за три года в 23,4 р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3B9B-9813-44F2-800C-34A506917D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5"/>
          <p:cNvSpPr/>
          <p:nvPr/>
        </p:nvSpPr>
        <p:spPr>
          <a:xfrm>
            <a:off x="697536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6B63-F6D3-4E37-A442-2990BBC86FE0}" type="slidenum">
              <a:rPr b="1" lang="ru-RU" sz="1200" spc="-1" strike="noStrike">
                <a:solidFill>
                  <a:srgbClr val="287850"/>
                </a:solidFill>
                <a:latin typeface="Microsoft Sans Serif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icrosoft Sans Serif"/>
              </a:rPr>
              <a:t>Группа ММВБ вошла в TOP 20 мировых бирж</a:t>
            </a: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01760"/>
                <a:gridCol w="2544480"/>
                <a:gridCol w="1005120"/>
                <a:gridCol w="334800"/>
                <a:gridCol w="335160"/>
                <a:gridCol w="2477880"/>
                <a:gridCol w="1130400"/>
              </a:tblGrid>
              <a:tr h="531720">
                <a:tc gridSpan="7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Рэнкинг бирж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по среднедневному обороту торгов акциями и облигациями в 2007 г.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Бирж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Оборот,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млрд долл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Бирж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Оборот,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млрд долл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NYSE Grou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17,78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Sao Paulo 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5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Nasdaq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1,77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Oslo Bø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2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London 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1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3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JS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72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43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Tokyo SE Grou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6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1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Singapore Exchan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4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7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Euronex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2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78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Bombay 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0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43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Deutsche Bör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7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3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Istanbul 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0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Shanghai 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6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1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Osaka 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07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BME Spanish Exchange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1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98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Bursa Malays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8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396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Borsa Italia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9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2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Athens Exchan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8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Hong Kong Exchang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8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2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Irish 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5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396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Shenzhen 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8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8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Wiener Bör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2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Korea Exchan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8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1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Mexican Exchan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0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Swiss Exchan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7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1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Thailand 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8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43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OMX Nordic Exchan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7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1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Jakarta 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6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TSX Group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5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Tel Aviv 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1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Australian 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6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Warsaw 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5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Группа ММВ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90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Cairo &amp; Alexandria 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4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Taiwan SE Corp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07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Santiago 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0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National Stock Exchange Ind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07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Budapest S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9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American 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70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Philippine 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2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4" name="Прямоугольник 4"/>
          <p:cNvSpPr/>
          <p:nvPr/>
        </p:nvSpPr>
        <p:spPr>
          <a:xfrm>
            <a:off x="525600" y="6448320"/>
            <a:ext cx="8223120" cy="368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Microsoft Sans Serif"/>
              </a:rPr>
              <a:t>Составлен по данным WFE и МАБ СНГ;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Microsoft Sans Serif"/>
              </a:rPr>
              <a:t>оборот торгов акциями, корпоративными и государственными облигациями без учета операций репо и первичных размещени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FAAA-9AAE-4F76-A2D8-BCF079F5D6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Rectangle 3"/>
          <p:cNvGraphicFramePr/>
          <p:nvPr/>
        </p:nvGraphicFramePr>
        <p:xfrm>
          <a:off x="4648320" y="1600200"/>
          <a:ext cx="403848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0200"/>
                    <a:ext cx="403848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Microsoft Sans Serif"/>
              </a:rPr>
              <a:t>Москва — основной центр ценообразования на фондовые активы российских компаний</a:t>
            </a:r>
            <a:endParaRPr b="1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8" name="Номер слайда 5"/>
          <p:cNvSpPr/>
          <p:nvPr/>
        </p:nvSpPr>
        <p:spPr>
          <a:xfrm>
            <a:off x="697536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CDFF-6FA7-4164-917E-D36D4ACFB48F}" type="slidenum">
              <a:rPr b="1" lang="ru-RU" sz="1200" spc="-1" strike="noStrike">
                <a:solidFill>
                  <a:srgbClr val="287850"/>
                </a:solidFill>
                <a:latin typeface="Microsoft Sans Serif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Rectangle 3"/>
          <p:cNvGraphicFramePr/>
          <p:nvPr/>
        </p:nvGraphicFramePr>
        <p:xfrm>
          <a:off x="471600" y="1600200"/>
          <a:ext cx="4010040" cy="452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00" y="1600200"/>
                    <a:ext cx="401004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63FE-0A34-4D3A-A33A-83A75754C6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Интернационализация российского финансового рынка</a:t>
            </a: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graphicFrame>
        <p:nvGraphicFramePr>
          <p:cNvPr id="172" name="Rectangle 3"/>
          <p:cNvGraphicFramePr/>
          <p:nvPr/>
        </p:nvGraphicFramePr>
        <p:xfrm>
          <a:off x="457200" y="1627200"/>
          <a:ext cx="4038480" cy="44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27200"/>
                    <a:ext cx="4038480" cy="44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Rectangle 3"/>
          <p:cNvGraphicFramePr/>
          <p:nvPr/>
        </p:nvGraphicFramePr>
        <p:xfrm>
          <a:off x="4648320" y="1627200"/>
          <a:ext cx="4038480" cy="447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627200"/>
                    <a:ext cx="4038480" cy="44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539640" y="6453360"/>
            <a:ext cx="1871640" cy="24624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Microsoft Sans Serif"/>
              </a:rPr>
              <a:t>*  — январь–апрель2008 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омер слайда 5"/>
          <p:cNvSpPr/>
          <p:nvPr/>
        </p:nvSpPr>
        <p:spPr>
          <a:xfrm>
            <a:off x="697536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EB21-7040-4DB0-8C70-E9C07775B0A9}" type="slidenum">
              <a:rPr b="1" lang="ru-RU" sz="1200" spc="-1" strike="noStrike">
                <a:solidFill>
                  <a:srgbClr val="287850"/>
                </a:solidFill>
                <a:latin typeface="Microsoft Sans Serif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98AA-916A-49AF-99E2-01B45A9F6E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icrosoft Sans Serif"/>
              </a:rPr>
              <a:t>МФЦ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Microsoft Sans Serif"/>
              </a:rPr>
              <a:t>и фондовые биржи</a:t>
            </a: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1600200"/>
          <a:ext cx="4038480" cy="4525560"/>
        </p:xfrm>
        <a:graphic>
          <a:graphicData uri="http://schemas.openxmlformats.org/drawingml/2006/table">
            <a:tbl>
              <a:tblPr/>
              <a:tblGrid>
                <a:gridCol w="1162080"/>
                <a:gridCol w="792000"/>
                <a:gridCol w="2084400"/>
              </a:tblGrid>
              <a:tr h="76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Финансовый цент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Рэнкинг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GF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Наличие биржи, ее место в мировом рейтинге бирж по объему торгов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Лонд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Нью-Йор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 и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Гонкон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Сингапу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Цюр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Франкфу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Жене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н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Чика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н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Токи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Сидн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648320" y="1600200"/>
          <a:ext cx="4038480" cy="4525560"/>
        </p:xfrm>
        <a:graphic>
          <a:graphicData uri="http://schemas.openxmlformats.org/drawingml/2006/table">
            <a:tbl>
              <a:tblPr/>
              <a:tblGrid>
                <a:gridCol w="1218960"/>
                <a:gridCol w="735120"/>
                <a:gridCol w="2084400"/>
              </a:tblGrid>
              <a:tr h="76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Финансовый центр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Рэнкинг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GF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Наличие биржи, ее место в мировом рейтинге бирж по объему торгов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Бост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н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Сан-Франциск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н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Дубл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Париж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Торонт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Джерс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н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Люксембур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Эдинбур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н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Гернс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н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Вашингт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н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468360" y="6453360"/>
            <a:ext cx="6264360" cy="2764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Microsoft Sans Serif"/>
              </a:rPr>
              <a:t>* По данным </a:t>
            </a:r>
            <a:r>
              <a:rPr b="0" i="1" lang="en-US" sz="1200" spc="-1" strike="noStrike">
                <a:solidFill>
                  <a:srgbClr val="000000"/>
                </a:solidFill>
                <a:latin typeface="Microsoft Sans Serif"/>
              </a:rPr>
              <a:t>World Federation of Exchanges </a:t>
            </a:r>
            <a:r>
              <a:rPr b="0" i="1" lang="ru-RU" sz="1200" spc="-1" strike="noStrike">
                <a:solidFill>
                  <a:srgbClr val="000000"/>
                </a:solidFill>
                <a:latin typeface="Microsoft Sans Serif"/>
              </a:rPr>
              <a:t>и МАБ С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B3DC-7E1F-4586-BBF2-660F8C9589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516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oft Sans Serif"/>
              </a:rPr>
              <a:t>Основные факторы конкурентоспособности МФЦ </a:t>
            </a:r>
            <a:endParaRPr b="1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19600" cy="47084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Microsoft Sans Serif"/>
              </a:rPr>
              <a:t>Развитие финансовых рынков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Microsoft Sans Serif"/>
              </a:rPr>
              <a:t>Обороты торгов финансовыми инструментами</a:t>
            </a: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Microsoft Sans Serif"/>
              </a:rPr>
              <a:t>Разнообразие финансовых услуг</a:t>
            </a: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Microsoft Sans Serif"/>
              </a:rPr>
              <a:t>Доля международных финансов</a:t>
            </a: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icrosoft Sans Serif"/>
              </a:rPr>
              <a:t>Бизнес-климат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crosoft Sans Serif"/>
              </a:rPr>
              <a:t>Регулирование финансовой сферы</a:t>
            </a: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crosoft Sans Serif"/>
              </a:rPr>
              <a:t>Налогообложение</a:t>
            </a: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crosoft Sans Serif"/>
              </a:rPr>
              <a:t>Уровень коррупции, экономическая свобода и простота ведения бизнеса</a:t>
            </a: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icrosoft Sans Serif"/>
              </a:rPr>
              <a:t>Инфраструктура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crosoft Sans Serif"/>
              </a:rPr>
              <a:t>Качество, стоимость и доступность коммерческой недвижимости</a:t>
            </a: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crosoft Sans Serif"/>
              </a:rPr>
              <a:t>Энергобезопасность и надежность электронных коммуникаций </a:t>
            </a: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crosoft Sans Serif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icrosoft Sans Serif"/>
              </a:rPr>
              <a:t>Рынок труда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crosoft Sans Serif"/>
              </a:rPr>
              <a:t>Квалифицированный персонал </a:t>
            </a: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crosoft Sans Serif"/>
              </a:rPr>
              <a:t>Развитость бизнес-образования</a:t>
            </a: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crosoft Sans Serif"/>
              </a:rPr>
              <a:t>Качество жизни</a:t>
            </a: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icrosoft Sans Serif"/>
              </a:rPr>
              <a:t>Общие факторы</a:t>
            </a:r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287850"/>
              </a:buClr>
              <a:buSzPct val="120000"/>
              <a:buFont typeface="Microsoft Sans Serif"/>
              <a:buChar char="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crosoft Sans Serif"/>
              </a:rPr>
              <a:t>Брэнд. Экология. Общие впечатл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icrosoft Sans Serif"/>
              </a:rPr>
              <a:t>о городе</a:t>
            </a:r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356000" y="1600200"/>
          <a:ext cx="4537080" cy="4446720"/>
        </p:xfrm>
        <a:graphic>
          <a:graphicData uri="http://schemas.openxmlformats.org/drawingml/2006/table">
            <a:tbl>
              <a:tblPr/>
              <a:tblGrid>
                <a:gridCol w="482760"/>
                <a:gridCol w="3152880"/>
                <a:gridCol w="901440"/>
              </a:tblGrid>
              <a:tr h="5202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Приоритетность факторов конкурентоспособ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Факт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Средний бал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Доступность квалифицированного персона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Регулятивная ба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Microsoft Sans Serif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33399"/>
                          </a:solidFill>
                          <a:latin typeface="Microsoft Sans Serif"/>
                        </a:rPr>
                        <a:t>Доступ к международным финансовым рынк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Microsoft Sans Serif"/>
                        </a:rPr>
                        <a:t>5</a:t>
                      </a:r>
                      <a:r>
                        <a:rPr b="0" lang="ru-RU" sz="1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Microsoft Sans Serif"/>
                        </a:rPr>
                        <a:t>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Инфраструкту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Доступ к клиент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Благоприятный бизнес-клима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Ответственность и заинтересованность государственных орган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Налогообложение корпоративного секто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Операционные затра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Доступ к профессиональным услуг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Качество жи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Культура и язы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Качество, цена и доступность коммерческой недвижим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Налогообложение доходов физических ли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468360" y="6453360"/>
            <a:ext cx="7991280" cy="2764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Microsoft Sans Serif"/>
              </a:rPr>
              <a:t>Ист.: </a:t>
            </a:r>
            <a:r>
              <a:rPr b="0" i="1" lang="en-US" sz="1200" spc="-1" strike="noStrike">
                <a:solidFill>
                  <a:srgbClr val="000000"/>
                </a:solidFill>
                <a:latin typeface="Microsoft Sans Serif"/>
              </a:rPr>
              <a:t>Report “The Global Financial Centers Index 3”</a:t>
            </a:r>
            <a:r>
              <a:rPr b="0" i="1" lang="ru-RU" sz="12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Microsoft Sans Serif"/>
              </a:rPr>
              <a:t>by the Z/Yen  Group for the City of 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DE64-9493-4C0C-A370-91FFD0378A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08:14:04Z</dcterms:created>
  <dc:creator/>
  <dc:description/>
  <dc:language>en-US</dc:language>
  <cp:lastModifiedBy>Omarova</cp:lastModifiedBy>
  <dcterms:modified xsi:type="dcterms:W3CDTF">2008-09-17T08:21:36Z</dcterms:modified>
  <cp:revision>670</cp:revision>
  <dc:subject/>
  <dc:title>MICEX at Glance</dc:title>
</cp:coreProperties>
</file>