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31D8-2DD3-4720-A736-E179437953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AA2A-3400-45B1-A0B2-6357690FD9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D57A-0DB4-4CD2-B34A-8205847C07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BE2C-1F21-4640-862A-91122532AF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2831-142B-4209-8A8A-AC2AFBBB6E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409A-D9A3-4EDD-BBE5-20EB267BE8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58E2-0377-4AD7-A814-A340235BB0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29D7-B341-4DFB-8BAB-055BD24E3C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F2ED-9A5C-473A-B92D-BDEBE8AEE8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75C6-C297-46FC-91B2-36E96E9BC3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7EBC-59BB-4F4E-9445-01255E2C8A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9BB3-2989-48FD-8DF4-885BD63F33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FCB6-F1F4-4735-805E-E821243A8E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1F8A-E587-40FA-B998-225F7C521E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6BB2-42E0-4B83-AF69-2CFE2C2B31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E4FC-7BF3-4609-89CA-11DB5D6BDA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26A-F067-4AD3-AABB-F47B66B2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5261-26F7-492F-BD5B-85EA07DF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5E0-968D-464A-A974-012B3415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9CC4-EDD8-4C4A-A668-090DAE98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056-6379-4FB8-96D1-26FDFC07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D66-2017-462E-92E4-1838964D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EE8-BCE8-49A4-B952-990492C8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9ED3-1187-4F82-B08E-3303BA6C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771A-6CFF-4A71-A41B-CC5393D4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D17-1C2B-4519-B852-0AA2C046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848-FACB-4CF1-BEA5-60D7F79C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0204-0915-48DE-B0C6-C5B2707A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B42A-D629-4120-877A-7C80C2960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KASE_Last"/>
          <p:cNvPicPr/>
          <p:nvPr/>
        </p:nvPicPr>
        <p:blipFill>
          <a:blip r:embed="rId1"/>
          <a:stretch/>
        </p:blipFill>
        <p:spPr>
          <a:xfrm>
            <a:off x="7842240" y="189000"/>
            <a:ext cx="1079640" cy="93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708360" y="2933640"/>
            <a:ext cx="521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овая версия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eb-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айта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4356000" y="299880"/>
            <a:ext cx="3400560" cy="72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2" descr="сканирование0004"/>
          <p:cNvPicPr/>
          <p:nvPr/>
        </p:nvPicPr>
        <p:blipFill>
          <a:blip r:embed="rId3"/>
          <a:stretch/>
        </p:blipFill>
        <p:spPr>
          <a:xfrm>
            <a:off x="0" y="0"/>
            <a:ext cx="360504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Эмит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614520" y="1117440"/>
            <a:ext cx="854856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По каждому эмитенту дан максимальный объём актуальной информаци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Общая информ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Рыночная стоимость компа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Список инстру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Акционеры (с возможностью просмотра архив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Финансовые показате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Документы за всю историю разделенные по групп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Последние 10 новостей эмитен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main.jpg"/>
          <p:cNvPicPr/>
          <p:nvPr/>
        </p:nvPicPr>
        <p:blipFill>
          <a:blip r:embed="rId1"/>
          <a:stretch/>
        </p:blipFill>
        <p:spPr>
          <a:xfrm>
            <a:off x="0" y="-1860480"/>
            <a:ext cx="9144000" cy="1908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30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ндекс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K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2"/>
          <p:cNvSpPr/>
          <p:nvPr/>
        </p:nvSpPr>
        <p:spPr>
          <a:xfrm>
            <a:off x="349200" y="1117440"/>
            <a:ext cx="8548560" cy="66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Значение индекса рассчитывается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on-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редставительский список акций с ценами, трендами и долей влияния на индек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Уже знакомый механизм графи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Архивная выборка в удобном формате + Архив индекса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KASE_Shares,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числовой ряд которого продолжает Индекс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K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следние 10 новостей с упоминанием Индекса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K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 Narrow"/>
              </a:rPr>
              <a:t>И ВСЕ ЭТО БЕСПЛАТНО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main.jpg"/>
          <p:cNvPicPr/>
          <p:nvPr/>
        </p:nvPicPr>
        <p:blipFill>
          <a:blip r:embed="rId1"/>
          <a:stretch/>
        </p:blipFill>
        <p:spPr>
          <a:xfrm>
            <a:off x="0" y="-1860480"/>
            <a:ext cx="9144000" cy="181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30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Фор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2"/>
          <p:cNvSpPr/>
          <p:nvPr/>
        </p:nvSpPr>
        <p:spPr>
          <a:xfrm>
            <a:off x="349200" y="1468440"/>
            <a:ext cx="85485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Новое программное обеспечение – новые возмож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пуляризация фондового рынка находит отражение и на форуме, а значит там формируется интересная аудитория из различных слоев финансовой сферы: и проф. участники, и новички, и работники бирж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Форум – саморазвивающаяся структура, возможно ваше участие в форуме сделает его интересне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14480" y="15228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-361800" y="4935600"/>
            <a:ext cx="289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050000, Казахста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г. Алматы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. Достык, 291/3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6" descr="KASE_Last"/>
          <p:cNvPicPr/>
          <p:nvPr/>
        </p:nvPicPr>
        <p:blipFill>
          <a:blip r:embed="rId1"/>
          <a:stretch/>
        </p:blipFill>
        <p:spPr>
          <a:xfrm>
            <a:off x="2793960" y="4583160"/>
            <a:ext cx="1935360" cy="167652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5054760" y="4935600"/>
            <a:ext cx="408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елефоны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 (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7)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37 53 00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72 98 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акс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7)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272 09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-mail: kase@kase.kz </a:t>
            </a:r>
            <a:br>
              <a:rPr sz="2000"/>
            </a:br>
            <a:r>
              <a:rPr b="0" lang="en-US" sz="2000" spc="-1" strike="noStrike">
                <a:solidFill>
                  <a:srgbClr val="005799"/>
                </a:solidFill>
                <a:latin typeface="Arial Narrow"/>
              </a:rPr>
              <a:t>www.kase.k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73280" y="2317680"/>
            <a:ext cx="7621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главное – мы всегда открыты для конструктивного диалога и комментариев, т.к. верим что ничего невозможного н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14480" y="9540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Совершенно новый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web-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сай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2"/>
          <p:cNvSpPr/>
          <p:nvPr/>
        </p:nvSpPr>
        <p:spPr>
          <a:xfrm>
            <a:off x="433440" y="1228680"/>
            <a:ext cx="8548560" cy="43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4960" indent="-14349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Поменялось все:</a:t>
            </a:r>
            <a:br>
              <a:rPr sz="26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34960" indent="-1434960">
              <a:lnSpc>
                <a:spcPct val="2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Идеолог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34960" indent="-1434960">
              <a:lnSpc>
                <a:spcPct val="2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рограммная платфор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34960" indent="-1434960">
              <a:lnSpc>
                <a:spcPct val="2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Методика поддержки и обно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34960" indent="-1434960">
              <a:lnSpc>
                <a:spcPct val="20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Дизай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ma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38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Нов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2"/>
          <p:cNvSpPr/>
          <p:nvPr/>
        </p:nvSpPr>
        <p:spPr>
          <a:xfrm>
            <a:off x="349200" y="1517760"/>
            <a:ext cx="8548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Так ж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как и раньше делятся на новости рынка,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KASE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и новости сай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 многочисленным просьбам добавили возможность получать свежие новости по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R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0360" y="4273560"/>
            <a:ext cx="6083280" cy="204480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5"/>
          <p:cNvSpPr/>
          <p:nvPr/>
        </p:nvSpPr>
        <p:spPr>
          <a:xfrm>
            <a:off x="7194600" y="4273560"/>
            <a:ext cx="419040" cy="399960"/>
          </a:xfrm>
          <a:prstGeom prst="roundRect">
            <a:avLst>
              <a:gd name="adj" fmla="val 16667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Акции – общая стра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349200" y="1868400"/>
            <a:ext cx="854856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Нет списка всех акций, но есть поиск по коду и названию эмитен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Наиболее ликвидные акции за различные перио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следние 10 сделок по акци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Реестр сделок в удобном для Вас формате (вывод на экран,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icrosoft Excel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или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omma Separated Values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main.jpg"/>
          <p:cNvPicPr/>
          <p:nvPr/>
        </p:nvPicPr>
        <p:blipFill>
          <a:blip r:embed="rId1"/>
          <a:stretch/>
        </p:blipFill>
        <p:spPr>
          <a:xfrm>
            <a:off x="0" y="-1816200"/>
            <a:ext cx="9144000" cy="132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Акции – страница конкретной 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2"/>
          <p:cNvSpPr/>
          <p:nvPr/>
        </p:nvSpPr>
        <p:spPr>
          <a:xfrm>
            <a:off x="349200" y="1246320"/>
            <a:ext cx="854856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следние значения за сегодня, вчера, и последние 52 неде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График по архиву с расширенным функционал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следние 10 сдел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Характеристика инструмента и выпус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Краткая информация об эмитенте и полный список инструментов этого эмитен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Последние 10 новостей компании с возможностью просмотра архива с декабря 1998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main.jpg"/>
          <p:cNvPicPr/>
          <p:nvPr/>
        </p:nvPicPr>
        <p:blipFill>
          <a:blip r:embed="rId1"/>
          <a:stretch/>
        </p:blipFill>
        <p:spPr>
          <a:xfrm>
            <a:off x="0" y="-1860480"/>
            <a:ext cx="9144000" cy="2181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30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-27000"/>
            <a:ext cx="9144000" cy="95724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14480" y="115920"/>
            <a:ext cx="90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Акции – архивный граф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5160" y="1457280"/>
            <a:ext cx="9029520" cy="43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07:44:47Z</dcterms:created>
  <dc:creator>Azamat</dc:creator>
  <dc:description/>
  <dc:language>en-US</dc:language>
  <cp:lastModifiedBy>Omarova</cp:lastModifiedBy>
  <dcterms:modified xsi:type="dcterms:W3CDTF">2008-09-17T09:40:19Z</dcterms:modified>
  <cp:revision>971</cp:revision>
  <dc:subject/>
  <dc:title>Презентация PowerPoint</dc:title>
</cp:coreProperties>
</file>