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1C1-21B9-449E-BCE9-75619962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14A-2445-4DEA-845A-6379A7F8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D5A-F49D-4788-825A-B4372D78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D71-1CA9-46B3-A878-F56EC029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FA9-1EB5-4C59-B6CC-E39F536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358-2C5A-42B7-A7A4-3EE05E8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A9-2D24-4162-8EBC-62D009EC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C51-9A5D-49ED-BB3F-2FEAABB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9343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AFA-7100-4F0B-A59D-807FCC9E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844-BB17-439D-88C7-AAC58A2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6B9-E6FC-4406-8410-7F3001B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CAB-5F49-41A0-81CF-2A1D645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0A49-1CFE-48A9-AB42-0CCAD945E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5"/>
          <p:cNvPicPr/>
          <p:nvPr/>
        </p:nvPicPr>
        <p:blipFill>
          <a:blip r:embed="rId2"/>
          <a:srcRect l="0" t="34492" r="0" b="0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DB56-A0F0-42E7-893C-1D2F3B623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9" descr="5"/>
          <p:cNvPicPr/>
          <p:nvPr/>
        </p:nvPicPr>
        <p:blipFill>
          <a:blip r:embed="rId3"/>
          <a:srcRect l="0" t="11662" r="0" b="78837"/>
          <a:stretch/>
        </p:blipFill>
        <p:spPr>
          <a:xfrm>
            <a:off x="0" y="990720"/>
            <a:ext cx="8991720" cy="650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0" descr=""/>
          <p:cNvPicPr/>
          <p:nvPr/>
        </p:nvPicPr>
        <p:blipFill>
          <a:blip r:embed="rId4"/>
          <a:srcRect l="44347" t="76841" r="44166" b="8322"/>
          <a:stretch/>
        </p:blipFill>
        <p:spPr>
          <a:xfrm>
            <a:off x="8686800" y="0"/>
            <a:ext cx="457200" cy="1247760"/>
          </a:xfrm>
          <a:prstGeom prst="rect">
            <a:avLst/>
          </a:prstGeom>
          <a:ln w="0">
            <a:noFill/>
          </a:ln>
        </p:spPr>
      </p:pic>
      <p:sp>
        <p:nvSpPr>
          <p:cNvPr id="11" name="Freeform 31"/>
          <p:cNvSpPr/>
          <p:nvPr/>
        </p:nvSpPr>
        <p:spPr>
          <a:xfrm>
            <a:off x="228600" y="249120"/>
            <a:ext cx="225360" cy="31932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32"/>
          <p:cNvSpPr/>
          <p:nvPr/>
        </p:nvSpPr>
        <p:spPr>
          <a:xfrm flipV="1">
            <a:off x="0" y="1047240"/>
            <a:ext cx="2255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33"/>
          <p:cNvSpPr/>
          <p:nvPr/>
        </p:nvSpPr>
        <p:spPr>
          <a:xfrm>
            <a:off x="1986120" y="474840"/>
            <a:ext cx="52848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34"/>
          <p:cNvSpPr/>
          <p:nvPr/>
        </p:nvSpPr>
        <p:spPr>
          <a:xfrm>
            <a:off x="641520" y="474840"/>
            <a:ext cx="41724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35"/>
          <p:cNvSpPr/>
          <p:nvPr/>
        </p:nvSpPr>
        <p:spPr>
          <a:xfrm>
            <a:off x="1139760" y="474840"/>
            <a:ext cx="37476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36"/>
          <p:cNvSpPr/>
          <p:nvPr/>
        </p:nvSpPr>
        <p:spPr>
          <a:xfrm>
            <a:off x="1550880" y="474840"/>
            <a:ext cx="428760" cy="34128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reeform 37"/>
          <p:cNvSpPr/>
          <p:nvPr/>
        </p:nvSpPr>
        <p:spPr>
          <a:xfrm>
            <a:off x="250920" y="59688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38"/>
          <p:cNvSpPr/>
          <p:nvPr/>
        </p:nvSpPr>
        <p:spPr>
          <a:xfrm>
            <a:off x="488880" y="22860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r PPprese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7200" y="2362320"/>
            <a:ext cx="8305920" cy="29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Arial"/>
              </a:rPr>
              <a:t>Ожидания от национальной рейтинговой системы : как она будет работать на нашем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ркен Калиж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Председатель 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АО «Рейтинговое агентство РФЦА» при содействии Рейтингового Агентства Малайз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12 сентябр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e7d83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жегодная конференция Казахстанской фондовой биржи по финансовому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отрудничество с </a:t>
            </a:r>
            <a:br>
              <a:rPr sz="2800"/>
            </a:b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банковским с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банковским сектором для создания совместной деятельности (рынки долгового капита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срочные инфраструктурные проекты, финансируемые рынком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того, что рынок облигаций обеспечивает  структуризацию крупных рисков компаний и снижает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Должен ли рейтинг быть обязательным?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(опыт азиатских ст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– для менее развитых рынков облигаций (большинство развивающихся экономик Аз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ы играют важную роль, задавая первичный толчок рынку облиг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ам надо установить прочную осн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– для бол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ых рынков облигаций (в Азии: Япония, Тайва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оли регуляторов должны выступать инвес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нвесторы должны требовать рейтин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ируемы ры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09480" y="25909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38098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867280" y="144792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248520" y="2514600"/>
            <a:ext cx="1981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85800" y="50292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248520" y="33526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095880" y="480060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505320" y="487692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143000" y="1447920"/>
            <a:ext cx="1981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9000" y="1447920"/>
            <a:ext cx="1981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505320" y="31240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19320" y="152388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дер независимого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505320" y="1523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дё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09480" y="2666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ать роль в развитии фонд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09480" y="3809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даптация к требованиям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762120" y="51055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готовка к конкур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5943600" y="15238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торические показатели/ Опы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358128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352680" y="4952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лучших международных прак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6095880" y="25909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6324480" y="34290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ффективное распространение рейтин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6095880" y="48769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зрачный рейтинговый проц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44956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3124080" y="18288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5333760" y="182880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V="1">
            <a:off x="2666880" y="403812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H="1" flipV="1">
            <a:off x="5257800" y="40381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62485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2590920" y="32004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 flipV="1">
            <a:off x="259092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6"/>
          <p:cNvSpPr/>
          <p:nvPr/>
        </p:nvSpPr>
        <p:spPr>
          <a:xfrm flipH="1">
            <a:off x="5486040" y="2819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7"/>
          <p:cNvSpPr/>
          <p:nvPr/>
        </p:nvSpPr>
        <p:spPr>
          <a:xfrm flipH="1" flipV="1">
            <a:off x="5486040" y="36572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 flipV="1">
            <a:off x="4495680" y="403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476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Надёжность, Независимость и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Исторические показатели (</a:t>
            </a:r>
            <a:r>
              <a:rPr b="1" lang="en-US" sz="2000" spc="-1" strike="noStrike">
                <a:solidFill>
                  <a:srgbClr val="ad2d2d"/>
                </a:solidFill>
                <a:latin typeface="Tahoma"/>
              </a:rPr>
              <a:t>track re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чальном этапе развития, рейтинговый комитет с широкими полномочиями потенциально мог бы оказывать помощь в процессе «завоевания» 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не должно испытывать никакого давления (государственного сектора, частного сектора)  - этому способствует диверсифицированная структура ак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публикуемые отчёты об изучении дефолта (после значительного количества присвоенных кредитных рейтингов) – послужит в качестве «Отчётной карты» для укрепления доверия и эксперта в кредитном су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Прозрачный процесс рейтинг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38080" y="1371600"/>
            <a:ext cx="213372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838080" y="4419720"/>
            <a:ext cx="23623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335268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838080" y="2666880"/>
            <a:ext cx="2133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380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133720" y="56386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715000" y="1371600"/>
            <a:ext cx="213372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952880" y="4419720"/>
            <a:ext cx="3810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5105520" y="2590920"/>
            <a:ext cx="3581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715000" y="312408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105520" y="373392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105520" y="4952880"/>
            <a:ext cx="3581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5105520" y="548640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914400" y="1371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т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838080" y="19810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ьба присвои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838080" y="2666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я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838080" y="34290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роводят заседание руководящего состава с Эмит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914400" y="47242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838080" y="4419720"/>
            <a:ext cx="23623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 принимает рейтинг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ит пересмотре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4952880" y="2590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а аналитиков НРА изуча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5715000" y="3124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осещают территорию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105520" y="373392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готовят рейтинговый отчёт для внутреннего рассмотр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715000" y="1447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4876920" y="44197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овый отчёт сдаётся в Рейтинговый Ком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105520" y="49528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ваивает рейтинг и извещает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105520" y="5486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огласия эмитента оглашает рейтинг (делает его публичны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133720" y="56386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находится под наблю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1828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18288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2971800" y="2743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 flipH="1">
            <a:off x="2971800" y="320040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 flipV="1">
            <a:off x="2971800" y="342864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6858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>
            <a:off x="68580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>
            <a:off x="4266720" y="5715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>
            <a:off x="320040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>
            <a:off x="3200400" y="518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лучшей международной практики в соответствии с местн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сновы Кодекса Этики для Кредитных Рейтинговых Агент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Декабрь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бровольный свод рекомендаций для НРА, разработанн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й Организацией  Комиссий по ценным бума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S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о и Целостность (всесторонность) рейтингов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ость НРА и предотвращение конфликта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ость НРА перед инвесторами и перед эмит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е Кодекса Этики и тесное общение с участниками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Эффективное распространение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йтинг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ая и регулярная информация о рейтингах и рейтинговых действ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о повышении, понижении, подтверждении или пересмотре прогноз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: печатные и электронные средства масс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б-сайт представляется важным инструментом для НРА и служит ориентиром для инвес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Лидерство независимого мыш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должно позиционироваться на фондовом рынке как лидер независимого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гается при помощи публикаций, т.е. через информационные обзоры рынка облигаций, экономические обзоры, статьи об анализе отра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конференций и семинаров в условиях развития рынка облигаций очень ва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Роль в развитии фондового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азвивающегося рынка, НРА необходимо играть роль квази-регулятора – не с точки зрения соответствия, но в плане обуче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развивающихся рынков, НРА синонимы роста на рынке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регуляторами для развития направлений по дальнейшему развитию рынка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Обз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Национального Рейтингового Агентства (Н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деятельности Н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Рейтингового Агентства Малайзии (Р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Адаптация к требованиям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развития рынка облигаций, НРА придётся адаптироваться к новым уровням сложности, чтобы отвечать дополнительным требованиям эмитентов, инвесторов и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НРА развиваться для рассмотрения заграничных рейтингов, если казахстанские клиенты решат участвовать в заграничных проектах или инвести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Подготовка к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ре развития рынка появится возможность для работы более, чем одного национального рейтингового агентства (или международных рейтинговых агент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между рейтинговыми агентствами будет выгодной для рынка, т.к. стандарты будут дифференцирующим фактором. Это также обеспечит продвижение концепции двойного/многократного рейт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филированность или долевое партнёрство с международными  рейтинговыми агент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АМ - 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о в ноябре 199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ставления инвесторам облигаций руководства по корпоративному кредитному р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е: владельцы – 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иатским Банком Развития назва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УЧШ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йтинговым агентством в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&amp;Poo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Опыт РАМ</a:t>
            </a:r>
            <a:r>
              <a:rPr b="1" lang="en-US" sz="2400" spc="-1" strike="noStrike">
                <a:solidFill>
                  <a:srgbClr val="ad2d2d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шающие факторы 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ёрдое 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стандарты, местные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йся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Международные связи 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ka Rating Agency Limited (“LRA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 дочерняя компания 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местного рейтингового агентства, похожего на РАМ в Шри Л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йся подход/ развитие мест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ating Information and Services Limited (“CRISL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глад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нёрск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поддержка через Рейтингов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я Кредитных Рейтинговых Агентств в Аз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ACRA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Тренингового Ко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 Со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Опыт РАМ в Шри Ла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ического опыта и методологии 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РАМ  в понимании нужд эмитентов/инвесторов в условиях развивающейся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короткий срок обучения – выгода от ранних стратегий/ подходов 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 персон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уала-Лумп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ирование специалистов РАМ в Шри Ланку для совместной работы над проек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ть выбор эмитентам/инвестора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ирует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Еркен Калиж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Председатель 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АО «Рейтинговое агентство РФЦА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050040 Тимирязева, 17, Алматы, 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Тел.: +7 (727) 258 44 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 для создания Н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облигации/рынок ценных бумаг – создание кривой доход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, активная в области корпоративного кредит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адекватной финансовой информации/исторические показатели работы компани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8080" y="18288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429000" y="19051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14400" y="51814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3429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791320" y="190512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429000" y="35053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867280" y="43434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05320" y="5181480"/>
            <a:ext cx="1676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867280" y="35053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14400" y="18288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приятная правовая и нормативная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429000" y="20574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ая модель: Национ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791320" y="19051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тельное требование рей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838080" y="3505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чество с банковским сек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838080" y="518148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лифицированные и опытные специа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581280" y="3581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812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екватная капит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867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Государственная форма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867280" y="43434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Диверсифицированная 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426708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 flipV="1">
            <a:off x="5105520" y="3962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42670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25909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2514600" y="22860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514600" y="4343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487692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Рабоч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д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е рейтинговое агент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, REFINDO &amp; CRIS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рейтинговое аген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&amp;P, Moody’s, 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2d2d"/>
                </a:solidFill>
                <a:latin typeface="Tahoma"/>
              </a:rPr>
              <a:t>Правовая и нормативная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ажно, чтобы Министерство финансов, Национальный Банк, АФН и другие организации поддерживали и поощряли деятельность Национального Рейтингового Аген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требования рейтингов для корпоративных облигаций и финансовых институто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ая основа,  защищающая держателей облигаций и  поддерживающая обеспеченную активами секьюрит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банкротства/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/ располагаемое время/лишение прав пользования акти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труктура акцио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457200" y="1676520"/>
          <a:ext cx="55627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5562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6"/>
          <p:cNvSpPr/>
          <p:nvPr/>
        </p:nvSpPr>
        <p:spPr>
          <a:xfrm>
            <a:off x="6095880" y="1828800"/>
            <a:ext cx="25909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акого существенного влияния со стороны какого-либо акцио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циональ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Адекватная капитализация</a:t>
            </a:r>
            <a:r>
              <a:rPr b="1" lang="ru-RU" sz="4000" spc="-1" strike="noStrike">
                <a:solidFill>
                  <a:srgbClr val="ad2d2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ые капиталовложения должны быть достаточными для поддержки НРА в период становления и для обеспечения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твращения неправомерного давления финансирование должно обеспечиваться  собственным капиталом (без банковских заимств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онеры, которые будут участвовать в НРА длитель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ейтинговый 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и квалифицированный аналитический персонал с навыками проведения презентаций и написания отчё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сотрудничество и установление связей по тренингам с РАМ будет полезным для подготовки основной группы рейтинговых аналит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0:03Z</dcterms:created>
  <dc:creator>user2</dc:creator>
  <dc:description/>
  <dc:language>en-US</dc:language>
  <cp:lastModifiedBy>Omarova</cp:lastModifiedBy>
  <dcterms:modified xsi:type="dcterms:W3CDTF">2008-09-17T09:33:01Z</dcterms:modified>
  <cp:revision>55</cp:revision>
  <dc:subject/>
  <dc:title>Слайд 1</dc:title>
</cp:coreProperties>
</file>