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BAB-51F8-4384-8721-2DF11512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144-524A-4168-8485-92CD2F83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773-7534-4A23-AF27-CFB85C4F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8F6-0DEB-4AD8-A48E-6E74DF14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F42-66E7-461C-9198-C0E6315F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00E-7B70-4CAD-B0FC-C96E2B1E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B65-44BF-4C52-B482-1CB78313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B40-39E1-4EC7-B290-F9397435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2209680" y="304920"/>
            <a:ext cx="69343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363-1376-4E92-A256-FF1600E9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75B-EC75-47D1-946D-8C02D73B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1CD-EA0A-41E4-BAB3-AD3E5CE0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1DA-09C7-4404-A9A9-76320E9E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8030-EAED-4629-A37A-DFE87970A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5"/>
          <p:cNvPicPr/>
          <p:nvPr/>
        </p:nvPicPr>
        <p:blipFill>
          <a:blip r:embed="rId2"/>
          <a:srcRect l="0" t="34492" r="0" b="0"/>
          <a:stretch/>
        </p:blipFill>
        <p:spPr>
          <a:xfrm>
            <a:off x="0" y="2362320"/>
            <a:ext cx="899172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3776-F7F1-4222-8B73-C832F105D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9" descr="5"/>
          <p:cNvPicPr/>
          <p:nvPr/>
        </p:nvPicPr>
        <p:blipFill>
          <a:blip r:embed="rId3"/>
          <a:srcRect l="0" t="11662" r="0" b="78837"/>
          <a:stretch/>
        </p:blipFill>
        <p:spPr>
          <a:xfrm>
            <a:off x="0" y="990720"/>
            <a:ext cx="8991720" cy="6508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0" descr=""/>
          <p:cNvPicPr/>
          <p:nvPr/>
        </p:nvPicPr>
        <p:blipFill>
          <a:blip r:embed="rId4"/>
          <a:srcRect l="44347" t="76841" r="44166" b="8322"/>
          <a:stretch/>
        </p:blipFill>
        <p:spPr>
          <a:xfrm>
            <a:off x="8686800" y="0"/>
            <a:ext cx="457200" cy="1247760"/>
          </a:xfrm>
          <a:prstGeom prst="rect">
            <a:avLst/>
          </a:prstGeom>
          <a:ln w="0">
            <a:noFill/>
          </a:ln>
        </p:spPr>
      </p:pic>
      <p:sp>
        <p:nvSpPr>
          <p:cNvPr id="11" name="Freeform 31"/>
          <p:cNvSpPr/>
          <p:nvPr/>
        </p:nvSpPr>
        <p:spPr>
          <a:xfrm>
            <a:off x="228600" y="249120"/>
            <a:ext cx="225360" cy="31932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32"/>
          <p:cNvSpPr/>
          <p:nvPr/>
        </p:nvSpPr>
        <p:spPr>
          <a:xfrm flipV="1">
            <a:off x="0" y="1047240"/>
            <a:ext cx="22557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33"/>
          <p:cNvSpPr/>
          <p:nvPr/>
        </p:nvSpPr>
        <p:spPr>
          <a:xfrm>
            <a:off x="1986120" y="474840"/>
            <a:ext cx="528480" cy="33156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34"/>
          <p:cNvSpPr/>
          <p:nvPr/>
        </p:nvSpPr>
        <p:spPr>
          <a:xfrm>
            <a:off x="641520" y="474840"/>
            <a:ext cx="417240" cy="33156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35"/>
          <p:cNvSpPr/>
          <p:nvPr/>
        </p:nvSpPr>
        <p:spPr>
          <a:xfrm>
            <a:off x="1139760" y="474840"/>
            <a:ext cx="374760" cy="33156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36"/>
          <p:cNvSpPr/>
          <p:nvPr/>
        </p:nvSpPr>
        <p:spPr>
          <a:xfrm>
            <a:off x="1550880" y="474840"/>
            <a:ext cx="428760" cy="34128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Freeform 37"/>
          <p:cNvSpPr/>
          <p:nvPr/>
        </p:nvSpPr>
        <p:spPr>
          <a:xfrm>
            <a:off x="250920" y="596880"/>
            <a:ext cx="336600" cy="214200"/>
          </a:xfrm>
          <a:prstGeom prst="pie">
            <a:avLst/>
          </a:pr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Freeform 38"/>
          <p:cNvSpPr/>
          <p:nvPr/>
        </p:nvSpPr>
        <p:spPr>
          <a:xfrm>
            <a:off x="488880" y="228600"/>
            <a:ext cx="336600" cy="214200"/>
          </a:xfrm>
          <a:prstGeom prst="pie">
            <a:avLst/>
          </a:pr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or PPpresen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57200" y="2362320"/>
            <a:ext cx="8305920" cy="29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2d2d"/>
                </a:solidFill>
                <a:latin typeface="Arial"/>
              </a:rPr>
              <a:t>Ожидания от национальной рейтинговой системы : как она будет работать на нашем ры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Еркен Калижа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Председатель 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АО «Рейтинговое агентство РФЦА» при содействии Рейтингового Агентства Малайз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12 сентября 200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e7d83"/>
                </a:solidFill>
                <a:latin typeface="Arial"/>
              </a:rPr>
              <a:t>II </a:t>
            </a: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ежегодная конференция Казахстанской фондовой биржи по финансовому ры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Сотрудничество с </a:t>
            </a:r>
            <a:br>
              <a:rPr sz="2800"/>
            </a:b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банковским сек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банковским сектором для создания совместной деятельности (рынки долгового капитал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осрочные инфраструктурные проекты, финансируемые рынком облиг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того, что рынок облигаций обеспечивает  структуризацию крупных рисков компаний и снижает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2d2d"/>
                </a:solidFill>
                <a:latin typeface="Tahoma"/>
              </a:rPr>
              <a:t>Должен ли рейтинг быть обязательным? </a:t>
            </a:r>
            <a:br>
              <a:rPr sz="2000"/>
            </a:br>
            <a:r>
              <a:rPr b="1" lang="ru-RU" sz="2000" spc="-1" strike="noStrike">
                <a:solidFill>
                  <a:srgbClr val="ad2d2d"/>
                </a:solidFill>
                <a:latin typeface="Tahoma"/>
              </a:rPr>
              <a:t>(опыт азиатских стр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 – для менее развитых рынков облигаций (большинство развивающихся экономик Аз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гуляторы играют важную роль, задавая первичный толчок рынку облиг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гуляторам надо установить прочную осно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– для боле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ых рынков облигаций (в Азии: Япония, Тайва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оли регуляторов должны выступать инвес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нвесторы должны требовать рейтин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гулируемы ры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680" y="204840"/>
            <a:ext cx="6934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d2d2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09480" y="25909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09480" y="38098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867280" y="144792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248520" y="2514600"/>
            <a:ext cx="1981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685800" y="502920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248520" y="33526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095880" y="480060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505320" y="4876920"/>
            <a:ext cx="1981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143000" y="1447920"/>
            <a:ext cx="1981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429000" y="1447920"/>
            <a:ext cx="1981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505320" y="31240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1219320" y="152388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дер независимого мыш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3505320" y="1523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дёж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609480" y="26668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грать роль в развитии фонд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09480" y="38098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даптация к требованиям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762120" y="51055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готовка к конкур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5943600" y="15238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торические показатели/ Опы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3581280" y="3352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ь Н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3352680" y="4952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менение лучших международных практ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6095880" y="25909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завис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6324480" y="342900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ффективное распространение рейтин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6095880" y="48769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зрачный рейтинговый проце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44956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3124080" y="1828800"/>
            <a:ext cx="6098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>
            <a:off x="5333760" y="1828800"/>
            <a:ext cx="533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 flipV="1">
            <a:off x="2666880" y="4038120"/>
            <a:ext cx="990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2"/>
          <p:cNvSpPr/>
          <p:nvPr/>
        </p:nvSpPr>
        <p:spPr>
          <a:xfrm flipH="1" flipV="1">
            <a:off x="5257800" y="40381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62485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2590920" y="32004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5"/>
          <p:cNvSpPr/>
          <p:nvPr/>
        </p:nvSpPr>
        <p:spPr>
          <a:xfrm flipV="1">
            <a:off x="2590920" y="37339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6"/>
          <p:cNvSpPr/>
          <p:nvPr/>
        </p:nvSpPr>
        <p:spPr>
          <a:xfrm flipH="1">
            <a:off x="5486040" y="28195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7"/>
          <p:cNvSpPr/>
          <p:nvPr/>
        </p:nvSpPr>
        <p:spPr>
          <a:xfrm flipH="1" flipV="1">
            <a:off x="5486040" y="36572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8"/>
          <p:cNvSpPr/>
          <p:nvPr/>
        </p:nvSpPr>
        <p:spPr>
          <a:xfrm flipV="1">
            <a:off x="4495680" y="4038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4767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2d2d"/>
                </a:solidFill>
                <a:latin typeface="Tahoma"/>
              </a:rPr>
              <a:t>Надёжность, Независимость и </a:t>
            </a:r>
            <a:br>
              <a:rPr sz="2000"/>
            </a:br>
            <a:r>
              <a:rPr b="1" lang="ru-RU" sz="2000" spc="-1" strike="noStrike">
                <a:solidFill>
                  <a:srgbClr val="ad2d2d"/>
                </a:solidFill>
                <a:latin typeface="Tahoma"/>
              </a:rPr>
              <a:t>Исторические показатели (</a:t>
            </a:r>
            <a:r>
              <a:rPr b="1" lang="en-US" sz="2000" spc="-1" strike="noStrike">
                <a:solidFill>
                  <a:srgbClr val="ad2d2d"/>
                </a:solidFill>
                <a:latin typeface="Tahoma"/>
              </a:rPr>
              <a:t>track rec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ачальном этапе развития, рейтинговый комитет с широкими полномочиями потенциально мог бы оказывать помощь в процессе «завоевания» дов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 не должно испытывать никакого давления (государственного сектора, частного сектора)  - этому способствует диверсифицированная структура ак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о публикуемые отчёты об изучении дефолта (после значительного количества присвоенных кредитных рейтингов) – послужит в качестве «Отчётной карты» для укрепления доверия и эксперта в кредитном суж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Прозрачный процесс рейтинг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838080" y="1371600"/>
            <a:ext cx="213372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838080" y="4419720"/>
            <a:ext cx="23623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838080" y="335268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838080" y="2666880"/>
            <a:ext cx="21337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838080" y="198108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2133720" y="56386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5715000" y="1371600"/>
            <a:ext cx="2133720" cy="4572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4952880" y="4419720"/>
            <a:ext cx="3810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5105520" y="2590920"/>
            <a:ext cx="3581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5715000" y="3124080"/>
            <a:ext cx="2743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5105520" y="3733920"/>
            <a:ext cx="3581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5105520" y="4952880"/>
            <a:ext cx="3581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5105520" y="5486400"/>
            <a:ext cx="3581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914400" y="1371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ит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838080" y="198108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ьба присвоить рей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838080" y="266688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яет информ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838080" y="342900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ки НРА проводят заседание руководящего состава с Эмите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914400" y="47242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838080" y="4419720"/>
            <a:ext cx="23623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 принимает рейтинг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яет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ит пересмотреть рей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4952880" y="2590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а аналитиков НРА изучает информ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5715000" y="31240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ки НРА посещают территорию эмит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5105520" y="373392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ки НРА готовят рейтинговый отчёт для внутреннего рассмотр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5715000" y="14479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2"/>
          <p:cNvSpPr/>
          <p:nvPr/>
        </p:nvSpPr>
        <p:spPr>
          <a:xfrm>
            <a:off x="4876920" y="44197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овый отчёт сдаётся в Рейтинговый Коми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5105520" y="49528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ваивает рейтинг и извещает эмит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5105520" y="54864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огласия эмитента оглашает рейтинг (делает его публичны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2133720" y="563868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находится под наблю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6"/>
          <p:cNvSpPr/>
          <p:nvPr/>
        </p:nvSpPr>
        <p:spPr>
          <a:xfrm>
            <a:off x="1828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7"/>
          <p:cNvSpPr/>
          <p:nvPr/>
        </p:nvSpPr>
        <p:spPr>
          <a:xfrm>
            <a:off x="182880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8"/>
          <p:cNvSpPr/>
          <p:nvPr/>
        </p:nvSpPr>
        <p:spPr>
          <a:xfrm>
            <a:off x="2971800" y="27432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>
            <a:off x="685800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0"/>
          <p:cNvSpPr/>
          <p:nvPr/>
        </p:nvSpPr>
        <p:spPr>
          <a:xfrm flipH="1">
            <a:off x="2971800" y="3200400"/>
            <a:ext cx="274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1"/>
          <p:cNvSpPr/>
          <p:nvPr/>
        </p:nvSpPr>
        <p:spPr>
          <a:xfrm flipV="1">
            <a:off x="2971800" y="3428640"/>
            <a:ext cx="274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2"/>
          <p:cNvSpPr/>
          <p:nvPr/>
        </p:nvSpPr>
        <p:spPr>
          <a:xfrm>
            <a:off x="68580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>
            <a:off x="68580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5"/>
          <p:cNvSpPr/>
          <p:nvPr/>
        </p:nvSpPr>
        <p:spPr>
          <a:xfrm>
            <a:off x="68580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6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7"/>
          <p:cNvSpPr/>
          <p:nvPr/>
        </p:nvSpPr>
        <p:spPr>
          <a:xfrm flipH="1">
            <a:off x="4266720" y="5715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8"/>
          <p:cNvSpPr/>
          <p:nvPr/>
        </p:nvSpPr>
        <p:spPr>
          <a:xfrm flipH="1">
            <a:off x="3200400" y="5029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9"/>
          <p:cNvSpPr/>
          <p:nvPr/>
        </p:nvSpPr>
        <p:spPr>
          <a:xfrm>
            <a:off x="3200400" y="518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ad2d2d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лучшей международной практики в соответствии с местными потре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сновы Кодекса Этики для Кредитных Рейтинговых Агентст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Декабрь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бровольный свод рекомендаций для НРА, разработанны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й Организацией  Комиссий по ценным бумаг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O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метр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S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о и Целостность (всесторонность) рейтингов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висимость НРА и предотвращение конфликта интер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ственность НРА перед инвесторами и перед эмит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ие Кодекса Этики и тесное общение с участниками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Эффективное распространение </a:t>
            </a:r>
            <a:br>
              <a:rPr sz="2400"/>
            </a:b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рейтинг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ая и регулярная информация о рейтингах и рейтинговых действ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.е. о повышении, понижении, подтверждении или пересмотре прогноз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: печатные и электронные средства масс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б-сайт представляется важным инструментом для НРА и служит ориентиром для инвес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d2d2d"/>
                </a:solidFill>
                <a:latin typeface="Tahoma"/>
              </a:rPr>
              <a:t>Лидерство независимого мыш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 должно позиционироваться на фондовом рынке как лидер независимого 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игается при помощи публикаций, т.е. через информационные обзоры рынка облигаций, экономические обзоры, статьи об анализе отра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конференций и семинаров в условиях развития рынка облигаций очень ва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d2d2d"/>
                </a:solidFill>
                <a:latin typeface="Tahoma"/>
              </a:rPr>
              <a:t>Роль в развитии фондового рын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развивающегося рынка, НРА необходимо играть роль квази-регулятора – не с точки зрения соответствия, но в плане обучения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льшинстве развивающихся рынков, НРА синонимы роста на рынке облиг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регуляторами для развития направлений по дальнейшему развитию рынка облиг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2d2d"/>
                </a:solidFill>
                <a:latin typeface="Tahoma"/>
              </a:rPr>
              <a:t>Обзор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Национального Рейтингового Агентства (Н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деятельности Н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Рейтингового Агентства Малайзии (Р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572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d2d2d"/>
                </a:solidFill>
                <a:latin typeface="Tahoma"/>
              </a:rPr>
              <a:t>Адаптация к требованиям рын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ре развития рынка облигаций, НРА придётся адаптироваться к новым уровням сложности, чтобы отвечать дополнительным требованиям эмитентов, инвесторов и регуля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НРА развиваться для рассмотрения заграничных рейтингов, если казахстанские клиенты решат участвовать в заграничных проектах или инвести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Подготовка к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ере развития рынка появится возможность для работы более, чем одного национального рейтингового агентства (или международных рейтинговых агентст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между рейтинговыми агентствами будет выгодной для рынка, т.к. стандарты будут дифференцирующим фактором. Это также обеспечит продвижение концепции двойного/многократного рейт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ффилированность или долевое партнёрство с международными  рейтинговыми агент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РАМ - Ис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о в ноябре 199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оставления инвесторам облигаций руководства по корпоративному кредитному ри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е: владельцы – 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иатским Банком Развития назван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УЧШ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йтинговым агентством в А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тнё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&amp;Poo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934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Опыт РАМ</a:t>
            </a:r>
            <a:r>
              <a:rPr b="1" lang="en-US" sz="2400" spc="-1" strike="noStrike">
                <a:solidFill>
                  <a:srgbClr val="ad2d2d"/>
                </a:solidFill>
                <a:latin typeface="Tahoma"/>
              </a:rPr>
              <a:t>:</a:t>
            </a: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Решающие факторы успе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ёрдое 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стандарты, местные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регуля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ющийся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934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Международные связи 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ka Rating Agency Limited (“LRA”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 Л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% дочерняя компания 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местного рейтингового агентства, похожего на РАМ в Шри Ла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ийся подход/ развитие местных эксперт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Rating Information and Services Limited (“CRISL”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гладе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тнёрская ком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поддержка через Рейтинговый Ком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оциация Кредитных Рейтинговых Агентств в Ази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ACRA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едатель Тренингового Ком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 Сов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934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Опыт РАМ в Шри Ла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технического опыта и методологии 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и РАМ  в понимании нужд эмитентов/инвесторов в условиях развивающейся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короткий срок обучения – выгода от ранних стратегий/ подходов 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 персон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R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уала-Лумп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ирование специалистов РАМ в Шри Ланку для совместной работы над проек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ять выбор эмитентам/инвесторам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ирует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09680" y="204840"/>
            <a:ext cx="6934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d2d2d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Спасиб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Еркен Калиж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Председатель 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АО «Рейтинговое агентство РФЦА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050040 Тимирязева, 17, Алматы, Республика Казах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Тел.: +7 (727) 258 44 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2d2d"/>
                </a:solidFill>
                <a:latin typeface="Tahoma"/>
              </a:rPr>
              <a:t>Предпосылки</a:t>
            </a:r>
            <a:br>
              <a:rPr sz="3600"/>
            </a:br>
            <a:r>
              <a:rPr b="1" lang="ru-RU" sz="3600" spc="-1" strike="noStrike">
                <a:solidFill>
                  <a:srgbClr val="ad2d2d"/>
                </a:solidFill>
                <a:latin typeface="Tahoma"/>
              </a:rPr>
              <a:t> для создания Н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облигации/рынок ценных бумаг – создание кривой доход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, активная в области корпоративного кредит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ность адекватной финансовой информации/исторические показатели работы компани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rec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680" y="204840"/>
            <a:ext cx="6934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d2d2d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38080" y="18288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429000" y="19051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914400" y="51814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914400" y="3429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5791320" y="1905120"/>
            <a:ext cx="1676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429000" y="35053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867280" y="43434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05320" y="5181480"/>
            <a:ext cx="16761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5867280" y="350532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914400" y="18288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приятная правовая и нормативная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429000" y="20574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чая модель: Национа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5791320" y="19051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тельное требование рейт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838080" y="35053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трудничество с банковским сек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838080" y="518148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валифицированные и опытные специали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581280" y="3581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Н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81280" y="5257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декватная капитал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867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Государственная форма соб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867280" y="43434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Диверсифицированная структура акцио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426708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H="1" flipV="1">
            <a:off x="5105520" y="39625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 flipV="1">
            <a:off x="42670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25909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8"/>
          <p:cNvSpPr/>
          <p:nvPr/>
        </p:nvSpPr>
        <p:spPr>
          <a:xfrm>
            <a:off x="2514600" y="228600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9"/>
          <p:cNvSpPr/>
          <p:nvPr/>
        </p:nvSpPr>
        <p:spPr>
          <a:xfrm flipV="1">
            <a:off x="2514600" y="43434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0"/>
          <p:cNvSpPr/>
          <p:nvPr/>
        </p:nvSpPr>
        <p:spPr>
          <a:xfrm flipH="1">
            <a:off x="4876920" y="23623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2d2d"/>
                </a:solidFill>
                <a:latin typeface="Tahoma"/>
              </a:rPr>
              <a:t>Рабочая 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од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ое рейтинговое агент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, REFINDO &amp; CRIS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ое рейтинговое аген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&amp;P, Moody’s, F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2d2d"/>
                </a:solidFill>
                <a:latin typeface="Tahoma"/>
              </a:rPr>
              <a:t>Правовая и нормативная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важно, чтобы Министерство финансов, Национальный Банк, АФН и другие организации поддерживали и поощряли деятельность Национального Рейтингового Агент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е требования рейтингов для корпоративных облигаций и финансовых институтов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ая основа,  защищающая держателей облигаций и  поддерживающая обеспеченную активами секьюритиз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уры банкротства/ 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/ располагаемое время/лишение прав пользования акти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Структура акцион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457200" y="1676520"/>
          <a:ext cx="556272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55627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6"/>
          <p:cNvSpPr/>
          <p:nvPr/>
        </p:nvSpPr>
        <p:spPr>
          <a:xfrm>
            <a:off x="6095880" y="1828800"/>
            <a:ext cx="25909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акого существенного влияния со стороны какого-либо акцио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циональные акцио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ые акцио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Адекватная капитализация</a:t>
            </a:r>
            <a:r>
              <a:rPr b="1" lang="ru-RU" sz="4000" spc="-1" strike="noStrike">
                <a:solidFill>
                  <a:srgbClr val="ad2d2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начальные капиталовложения должны быть достаточными для поддержки НРА в период становления и для обеспечения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отвращения неправомерного давления финансирование должно обеспечиваться  собственным капиталом (без банковских заимствов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ионеры, которые будут участвовать в НРА длительн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Рейтинговый персо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ный и квалифицированный аналитический персонал с навыками проведения презентаций и написания отчё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е сотрудничество и установление связей по тренингам с РАМ будет полезным для подготовки основной группы рейтинговых аналит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0:03Z</dcterms:created>
  <dc:creator>user2</dc:creator>
  <dc:description/>
  <dc:language>en-US</dc:language>
  <cp:lastModifiedBy>Omarova</cp:lastModifiedBy>
  <dcterms:modified xsi:type="dcterms:W3CDTF">2008-09-17T09:33:01Z</dcterms:modified>
  <cp:revision>55</cp:revision>
  <dc:subject/>
  <dc:title>Слайд 1</dc:title>
</cp:coreProperties>
</file>